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1F3-E746-4928-98F5-7C40704A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C3E-9695-412D-AA7C-E397B209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C4E-746F-41E6-812C-683AC1B2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642-4AA7-42C3-A7D8-931930AE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64B6-4C8C-4D64-A5E5-7C285595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C5C5-9466-454C-8BDB-8F9363C5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4D47-D2B8-4581-9EA0-51625B31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5467-FB11-4998-90BA-619F40EB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A050-0350-41AA-A481-1D65AC84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912D-0FE3-4CCC-9F35-8645A038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08C4-0C21-4FA4-92D7-E309EC77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A2C-EA51-4154-A418-7E703DE7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F407-B90C-4EB3-BA9E-1C7020F5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1FB2-9D6D-4C6D-8E60-19476D71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4EF3-78BC-4E36-BB3E-1EAB4FAB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0A2A-B8CD-4172-A7DD-5B16BA8F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F5B6-71DB-4900-A462-15CF1604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C9F-07CD-43A9-BDDB-74770CCE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565-5DA8-447F-89B5-EA61D9A7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861-9C6A-43DA-9A60-8B1D7919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903-4F7B-4396-89D5-764AE277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2B4-D9EC-483C-B80B-07F2235B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511-6AAD-4487-821D-A4B3B3B5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932-149A-44ED-9363-F347FFB4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43A6-7910-4264-8B21-5933FF422E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2375-DF9D-4FD2-B6A0-281B7D419C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447920" y="1447920"/>
            <a:ext cx="609588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ec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from homewor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Arial"/>
              </a:rPr>
              <a:t>Lesson 9.5</a:t>
            </a:r>
            <a:br>
              <a:rPr sz="7500"/>
            </a:br>
            <a:r>
              <a:rPr b="0" lang="en-US" sz="7500" spc="-1" strike="noStrike">
                <a:solidFill>
                  <a:srgbClr val="ffffcc"/>
                </a:solidFill>
                <a:latin typeface="Arial"/>
              </a:rPr>
              <a:t>part three</a:t>
            </a:r>
            <a:endParaRPr b="0" lang="en-US" sz="7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dvanced Binomial Theore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90760" y="5072040"/>
            <a:ext cx="125280" cy="71640"/>
          </a:xfrm>
          <a:custGeom>
            <a:avLst/>
            <a:gdLst/>
            <a:ahLst/>
            <a:rect l="l" t="t" r="r" b="b"/>
            <a:pathLst>
              <a:path w="349" h="200">
                <a:moveTo>
                  <a:pt x="4490" y="14288"/>
                </a:moveTo>
                <a:cubicBezTo>
                  <a:pt x="4443" y="14288"/>
                  <a:pt x="4427" y="14271"/>
                  <a:pt x="4390" y="14263"/>
                </a:cubicBezTo>
                <a:cubicBezTo>
                  <a:pt x="4327" y="14249"/>
                  <a:pt x="4307" y="14283"/>
                  <a:pt x="4242" y="14263"/>
                </a:cubicBezTo>
                <a:cubicBezTo>
                  <a:pt x="4183" y="14245"/>
                  <a:pt x="4172" y="14227"/>
                  <a:pt x="4167" y="14163"/>
                </a:cubicBezTo>
                <a:cubicBezTo>
                  <a:pt x="4167" y="14128"/>
                  <a:pt x="4162" y="14111"/>
                  <a:pt x="4142" y="140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.  (x + 3)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+ (x + 1)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040" y="2152800"/>
            <a:ext cx="669960" cy="17280"/>
          </a:xfrm>
          <a:custGeom>
            <a:avLst/>
            <a:gdLst/>
            <a:ahLst/>
            <a:rect l="l" t="t" r="r" b="b"/>
            <a:pathLst>
              <a:path w="1861" h="51">
                <a:moveTo>
                  <a:pt x="1687" y="5978"/>
                </a:moveTo>
                <a:cubicBezTo>
                  <a:pt x="1761" y="5978"/>
                  <a:pt x="1813" y="5993"/>
                  <a:pt x="1885" y="6003"/>
                </a:cubicBezTo>
                <a:cubicBezTo>
                  <a:pt x="2364" y="6072"/>
                  <a:pt x="2871" y="5962"/>
                  <a:pt x="3349" y="6028"/>
                </a:cubicBezTo>
                <a:cubicBezTo>
                  <a:pt x="3422" y="6038"/>
                  <a:pt x="3465" y="6020"/>
                  <a:pt x="3522" y="6003"/>
                </a:cubicBezTo>
                <a:cubicBezTo>
                  <a:pt x="3530" y="6003"/>
                  <a:pt x="3539" y="6003"/>
                  <a:pt x="3547" y="60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51040" y="1652760"/>
            <a:ext cx="1000080" cy="561960"/>
          </a:xfrm>
          <a:custGeom>
            <a:avLst/>
            <a:gdLst/>
            <a:ahLst/>
            <a:rect l="l" t="t" r="r" b="b"/>
            <a:pathLst>
              <a:path w="2779" h="1564">
                <a:moveTo>
                  <a:pt x="5209" y="6052"/>
                </a:moveTo>
                <a:cubicBezTo>
                  <a:pt x="5261" y="6069"/>
                  <a:pt x="5267" y="6077"/>
                  <a:pt x="5333" y="6077"/>
                </a:cubicBezTo>
                <a:cubicBezTo>
                  <a:pt x="5847" y="6077"/>
                  <a:pt x="6360" y="6073"/>
                  <a:pt x="6871" y="6102"/>
                </a:cubicBezTo>
                <a:cubicBezTo>
                  <a:pt x="7039" y="6111"/>
                  <a:pt x="7201" y="6112"/>
                  <a:pt x="7367" y="6127"/>
                </a:cubicBezTo>
                <a:cubicBezTo>
                  <a:pt x="7464" y="6136"/>
                  <a:pt x="7557" y="6116"/>
                  <a:pt x="7640" y="6152"/>
                </a:cubicBezTo>
                <a:cubicBezTo>
                  <a:pt x="7632" y="6152"/>
                  <a:pt x="7623" y="6152"/>
                  <a:pt x="7615" y="6152"/>
                </a:cubicBezTo>
              </a:path>
              <a:path w="2779" h="1564">
                <a:moveTo>
                  <a:pt x="5035" y="4787"/>
                </a:moveTo>
                <a:cubicBezTo>
                  <a:pt x="5109" y="4787"/>
                  <a:pt x="5158" y="4772"/>
                  <a:pt x="5234" y="4762"/>
                </a:cubicBezTo>
                <a:cubicBezTo>
                  <a:pt x="5301" y="4753"/>
                  <a:pt x="5367" y="4742"/>
                  <a:pt x="5432" y="4738"/>
                </a:cubicBezTo>
                <a:cubicBezTo>
                  <a:pt x="5489" y="4735"/>
                  <a:pt x="5493" y="4755"/>
                  <a:pt x="5507" y="4713"/>
                </a:cubicBezTo>
              </a:path>
              <a:path w="2779" h="1564">
                <a:moveTo>
                  <a:pt x="5011" y="4812"/>
                </a:moveTo>
                <a:cubicBezTo>
                  <a:pt x="4976" y="4882"/>
                  <a:pt x="4930" y="4960"/>
                  <a:pt x="4911" y="5035"/>
                </a:cubicBezTo>
                <a:cubicBezTo>
                  <a:pt x="4900" y="5080"/>
                  <a:pt x="4887" y="5106"/>
                  <a:pt x="4887" y="5159"/>
                </a:cubicBezTo>
                <a:cubicBezTo>
                  <a:pt x="4887" y="5184"/>
                  <a:pt x="4887" y="5192"/>
                  <a:pt x="4887" y="5209"/>
                </a:cubicBezTo>
                <a:cubicBezTo>
                  <a:pt x="4924" y="5196"/>
                  <a:pt x="4915" y="5186"/>
                  <a:pt x="4936" y="5159"/>
                </a:cubicBezTo>
                <a:cubicBezTo>
                  <a:pt x="4958" y="5130"/>
                  <a:pt x="5005" y="5095"/>
                  <a:pt x="5035" y="5085"/>
                </a:cubicBezTo>
                <a:cubicBezTo>
                  <a:pt x="5104" y="5062"/>
                  <a:pt x="5082" y="5066"/>
                  <a:pt x="5159" y="5085"/>
                </a:cubicBezTo>
                <a:cubicBezTo>
                  <a:pt x="5255" y="5109"/>
                  <a:pt x="5276" y="5166"/>
                  <a:pt x="5333" y="5234"/>
                </a:cubicBezTo>
                <a:cubicBezTo>
                  <a:pt x="5388" y="5300"/>
                  <a:pt x="5418" y="5373"/>
                  <a:pt x="5432" y="5457"/>
                </a:cubicBezTo>
                <a:cubicBezTo>
                  <a:pt x="5442" y="5517"/>
                  <a:pt x="5418" y="5559"/>
                  <a:pt x="5383" y="5606"/>
                </a:cubicBezTo>
                <a:cubicBezTo>
                  <a:pt x="5354" y="5645"/>
                  <a:pt x="5256" y="5695"/>
                  <a:pt x="5209" y="5705"/>
                </a:cubicBezTo>
                <a:cubicBezTo>
                  <a:pt x="5127" y="5723"/>
                  <a:pt x="5049" y="5730"/>
                  <a:pt x="4961" y="5730"/>
                </a:cubicBezTo>
                <a:cubicBezTo>
                  <a:pt x="4921" y="5730"/>
                  <a:pt x="4907" y="5705"/>
                  <a:pt x="4862" y="5705"/>
                </a:cubicBezTo>
              </a:path>
              <a:path w="2779" h="1564">
                <a:moveTo>
                  <a:pt x="5804" y="5234"/>
                </a:moveTo>
                <a:cubicBezTo>
                  <a:pt x="5833" y="5309"/>
                  <a:pt x="5866" y="5450"/>
                  <a:pt x="5928" y="5507"/>
                </a:cubicBezTo>
                <a:cubicBezTo>
                  <a:pt x="5978" y="5553"/>
                  <a:pt x="6050" y="5585"/>
                  <a:pt x="6102" y="5631"/>
                </a:cubicBezTo>
                <a:cubicBezTo>
                  <a:pt x="6151" y="5674"/>
                  <a:pt x="6162" y="5653"/>
                  <a:pt x="6127" y="5606"/>
                </a:cubicBezTo>
              </a:path>
              <a:path w="2779" h="1564">
                <a:moveTo>
                  <a:pt x="6003" y="5209"/>
                </a:moveTo>
                <a:cubicBezTo>
                  <a:pt x="5979" y="5288"/>
                  <a:pt x="5957" y="5365"/>
                  <a:pt x="5904" y="5432"/>
                </a:cubicBezTo>
                <a:cubicBezTo>
                  <a:pt x="5858" y="5491"/>
                  <a:pt x="5796" y="5544"/>
                  <a:pt x="5755" y="5606"/>
                </a:cubicBezTo>
                <a:cubicBezTo>
                  <a:pt x="5747" y="5618"/>
                  <a:pt x="5681" y="5737"/>
                  <a:pt x="5655" y="5730"/>
                </a:cubicBezTo>
                <a:cubicBezTo>
                  <a:pt x="5655" y="5695"/>
                  <a:pt x="5660" y="5677"/>
                  <a:pt x="5680" y="5655"/>
                </a:cubicBezTo>
              </a:path>
              <a:path w="2779" h="1564">
                <a:moveTo>
                  <a:pt x="6350" y="4787"/>
                </a:moveTo>
                <a:cubicBezTo>
                  <a:pt x="6350" y="4795"/>
                  <a:pt x="6350" y="4804"/>
                  <a:pt x="6350" y="4812"/>
                </a:cubicBezTo>
                <a:cubicBezTo>
                  <a:pt x="6312" y="4825"/>
                  <a:pt x="6327" y="4868"/>
                  <a:pt x="6300" y="4887"/>
                </a:cubicBezTo>
                <a:cubicBezTo>
                  <a:pt x="6295" y="4891"/>
                  <a:pt x="6244" y="4935"/>
                  <a:pt x="6276" y="4961"/>
                </a:cubicBezTo>
                <a:cubicBezTo>
                  <a:pt x="6289" y="4972"/>
                  <a:pt x="6351" y="4999"/>
                  <a:pt x="6375" y="4986"/>
                </a:cubicBezTo>
                <a:cubicBezTo>
                  <a:pt x="6414" y="4964"/>
                  <a:pt x="6464" y="4959"/>
                  <a:pt x="6499" y="4936"/>
                </a:cubicBezTo>
                <a:cubicBezTo>
                  <a:pt x="6507" y="4928"/>
                  <a:pt x="6516" y="4919"/>
                  <a:pt x="6524" y="4911"/>
                </a:cubicBezTo>
              </a:path>
              <a:path w="2779" h="1564">
                <a:moveTo>
                  <a:pt x="6524" y="4589"/>
                </a:moveTo>
                <a:cubicBezTo>
                  <a:pt x="6524" y="4686"/>
                  <a:pt x="6534" y="4771"/>
                  <a:pt x="6548" y="4862"/>
                </a:cubicBezTo>
                <a:cubicBezTo>
                  <a:pt x="6559" y="4932"/>
                  <a:pt x="6557" y="4992"/>
                  <a:pt x="6573" y="5060"/>
                </a:cubicBezTo>
                <a:cubicBezTo>
                  <a:pt x="6583" y="5104"/>
                  <a:pt x="6586" y="5146"/>
                  <a:pt x="6598" y="5184"/>
                </a:cubicBezTo>
                <a:cubicBezTo>
                  <a:pt x="6598" y="5209"/>
                  <a:pt x="6598" y="5217"/>
                  <a:pt x="6598" y="5234"/>
                </a:cubicBezTo>
              </a:path>
              <a:path w="2779" h="1564">
                <a:moveTo>
                  <a:pt x="6697" y="5482"/>
                </a:moveTo>
                <a:cubicBezTo>
                  <a:pt x="6697" y="5474"/>
                  <a:pt x="6697" y="5465"/>
                  <a:pt x="6697" y="5457"/>
                </a:cubicBezTo>
              </a:path>
              <a:path w="2779" h="1564">
                <a:moveTo>
                  <a:pt x="6896" y="5184"/>
                </a:moveTo>
                <a:cubicBezTo>
                  <a:pt x="6947" y="5133"/>
                  <a:pt x="6976" y="5103"/>
                  <a:pt x="7045" y="5085"/>
                </a:cubicBezTo>
                <a:cubicBezTo>
                  <a:pt x="7095" y="5072"/>
                  <a:pt x="7135" y="5104"/>
                  <a:pt x="7169" y="5135"/>
                </a:cubicBezTo>
                <a:cubicBezTo>
                  <a:pt x="7226" y="5186"/>
                  <a:pt x="7178" y="5227"/>
                  <a:pt x="7169" y="5283"/>
                </a:cubicBezTo>
                <a:cubicBezTo>
                  <a:pt x="7157" y="5355"/>
                  <a:pt x="7146" y="5380"/>
                  <a:pt x="7094" y="5432"/>
                </a:cubicBezTo>
                <a:cubicBezTo>
                  <a:pt x="7066" y="5459"/>
                  <a:pt x="7067" y="5476"/>
                  <a:pt x="7045" y="5507"/>
                </a:cubicBezTo>
                <a:cubicBezTo>
                  <a:pt x="7099" y="5507"/>
                  <a:pt x="7209" y="5482"/>
                  <a:pt x="7243" y="5531"/>
                </a:cubicBezTo>
                <a:cubicBezTo>
                  <a:pt x="7264" y="5561"/>
                  <a:pt x="7284" y="5642"/>
                  <a:pt x="7268" y="5680"/>
                </a:cubicBezTo>
                <a:cubicBezTo>
                  <a:pt x="7245" y="5734"/>
                  <a:pt x="7168" y="5752"/>
                  <a:pt x="7119" y="5755"/>
                </a:cubicBezTo>
                <a:cubicBezTo>
                  <a:pt x="7060" y="5759"/>
                  <a:pt x="6989" y="5766"/>
                  <a:pt x="6945" y="5730"/>
                </a:cubicBezTo>
                <a:cubicBezTo>
                  <a:pt x="6907" y="5699"/>
                  <a:pt x="6921" y="5652"/>
                  <a:pt x="6921" y="5606"/>
                </a:cubicBezTo>
              </a:path>
              <a:path w="2779" h="1564">
                <a:moveTo>
                  <a:pt x="7541" y="4762"/>
                </a:moveTo>
                <a:cubicBezTo>
                  <a:pt x="7566" y="4870"/>
                  <a:pt x="7582" y="4929"/>
                  <a:pt x="7590" y="50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14800" y="1598760"/>
            <a:ext cx="3679560" cy="615960"/>
          </a:xfrm>
          <a:custGeom>
            <a:avLst/>
            <a:gdLst/>
            <a:ahLst/>
            <a:rect l="l" t="t" r="r" b="b"/>
            <a:pathLst>
              <a:path w="10220" h="1713">
                <a:moveTo>
                  <a:pt x="9153" y="5953"/>
                </a:moveTo>
                <a:cubicBezTo>
                  <a:pt x="9304" y="5974"/>
                  <a:pt x="9450" y="5961"/>
                  <a:pt x="9599" y="5978"/>
                </a:cubicBezTo>
                <a:cubicBezTo>
                  <a:pt x="9771" y="5998"/>
                  <a:pt x="9947" y="6018"/>
                  <a:pt x="10120" y="6028"/>
                </a:cubicBezTo>
                <a:cubicBezTo>
                  <a:pt x="10327" y="6040"/>
                  <a:pt x="10534" y="6066"/>
                  <a:pt x="10740" y="6077"/>
                </a:cubicBezTo>
                <a:cubicBezTo>
                  <a:pt x="10916" y="6087"/>
                  <a:pt x="11086" y="6112"/>
                  <a:pt x="11261" y="6127"/>
                </a:cubicBezTo>
                <a:cubicBezTo>
                  <a:pt x="11368" y="6136"/>
                  <a:pt x="11516" y="6128"/>
                  <a:pt x="11584" y="6102"/>
                </a:cubicBezTo>
              </a:path>
              <a:path w="10220" h="1713">
                <a:moveTo>
                  <a:pt x="12849" y="6152"/>
                </a:moveTo>
                <a:cubicBezTo>
                  <a:pt x="12916" y="6146"/>
                  <a:pt x="12982" y="6142"/>
                  <a:pt x="13047" y="6127"/>
                </a:cubicBezTo>
                <a:cubicBezTo>
                  <a:pt x="13187" y="6095"/>
                  <a:pt x="13326" y="6094"/>
                  <a:pt x="13469" y="6077"/>
                </a:cubicBezTo>
                <a:cubicBezTo>
                  <a:pt x="13676" y="6052"/>
                  <a:pt x="13880" y="6014"/>
                  <a:pt x="14089" y="6003"/>
                </a:cubicBezTo>
                <a:cubicBezTo>
                  <a:pt x="14307" y="5991"/>
                  <a:pt x="15110" y="6084"/>
                  <a:pt x="15180" y="5978"/>
                </a:cubicBezTo>
              </a:path>
              <a:path w="10220" h="1713">
                <a:moveTo>
                  <a:pt x="16669" y="6102"/>
                </a:moveTo>
                <a:cubicBezTo>
                  <a:pt x="16727" y="6102"/>
                  <a:pt x="16735" y="6102"/>
                  <a:pt x="16793" y="6102"/>
                </a:cubicBezTo>
                <a:cubicBezTo>
                  <a:pt x="17307" y="6102"/>
                  <a:pt x="17820" y="6099"/>
                  <a:pt x="18331" y="6127"/>
                </a:cubicBezTo>
                <a:cubicBezTo>
                  <a:pt x="18497" y="6136"/>
                  <a:pt x="18662" y="6147"/>
                  <a:pt x="18827" y="6152"/>
                </a:cubicBezTo>
                <a:cubicBezTo>
                  <a:pt x="18914" y="6155"/>
                  <a:pt x="19022" y="6172"/>
                  <a:pt x="19100" y="6127"/>
                </a:cubicBezTo>
                <a:cubicBezTo>
                  <a:pt x="19121" y="6115"/>
                  <a:pt x="19106" y="6113"/>
                  <a:pt x="19149" y="6102"/>
                </a:cubicBezTo>
              </a:path>
              <a:path w="10220" h="1713">
                <a:moveTo>
                  <a:pt x="8979" y="4862"/>
                </a:moveTo>
                <a:cubicBezTo>
                  <a:pt x="8979" y="4935"/>
                  <a:pt x="9001" y="4987"/>
                  <a:pt x="9004" y="5060"/>
                </a:cubicBezTo>
                <a:cubicBezTo>
                  <a:pt x="9008" y="5153"/>
                  <a:pt x="8990" y="5264"/>
                  <a:pt x="8979" y="5358"/>
                </a:cubicBezTo>
                <a:cubicBezTo>
                  <a:pt x="8978" y="5362"/>
                  <a:pt x="8966" y="5568"/>
                  <a:pt x="8954" y="5606"/>
                </a:cubicBezTo>
                <a:cubicBezTo>
                  <a:pt x="8950" y="5618"/>
                  <a:pt x="8930" y="5716"/>
                  <a:pt x="8930" y="5655"/>
                </a:cubicBezTo>
              </a:path>
              <a:path w="10220" h="1713">
                <a:moveTo>
                  <a:pt x="9351" y="4887"/>
                </a:moveTo>
                <a:cubicBezTo>
                  <a:pt x="9372" y="4971"/>
                  <a:pt x="9333" y="5000"/>
                  <a:pt x="9327" y="5085"/>
                </a:cubicBezTo>
                <a:cubicBezTo>
                  <a:pt x="9317" y="5212"/>
                  <a:pt x="9302" y="5330"/>
                  <a:pt x="9302" y="5457"/>
                </a:cubicBezTo>
                <a:cubicBezTo>
                  <a:pt x="9302" y="5523"/>
                  <a:pt x="9318" y="5623"/>
                  <a:pt x="9351" y="5680"/>
                </a:cubicBezTo>
                <a:cubicBezTo>
                  <a:pt x="9375" y="5723"/>
                  <a:pt x="9429" y="5752"/>
                  <a:pt x="9475" y="5755"/>
                </a:cubicBezTo>
                <a:cubicBezTo>
                  <a:pt x="9571" y="5761"/>
                  <a:pt x="9574" y="5715"/>
                  <a:pt x="9624" y="5655"/>
                </a:cubicBezTo>
                <a:cubicBezTo>
                  <a:pt x="9676" y="5592"/>
                  <a:pt x="9713" y="5539"/>
                  <a:pt x="9723" y="5457"/>
                </a:cubicBezTo>
                <a:cubicBezTo>
                  <a:pt x="9734" y="5373"/>
                  <a:pt x="9725" y="5286"/>
                  <a:pt x="9699" y="5209"/>
                </a:cubicBezTo>
                <a:cubicBezTo>
                  <a:pt x="9661" y="5096"/>
                  <a:pt x="9607" y="5035"/>
                  <a:pt x="9525" y="4961"/>
                </a:cubicBezTo>
                <a:cubicBezTo>
                  <a:pt x="9498" y="4936"/>
                  <a:pt x="9456" y="4899"/>
                  <a:pt x="9451" y="4936"/>
                </a:cubicBezTo>
                <a:cubicBezTo>
                  <a:pt x="9451" y="4944"/>
                  <a:pt x="9451" y="4953"/>
                  <a:pt x="9451" y="4961"/>
                </a:cubicBezTo>
              </a:path>
              <a:path w="10220" h="1713">
                <a:moveTo>
                  <a:pt x="12849" y="4862"/>
                </a:moveTo>
                <a:cubicBezTo>
                  <a:pt x="12839" y="4939"/>
                  <a:pt x="12824" y="5003"/>
                  <a:pt x="12824" y="5085"/>
                </a:cubicBezTo>
                <a:cubicBezTo>
                  <a:pt x="12824" y="5198"/>
                  <a:pt x="12802" y="5297"/>
                  <a:pt x="12799" y="5407"/>
                </a:cubicBezTo>
                <a:cubicBezTo>
                  <a:pt x="12795" y="5522"/>
                  <a:pt x="12807" y="5622"/>
                  <a:pt x="12824" y="5730"/>
                </a:cubicBezTo>
                <a:cubicBezTo>
                  <a:pt x="12832" y="5781"/>
                  <a:pt x="12803" y="5883"/>
                  <a:pt x="12824" y="5854"/>
                </a:cubicBezTo>
                <a:cubicBezTo>
                  <a:pt x="12832" y="5846"/>
                  <a:pt x="12841" y="5837"/>
                  <a:pt x="12849" y="5829"/>
                </a:cubicBezTo>
              </a:path>
              <a:path w="10220" h="1713">
                <a:moveTo>
                  <a:pt x="13196" y="5011"/>
                </a:moveTo>
                <a:cubicBezTo>
                  <a:pt x="13196" y="5072"/>
                  <a:pt x="13186" y="5127"/>
                  <a:pt x="13171" y="5184"/>
                </a:cubicBezTo>
                <a:cubicBezTo>
                  <a:pt x="13145" y="5283"/>
                  <a:pt x="13127" y="5380"/>
                  <a:pt x="13122" y="5482"/>
                </a:cubicBezTo>
                <a:cubicBezTo>
                  <a:pt x="13119" y="5556"/>
                  <a:pt x="13124" y="5637"/>
                  <a:pt x="13146" y="5705"/>
                </a:cubicBezTo>
                <a:cubicBezTo>
                  <a:pt x="13171" y="5779"/>
                  <a:pt x="13195" y="5825"/>
                  <a:pt x="13271" y="5829"/>
                </a:cubicBezTo>
                <a:cubicBezTo>
                  <a:pt x="13348" y="5833"/>
                  <a:pt x="13431" y="5794"/>
                  <a:pt x="13469" y="5730"/>
                </a:cubicBezTo>
                <a:cubicBezTo>
                  <a:pt x="13514" y="5655"/>
                  <a:pt x="13523" y="5562"/>
                  <a:pt x="13543" y="5482"/>
                </a:cubicBezTo>
                <a:cubicBezTo>
                  <a:pt x="13567" y="5384"/>
                  <a:pt x="13551" y="5305"/>
                  <a:pt x="13519" y="5209"/>
                </a:cubicBezTo>
                <a:cubicBezTo>
                  <a:pt x="13493" y="5131"/>
                  <a:pt x="13456" y="5060"/>
                  <a:pt x="13395" y="5011"/>
                </a:cubicBezTo>
                <a:cubicBezTo>
                  <a:pt x="13353" y="4978"/>
                  <a:pt x="13270" y="4965"/>
                  <a:pt x="13221" y="4961"/>
                </a:cubicBezTo>
                <a:cubicBezTo>
                  <a:pt x="13179" y="4957"/>
                  <a:pt x="13182" y="4953"/>
                  <a:pt x="13171" y="4986"/>
                </a:cubicBezTo>
              </a:path>
              <a:path w="10220" h="1713">
                <a:moveTo>
                  <a:pt x="16346" y="4986"/>
                </a:moveTo>
                <a:cubicBezTo>
                  <a:pt x="16422" y="4986"/>
                  <a:pt x="16493" y="4964"/>
                  <a:pt x="16570" y="4961"/>
                </a:cubicBezTo>
                <a:cubicBezTo>
                  <a:pt x="16660" y="4957"/>
                  <a:pt x="16741" y="4960"/>
                  <a:pt x="16818" y="4936"/>
                </a:cubicBezTo>
                <a:cubicBezTo>
                  <a:pt x="16842" y="4936"/>
                  <a:pt x="16851" y="4936"/>
                  <a:pt x="16867" y="4936"/>
                </a:cubicBezTo>
              </a:path>
              <a:path w="10220" h="1713">
                <a:moveTo>
                  <a:pt x="16396" y="5060"/>
                </a:moveTo>
                <a:cubicBezTo>
                  <a:pt x="16343" y="5136"/>
                  <a:pt x="16321" y="5148"/>
                  <a:pt x="16321" y="5234"/>
                </a:cubicBezTo>
                <a:cubicBezTo>
                  <a:pt x="16321" y="5285"/>
                  <a:pt x="16334" y="5316"/>
                  <a:pt x="16346" y="5358"/>
                </a:cubicBezTo>
                <a:cubicBezTo>
                  <a:pt x="16352" y="5379"/>
                  <a:pt x="16355" y="5361"/>
                  <a:pt x="16396" y="5333"/>
                </a:cubicBezTo>
                <a:cubicBezTo>
                  <a:pt x="16442" y="5302"/>
                  <a:pt x="16461" y="5288"/>
                  <a:pt x="16520" y="5283"/>
                </a:cubicBezTo>
                <a:cubicBezTo>
                  <a:pt x="16581" y="5278"/>
                  <a:pt x="16621" y="5282"/>
                  <a:pt x="16669" y="5308"/>
                </a:cubicBezTo>
                <a:cubicBezTo>
                  <a:pt x="16742" y="5347"/>
                  <a:pt x="16800" y="5360"/>
                  <a:pt x="16842" y="5432"/>
                </a:cubicBezTo>
                <a:cubicBezTo>
                  <a:pt x="16870" y="5480"/>
                  <a:pt x="16913" y="5525"/>
                  <a:pt x="16917" y="5581"/>
                </a:cubicBezTo>
                <a:cubicBezTo>
                  <a:pt x="16920" y="5633"/>
                  <a:pt x="16883" y="5720"/>
                  <a:pt x="16842" y="5755"/>
                </a:cubicBezTo>
                <a:cubicBezTo>
                  <a:pt x="16787" y="5802"/>
                  <a:pt x="16665" y="5825"/>
                  <a:pt x="16594" y="5829"/>
                </a:cubicBezTo>
                <a:cubicBezTo>
                  <a:pt x="16538" y="5832"/>
                  <a:pt x="16488" y="5838"/>
                  <a:pt x="16446" y="5804"/>
                </a:cubicBezTo>
                <a:cubicBezTo>
                  <a:pt x="16438" y="5796"/>
                  <a:pt x="16429" y="5787"/>
                  <a:pt x="16421" y="5779"/>
                </a:cubicBezTo>
                <a:cubicBezTo>
                  <a:pt x="16453" y="5769"/>
                  <a:pt x="16458" y="5758"/>
                  <a:pt x="16495" y="5730"/>
                </a:cubicBezTo>
              </a:path>
              <a:path w="10220" h="1713">
                <a:moveTo>
                  <a:pt x="10046" y="5308"/>
                </a:moveTo>
                <a:cubicBezTo>
                  <a:pt x="10074" y="5384"/>
                  <a:pt x="10105" y="5440"/>
                  <a:pt x="10145" y="5507"/>
                </a:cubicBezTo>
                <a:cubicBezTo>
                  <a:pt x="10191" y="5583"/>
                  <a:pt x="10217" y="5629"/>
                  <a:pt x="10294" y="5680"/>
                </a:cubicBezTo>
                <a:cubicBezTo>
                  <a:pt x="10343" y="5713"/>
                  <a:pt x="10411" y="5726"/>
                  <a:pt x="10468" y="5730"/>
                </a:cubicBezTo>
                <a:cubicBezTo>
                  <a:pt x="10518" y="5734"/>
                  <a:pt x="10530" y="5726"/>
                  <a:pt x="10542" y="5680"/>
                </a:cubicBezTo>
              </a:path>
              <a:path w="10220" h="1713">
                <a:moveTo>
                  <a:pt x="10393" y="5308"/>
                </a:moveTo>
                <a:cubicBezTo>
                  <a:pt x="10357" y="5381"/>
                  <a:pt x="10301" y="5451"/>
                  <a:pt x="10269" y="5507"/>
                </a:cubicBezTo>
                <a:cubicBezTo>
                  <a:pt x="10211" y="5608"/>
                  <a:pt x="10157" y="5669"/>
                  <a:pt x="10071" y="5755"/>
                </a:cubicBezTo>
                <a:cubicBezTo>
                  <a:pt x="10024" y="5802"/>
                  <a:pt x="9992" y="5819"/>
                  <a:pt x="9947" y="5854"/>
                </a:cubicBezTo>
              </a:path>
              <a:path w="10220" h="1713">
                <a:moveTo>
                  <a:pt x="10567" y="4738"/>
                </a:moveTo>
                <a:cubicBezTo>
                  <a:pt x="10667" y="4710"/>
                  <a:pt x="10675" y="4715"/>
                  <a:pt x="10765" y="4738"/>
                </a:cubicBezTo>
                <a:cubicBezTo>
                  <a:pt x="10814" y="4750"/>
                  <a:pt x="10847" y="4783"/>
                  <a:pt x="10864" y="4837"/>
                </a:cubicBezTo>
                <a:cubicBezTo>
                  <a:pt x="10872" y="4862"/>
                  <a:pt x="10815" y="4952"/>
                  <a:pt x="10790" y="4961"/>
                </a:cubicBezTo>
                <a:cubicBezTo>
                  <a:pt x="10724" y="4984"/>
                  <a:pt x="10709" y="4968"/>
                  <a:pt x="10716" y="4986"/>
                </a:cubicBezTo>
                <a:cubicBezTo>
                  <a:pt x="10730" y="5021"/>
                  <a:pt x="10776" y="5025"/>
                  <a:pt x="10815" y="5060"/>
                </a:cubicBezTo>
                <a:cubicBezTo>
                  <a:pt x="10862" y="5102"/>
                  <a:pt x="10884" y="5122"/>
                  <a:pt x="10889" y="5184"/>
                </a:cubicBezTo>
                <a:cubicBezTo>
                  <a:pt x="10892" y="5214"/>
                  <a:pt x="10846" y="5231"/>
                  <a:pt x="10815" y="5234"/>
                </a:cubicBezTo>
                <a:cubicBezTo>
                  <a:pt x="10770" y="5239"/>
                  <a:pt x="10738" y="5259"/>
                  <a:pt x="10691" y="5259"/>
                </a:cubicBezTo>
                <a:cubicBezTo>
                  <a:pt x="10648" y="5259"/>
                  <a:pt x="10653" y="5269"/>
                  <a:pt x="10641" y="5234"/>
                </a:cubicBezTo>
              </a:path>
              <a:path w="10220" h="1713">
                <a:moveTo>
                  <a:pt x="13940" y="5358"/>
                </a:moveTo>
                <a:cubicBezTo>
                  <a:pt x="13952" y="5417"/>
                  <a:pt x="13987" y="5453"/>
                  <a:pt x="14015" y="5507"/>
                </a:cubicBezTo>
                <a:cubicBezTo>
                  <a:pt x="14083" y="5638"/>
                  <a:pt x="14142" y="5673"/>
                  <a:pt x="14263" y="5779"/>
                </a:cubicBezTo>
                <a:cubicBezTo>
                  <a:pt x="14298" y="5809"/>
                  <a:pt x="14323" y="5821"/>
                  <a:pt x="14337" y="5779"/>
                </a:cubicBezTo>
              </a:path>
              <a:path w="10220" h="1713">
                <a:moveTo>
                  <a:pt x="14238" y="5358"/>
                </a:moveTo>
                <a:cubicBezTo>
                  <a:pt x="14174" y="5485"/>
                  <a:pt x="14115" y="5568"/>
                  <a:pt x="14039" y="5680"/>
                </a:cubicBezTo>
                <a:cubicBezTo>
                  <a:pt x="14003" y="5732"/>
                  <a:pt x="13939" y="5768"/>
                  <a:pt x="13915" y="5829"/>
                </a:cubicBezTo>
                <a:cubicBezTo>
                  <a:pt x="13897" y="5875"/>
                  <a:pt x="13915" y="5829"/>
                  <a:pt x="13915" y="5804"/>
                </a:cubicBezTo>
              </a:path>
              <a:path w="10220" h="1713">
                <a:moveTo>
                  <a:pt x="14412" y="4812"/>
                </a:moveTo>
                <a:cubicBezTo>
                  <a:pt x="14489" y="4795"/>
                  <a:pt x="14570" y="4760"/>
                  <a:pt x="14635" y="4812"/>
                </a:cubicBezTo>
                <a:cubicBezTo>
                  <a:pt x="14685" y="4852"/>
                  <a:pt x="14692" y="4935"/>
                  <a:pt x="14660" y="4986"/>
                </a:cubicBezTo>
                <a:cubicBezTo>
                  <a:pt x="14641" y="5017"/>
                  <a:pt x="14575" y="5117"/>
                  <a:pt x="14536" y="5135"/>
                </a:cubicBezTo>
                <a:cubicBezTo>
                  <a:pt x="14499" y="5152"/>
                  <a:pt x="14497" y="5140"/>
                  <a:pt x="14486" y="5184"/>
                </a:cubicBezTo>
                <a:cubicBezTo>
                  <a:pt x="14540" y="5184"/>
                  <a:pt x="14555" y="5162"/>
                  <a:pt x="14610" y="5159"/>
                </a:cubicBezTo>
                <a:cubicBezTo>
                  <a:pt x="14674" y="5155"/>
                  <a:pt x="14718" y="5135"/>
                  <a:pt x="14784" y="5135"/>
                </a:cubicBezTo>
                <a:cubicBezTo>
                  <a:pt x="14836" y="5135"/>
                  <a:pt x="14840" y="5121"/>
                  <a:pt x="14883" y="5110"/>
                </a:cubicBezTo>
              </a:path>
              <a:path w="10220" h="1713">
                <a:moveTo>
                  <a:pt x="17165" y="5209"/>
                </a:moveTo>
                <a:cubicBezTo>
                  <a:pt x="17146" y="5295"/>
                  <a:pt x="17115" y="5377"/>
                  <a:pt x="17165" y="5457"/>
                </a:cubicBezTo>
                <a:cubicBezTo>
                  <a:pt x="17200" y="5513"/>
                  <a:pt x="17266" y="5543"/>
                  <a:pt x="17314" y="5581"/>
                </a:cubicBezTo>
                <a:cubicBezTo>
                  <a:pt x="17363" y="5619"/>
                  <a:pt x="17426" y="5661"/>
                  <a:pt x="17487" y="5680"/>
                </a:cubicBezTo>
                <a:cubicBezTo>
                  <a:pt x="17516" y="5689"/>
                  <a:pt x="17556" y="5680"/>
                  <a:pt x="17587" y="5680"/>
                </a:cubicBezTo>
              </a:path>
              <a:path w="10220" h="1713">
                <a:moveTo>
                  <a:pt x="17512" y="5358"/>
                </a:moveTo>
                <a:cubicBezTo>
                  <a:pt x="17451" y="5443"/>
                  <a:pt x="17401" y="5509"/>
                  <a:pt x="17338" y="5581"/>
                </a:cubicBezTo>
                <a:cubicBezTo>
                  <a:pt x="17285" y="5642"/>
                  <a:pt x="17223" y="5698"/>
                  <a:pt x="17165" y="5755"/>
                </a:cubicBezTo>
                <a:cubicBezTo>
                  <a:pt x="17143" y="5777"/>
                  <a:pt x="17124" y="5846"/>
                  <a:pt x="17090" y="5779"/>
                </a:cubicBezTo>
                <a:cubicBezTo>
                  <a:pt x="17090" y="5771"/>
                  <a:pt x="17090" y="5763"/>
                  <a:pt x="17090" y="5755"/>
                </a:cubicBezTo>
              </a:path>
              <a:path w="10220" h="1713">
                <a:moveTo>
                  <a:pt x="17884" y="5407"/>
                </a:moveTo>
                <a:cubicBezTo>
                  <a:pt x="17923" y="5407"/>
                  <a:pt x="17909" y="5391"/>
                  <a:pt x="17909" y="5358"/>
                </a:cubicBezTo>
              </a:path>
              <a:path w="10220" h="1713">
                <a:moveTo>
                  <a:pt x="18107" y="4986"/>
                </a:moveTo>
                <a:cubicBezTo>
                  <a:pt x="18158" y="4968"/>
                  <a:pt x="18296" y="4895"/>
                  <a:pt x="18355" y="4961"/>
                </a:cubicBezTo>
                <a:cubicBezTo>
                  <a:pt x="18392" y="5002"/>
                  <a:pt x="18427" y="5079"/>
                  <a:pt x="18405" y="5135"/>
                </a:cubicBezTo>
                <a:cubicBezTo>
                  <a:pt x="18389" y="5177"/>
                  <a:pt x="18314" y="5247"/>
                  <a:pt x="18281" y="5283"/>
                </a:cubicBezTo>
                <a:cubicBezTo>
                  <a:pt x="18264" y="5302"/>
                  <a:pt x="18212" y="5356"/>
                  <a:pt x="18207" y="5358"/>
                </a:cubicBezTo>
                <a:cubicBezTo>
                  <a:pt x="18182" y="5358"/>
                  <a:pt x="18174" y="5358"/>
                  <a:pt x="18182" y="5383"/>
                </a:cubicBezTo>
                <a:cubicBezTo>
                  <a:pt x="18223" y="5383"/>
                  <a:pt x="18247" y="5352"/>
                  <a:pt x="18281" y="5358"/>
                </a:cubicBezTo>
                <a:cubicBezTo>
                  <a:pt x="18387" y="5376"/>
                  <a:pt x="18408" y="5410"/>
                  <a:pt x="18479" y="5482"/>
                </a:cubicBezTo>
                <a:cubicBezTo>
                  <a:pt x="18524" y="5528"/>
                  <a:pt x="18525" y="5601"/>
                  <a:pt x="18504" y="5655"/>
                </a:cubicBezTo>
                <a:cubicBezTo>
                  <a:pt x="18484" y="5707"/>
                  <a:pt x="18454" y="5772"/>
                  <a:pt x="18405" y="5804"/>
                </a:cubicBezTo>
                <a:cubicBezTo>
                  <a:pt x="18354" y="5837"/>
                  <a:pt x="18314" y="5829"/>
                  <a:pt x="18256" y="5829"/>
                </a:cubicBezTo>
                <a:cubicBezTo>
                  <a:pt x="18219" y="5829"/>
                  <a:pt x="18207" y="5805"/>
                  <a:pt x="18182" y="5779"/>
                </a:cubicBezTo>
              </a:path>
              <a:path w="10220" h="1713">
                <a:moveTo>
                  <a:pt x="18628" y="4663"/>
                </a:moveTo>
                <a:cubicBezTo>
                  <a:pt x="18668" y="4742"/>
                  <a:pt x="18685" y="4762"/>
                  <a:pt x="18752" y="4812"/>
                </a:cubicBezTo>
                <a:cubicBezTo>
                  <a:pt x="18791" y="4841"/>
                  <a:pt x="18812" y="4839"/>
                  <a:pt x="18852" y="4812"/>
                </a:cubicBezTo>
                <a:cubicBezTo>
                  <a:pt x="18874" y="4789"/>
                  <a:pt x="18879" y="4781"/>
                  <a:pt x="18901" y="4787"/>
                </a:cubicBezTo>
              </a:path>
              <a:path w="10220" h="1713">
                <a:moveTo>
                  <a:pt x="18951" y="4440"/>
                </a:moveTo>
                <a:cubicBezTo>
                  <a:pt x="18930" y="4597"/>
                  <a:pt x="18929" y="4649"/>
                  <a:pt x="18951" y="4787"/>
                </a:cubicBezTo>
                <a:cubicBezTo>
                  <a:pt x="18959" y="4839"/>
                  <a:pt x="18976" y="4883"/>
                  <a:pt x="18976" y="4936"/>
                </a:cubicBezTo>
                <a:cubicBezTo>
                  <a:pt x="18976" y="4961"/>
                  <a:pt x="18976" y="4986"/>
                  <a:pt x="18976" y="5011"/>
                </a:cubicBezTo>
              </a:path>
              <a:path w="10220" h="1713">
                <a:moveTo>
                  <a:pt x="14808" y="5507"/>
                </a:moveTo>
                <a:lnTo>
                  <a:pt x="14808" y="5507"/>
                </a:lnTo>
              </a:path>
              <a:path w="10220" h="1713">
                <a:moveTo>
                  <a:pt x="15032" y="5110"/>
                </a:moveTo>
                <a:cubicBezTo>
                  <a:pt x="15070" y="5071"/>
                  <a:pt x="15102" y="5029"/>
                  <a:pt x="15156" y="5011"/>
                </a:cubicBezTo>
                <a:cubicBezTo>
                  <a:pt x="15211" y="4993"/>
                  <a:pt x="15211" y="5032"/>
                  <a:pt x="15230" y="5060"/>
                </a:cubicBezTo>
                <a:cubicBezTo>
                  <a:pt x="15259" y="5103"/>
                  <a:pt x="15254" y="5158"/>
                  <a:pt x="15230" y="5209"/>
                </a:cubicBezTo>
                <a:cubicBezTo>
                  <a:pt x="15198" y="5278"/>
                  <a:pt x="15134" y="5311"/>
                  <a:pt x="15081" y="5358"/>
                </a:cubicBezTo>
                <a:cubicBezTo>
                  <a:pt x="15073" y="5366"/>
                  <a:pt x="15064" y="5375"/>
                  <a:pt x="15056" y="5383"/>
                </a:cubicBezTo>
                <a:cubicBezTo>
                  <a:pt x="15069" y="5343"/>
                  <a:pt x="15105" y="5358"/>
                  <a:pt x="15156" y="5358"/>
                </a:cubicBezTo>
                <a:cubicBezTo>
                  <a:pt x="15186" y="5358"/>
                  <a:pt x="15242" y="5402"/>
                  <a:pt x="15255" y="5432"/>
                </a:cubicBezTo>
                <a:cubicBezTo>
                  <a:pt x="15287" y="5505"/>
                  <a:pt x="15272" y="5534"/>
                  <a:pt x="15255" y="5606"/>
                </a:cubicBezTo>
                <a:cubicBezTo>
                  <a:pt x="15247" y="5642"/>
                  <a:pt x="15226" y="5717"/>
                  <a:pt x="15180" y="5730"/>
                </a:cubicBezTo>
                <a:cubicBezTo>
                  <a:pt x="15112" y="5750"/>
                  <a:pt x="15112" y="5749"/>
                  <a:pt x="15056" y="5730"/>
                </a:cubicBezTo>
                <a:cubicBezTo>
                  <a:pt x="15016" y="5717"/>
                  <a:pt x="15032" y="5699"/>
                  <a:pt x="15032" y="5655"/>
                </a:cubicBezTo>
              </a:path>
              <a:path w="10220" h="1713">
                <a:moveTo>
                  <a:pt x="15453" y="4589"/>
                </a:moveTo>
                <a:cubicBezTo>
                  <a:pt x="15489" y="4562"/>
                  <a:pt x="15529" y="4544"/>
                  <a:pt x="15577" y="4539"/>
                </a:cubicBezTo>
                <a:cubicBezTo>
                  <a:pt x="15614" y="4535"/>
                  <a:pt x="15681" y="4523"/>
                  <a:pt x="15701" y="4564"/>
                </a:cubicBezTo>
                <a:cubicBezTo>
                  <a:pt x="15731" y="4626"/>
                  <a:pt x="15692" y="4673"/>
                  <a:pt x="15652" y="4713"/>
                </a:cubicBezTo>
                <a:cubicBezTo>
                  <a:pt x="15619" y="4746"/>
                  <a:pt x="15587" y="4757"/>
                  <a:pt x="15577" y="4787"/>
                </a:cubicBezTo>
                <a:cubicBezTo>
                  <a:pt x="15639" y="4787"/>
                  <a:pt x="15697" y="4776"/>
                  <a:pt x="15751" y="4812"/>
                </a:cubicBezTo>
                <a:cubicBezTo>
                  <a:pt x="15793" y="4840"/>
                  <a:pt x="15801" y="4865"/>
                  <a:pt x="15801" y="4911"/>
                </a:cubicBezTo>
                <a:cubicBezTo>
                  <a:pt x="15801" y="4935"/>
                  <a:pt x="15775" y="4999"/>
                  <a:pt x="15751" y="5011"/>
                </a:cubicBezTo>
                <a:cubicBezTo>
                  <a:pt x="15708" y="5033"/>
                  <a:pt x="15641" y="5040"/>
                  <a:pt x="15602" y="5060"/>
                </a:cubicBezTo>
                <a:cubicBezTo>
                  <a:pt x="15561" y="5081"/>
                  <a:pt x="15526" y="5092"/>
                  <a:pt x="15478" y="5110"/>
                </a:cubicBezTo>
              </a:path>
              <a:path w="10220" h="1713">
                <a:moveTo>
                  <a:pt x="10964" y="5482"/>
                </a:moveTo>
                <a:cubicBezTo>
                  <a:pt x="10964" y="5507"/>
                  <a:pt x="10964" y="5515"/>
                  <a:pt x="10964" y="5482"/>
                </a:cubicBezTo>
              </a:path>
              <a:path w="10220" h="1713">
                <a:moveTo>
                  <a:pt x="11187" y="5159"/>
                </a:moveTo>
                <a:cubicBezTo>
                  <a:pt x="11235" y="5128"/>
                  <a:pt x="11249" y="5091"/>
                  <a:pt x="11311" y="5085"/>
                </a:cubicBezTo>
                <a:cubicBezTo>
                  <a:pt x="11384" y="5078"/>
                  <a:pt x="11380" y="5091"/>
                  <a:pt x="11410" y="5135"/>
                </a:cubicBezTo>
                <a:cubicBezTo>
                  <a:pt x="11445" y="5186"/>
                  <a:pt x="11432" y="5208"/>
                  <a:pt x="11410" y="5259"/>
                </a:cubicBezTo>
                <a:cubicBezTo>
                  <a:pt x="11387" y="5312"/>
                  <a:pt x="11351" y="5344"/>
                  <a:pt x="11311" y="5383"/>
                </a:cubicBezTo>
                <a:cubicBezTo>
                  <a:pt x="11273" y="5420"/>
                  <a:pt x="11244" y="5407"/>
                  <a:pt x="11311" y="5407"/>
                </a:cubicBezTo>
                <a:cubicBezTo>
                  <a:pt x="11362" y="5407"/>
                  <a:pt x="11369" y="5418"/>
                  <a:pt x="11410" y="5432"/>
                </a:cubicBezTo>
                <a:cubicBezTo>
                  <a:pt x="11460" y="5449"/>
                  <a:pt x="11460" y="5480"/>
                  <a:pt x="11460" y="5531"/>
                </a:cubicBezTo>
                <a:cubicBezTo>
                  <a:pt x="11460" y="5589"/>
                  <a:pt x="11463" y="5642"/>
                  <a:pt x="11410" y="5680"/>
                </a:cubicBezTo>
                <a:cubicBezTo>
                  <a:pt x="11362" y="5715"/>
                  <a:pt x="11313" y="5735"/>
                  <a:pt x="11261" y="5755"/>
                </a:cubicBezTo>
                <a:cubicBezTo>
                  <a:pt x="11217" y="5772"/>
                  <a:pt x="11138" y="5803"/>
                  <a:pt x="11112" y="5730"/>
                </a:cubicBezTo>
                <a:cubicBezTo>
                  <a:pt x="11078" y="5635"/>
                  <a:pt x="11186" y="5538"/>
                  <a:pt x="11237" y="5482"/>
                </a:cubicBezTo>
              </a:path>
              <a:path w="10220" h="1713">
                <a:moveTo>
                  <a:pt x="11683" y="4837"/>
                </a:moveTo>
                <a:cubicBezTo>
                  <a:pt x="11739" y="4795"/>
                  <a:pt x="11728" y="4819"/>
                  <a:pt x="11782" y="4837"/>
                </a:cubicBezTo>
                <a:cubicBezTo>
                  <a:pt x="11821" y="4850"/>
                  <a:pt x="11852" y="4863"/>
                  <a:pt x="11857" y="4911"/>
                </a:cubicBezTo>
                <a:cubicBezTo>
                  <a:pt x="11861" y="4945"/>
                  <a:pt x="11828" y="5009"/>
                  <a:pt x="11807" y="5035"/>
                </a:cubicBezTo>
                <a:cubicBezTo>
                  <a:pt x="11771" y="5079"/>
                  <a:pt x="11726" y="5106"/>
                  <a:pt x="11683" y="5135"/>
                </a:cubicBezTo>
                <a:cubicBezTo>
                  <a:pt x="11713" y="5157"/>
                  <a:pt x="11765" y="5176"/>
                  <a:pt x="11807" y="5159"/>
                </a:cubicBezTo>
                <a:cubicBezTo>
                  <a:pt x="11851" y="5141"/>
                  <a:pt x="11879" y="5135"/>
                  <a:pt x="11931" y="5135"/>
                </a:cubicBezTo>
                <a:cubicBezTo>
                  <a:pt x="11986" y="5135"/>
                  <a:pt x="11986" y="5135"/>
                  <a:pt x="11931" y="51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89880" y="1643040"/>
            <a:ext cx="1019160" cy="598680"/>
          </a:xfrm>
          <a:custGeom>
            <a:avLst/>
            <a:gdLst/>
            <a:ahLst/>
            <a:rect l="l" t="t" r="r" b="b"/>
            <a:pathLst>
              <a:path w="2829" h="1663">
                <a:moveTo>
                  <a:pt x="21084" y="6152"/>
                </a:moveTo>
                <a:cubicBezTo>
                  <a:pt x="21245" y="6152"/>
                  <a:pt x="21396" y="6130"/>
                  <a:pt x="21555" y="6127"/>
                </a:cubicBezTo>
                <a:cubicBezTo>
                  <a:pt x="21970" y="6118"/>
                  <a:pt x="22384" y="6131"/>
                  <a:pt x="22796" y="6152"/>
                </a:cubicBezTo>
                <a:cubicBezTo>
                  <a:pt x="22991" y="6162"/>
                  <a:pt x="23198" y="6152"/>
                  <a:pt x="23391" y="6176"/>
                </a:cubicBezTo>
                <a:cubicBezTo>
                  <a:pt x="23532" y="6193"/>
                  <a:pt x="23668" y="6226"/>
                  <a:pt x="23812" y="6226"/>
                </a:cubicBezTo>
                <a:cubicBezTo>
                  <a:pt x="23833" y="6226"/>
                  <a:pt x="23952" y="6229"/>
                  <a:pt x="23887" y="6201"/>
                </a:cubicBezTo>
                <a:cubicBezTo>
                  <a:pt x="23870" y="6201"/>
                  <a:pt x="23854" y="6201"/>
                  <a:pt x="23837" y="6201"/>
                </a:cubicBezTo>
              </a:path>
              <a:path w="2829" h="1663">
                <a:moveTo>
                  <a:pt x="21183" y="5085"/>
                </a:moveTo>
                <a:cubicBezTo>
                  <a:pt x="21157" y="5180"/>
                  <a:pt x="21144" y="5285"/>
                  <a:pt x="21134" y="5383"/>
                </a:cubicBezTo>
                <a:cubicBezTo>
                  <a:pt x="21125" y="5480"/>
                  <a:pt x="21146" y="5563"/>
                  <a:pt x="21158" y="5655"/>
                </a:cubicBezTo>
                <a:cubicBezTo>
                  <a:pt x="21168" y="5727"/>
                  <a:pt x="21167" y="5785"/>
                  <a:pt x="21183" y="5854"/>
                </a:cubicBezTo>
                <a:cubicBezTo>
                  <a:pt x="21188" y="5876"/>
                  <a:pt x="21183" y="5906"/>
                  <a:pt x="21183" y="5928"/>
                </a:cubicBezTo>
              </a:path>
              <a:path w="2829" h="1663">
                <a:moveTo>
                  <a:pt x="21679" y="5531"/>
                </a:moveTo>
                <a:cubicBezTo>
                  <a:pt x="21679" y="5575"/>
                  <a:pt x="21684" y="5533"/>
                  <a:pt x="21704" y="5507"/>
                </a:cubicBezTo>
              </a:path>
              <a:path w="2829" h="1663">
                <a:moveTo>
                  <a:pt x="22002" y="5035"/>
                </a:moveTo>
                <a:cubicBezTo>
                  <a:pt x="22073" y="5005"/>
                  <a:pt x="22149" y="4966"/>
                  <a:pt x="22225" y="4961"/>
                </a:cubicBezTo>
                <a:cubicBezTo>
                  <a:pt x="22307" y="4955"/>
                  <a:pt x="22343" y="4985"/>
                  <a:pt x="22349" y="5060"/>
                </a:cubicBezTo>
                <a:cubicBezTo>
                  <a:pt x="22355" y="5133"/>
                  <a:pt x="22285" y="5182"/>
                  <a:pt x="22250" y="5234"/>
                </a:cubicBezTo>
                <a:cubicBezTo>
                  <a:pt x="22217" y="5284"/>
                  <a:pt x="22180" y="5349"/>
                  <a:pt x="22126" y="5383"/>
                </a:cubicBezTo>
                <a:cubicBezTo>
                  <a:pt x="22076" y="5407"/>
                  <a:pt x="22060" y="5415"/>
                  <a:pt x="22027" y="5432"/>
                </a:cubicBezTo>
                <a:cubicBezTo>
                  <a:pt x="22143" y="5432"/>
                  <a:pt x="22219" y="5406"/>
                  <a:pt x="22299" y="5507"/>
                </a:cubicBezTo>
                <a:cubicBezTo>
                  <a:pt x="22354" y="5577"/>
                  <a:pt x="22311" y="5636"/>
                  <a:pt x="22299" y="5705"/>
                </a:cubicBezTo>
                <a:cubicBezTo>
                  <a:pt x="22284" y="5797"/>
                  <a:pt x="22266" y="5794"/>
                  <a:pt x="22200" y="5854"/>
                </a:cubicBezTo>
                <a:cubicBezTo>
                  <a:pt x="22149" y="5899"/>
                  <a:pt x="22117" y="5904"/>
                  <a:pt x="22051" y="5904"/>
                </a:cubicBezTo>
                <a:cubicBezTo>
                  <a:pt x="22011" y="5904"/>
                  <a:pt x="21960" y="5870"/>
                  <a:pt x="21952" y="5829"/>
                </a:cubicBezTo>
                <a:cubicBezTo>
                  <a:pt x="21952" y="5804"/>
                  <a:pt x="21952" y="5780"/>
                  <a:pt x="21952" y="5755"/>
                </a:cubicBezTo>
              </a:path>
              <a:path w="2829" h="1663">
                <a:moveTo>
                  <a:pt x="22696" y="4614"/>
                </a:moveTo>
                <a:cubicBezTo>
                  <a:pt x="22779" y="4599"/>
                  <a:pt x="22839" y="4589"/>
                  <a:pt x="22920" y="4589"/>
                </a:cubicBezTo>
                <a:cubicBezTo>
                  <a:pt x="22962" y="4589"/>
                  <a:pt x="22957" y="4599"/>
                  <a:pt x="22969" y="4564"/>
                </a:cubicBezTo>
              </a:path>
              <a:path w="2829" h="1663">
                <a:moveTo>
                  <a:pt x="22597" y="4738"/>
                </a:moveTo>
                <a:cubicBezTo>
                  <a:pt x="22589" y="4791"/>
                  <a:pt x="22554" y="4878"/>
                  <a:pt x="22622" y="4887"/>
                </a:cubicBezTo>
                <a:cubicBezTo>
                  <a:pt x="22656" y="4891"/>
                  <a:pt x="22697" y="4878"/>
                  <a:pt x="22721" y="4862"/>
                </a:cubicBezTo>
                <a:cubicBezTo>
                  <a:pt x="22766" y="4832"/>
                  <a:pt x="22762" y="4812"/>
                  <a:pt x="22820" y="4812"/>
                </a:cubicBezTo>
                <a:cubicBezTo>
                  <a:pt x="22848" y="4812"/>
                  <a:pt x="22911" y="4857"/>
                  <a:pt x="22920" y="4887"/>
                </a:cubicBezTo>
                <a:cubicBezTo>
                  <a:pt x="22942" y="4962"/>
                  <a:pt x="22937" y="4990"/>
                  <a:pt x="22920" y="5060"/>
                </a:cubicBezTo>
                <a:cubicBezTo>
                  <a:pt x="22909" y="5104"/>
                  <a:pt x="22865" y="5141"/>
                  <a:pt x="22820" y="5159"/>
                </a:cubicBezTo>
                <a:cubicBezTo>
                  <a:pt x="22743" y="5190"/>
                  <a:pt x="22591" y="5155"/>
                  <a:pt x="22523" y="51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1960" y="2562120"/>
            <a:ext cx="5394240" cy="795600"/>
          </a:xfrm>
          <a:custGeom>
            <a:avLst/>
            <a:gdLst/>
            <a:ahLst/>
            <a:rect l="l" t="t" r="r" b="b"/>
            <a:pathLst>
              <a:path w="14983" h="2209">
                <a:moveTo>
                  <a:pt x="1687" y="8632"/>
                </a:moveTo>
                <a:cubicBezTo>
                  <a:pt x="2176" y="8632"/>
                  <a:pt x="2664" y="8630"/>
                  <a:pt x="3150" y="8657"/>
                </a:cubicBezTo>
                <a:cubicBezTo>
                  <a:pt x="3442" y="8673"/>
                  <a:pt x="3793" y="8684"/>
                  <a:pt x="4068" y="8632"/>
                </a:cubicBezTo>
                <a:cubicBezTo>
                  <a:pt x="4076" y="8632"/>
                  <a:pt x="4085" y="8632"/>
                  <a:pt x="4093" y="8632"/>
                </a:cubicBezTo>
              </a:path>
              <a:path w="14983" h="2209">
                <a:moveTo>
                  <a:pt x="5432" y="8756"/>
                </a:moveTo>
                <a:cubicBezTo>
                  <a:pt x="5805" y="8756"/>
                  <a:pt x="6177" y="8760"/>
                  <a:pt x="6548" y="8781"/>
                </a:cubicBezTo>
                <a:cubicBezTo>
                  <a:pt x="6745" y="8792"/>
                  <a:pt x="6948" y="8798"/>
                  <a:pt x="7144" y="8806"/>
                </a:cubicBezTo>
                <a:cubicBezTo>
                  <a:pt x="7319" y="8813"/>
                  <a:pt x="7490" y="8830"/>
                  <a:pt x="7665" y="8830"/>
                </a:cubicBezTo>
                <a:cubicBezTo>
                  <a:pt x="7724" y="8830"/>
                  <a:pt x="7765" y="8843"/>
                  <a:pt x="7789" y="8806"/>
                </a:cubicBezTo>
                <a:cubicBezTo>
                  <a:pt x="7789" y="8798"/>
                  <a:pt x="7789" y="8789"/>
                  <a:pt x="7789" y="8781"/>
                </a:cubicBezTo>
              </a:path>
              <a:path w="14983" h="2209">
                <a:moveTo>
                  <a:pt x="9054" y="8781"/>
                </a:moveTo>
                <a:cubicBezTo>
                  <a:pt x="9247" y="8781"/>
                  <a:pt x="9434" y="8793"/>
                  <a:pt x="9624" y="8806"/>
                </a:cubicBezTo>
                <a:cubicBezTo>
                  <a:pt x="9806" y="8818"/>
                  <a:pt x="9989" y="8810"/>
                  <a:pt x="10170" y="8830"/>
                </a:cubicBezTo>
                <a:cubicBezTo>
                  <a:pt x="10409" y="8857"/>
                  <a:pt x="10651" y="8862"/>
                  <a:pt x="10889" y="8880"/>
                </a:cubicBezTo>
                <a:cubicBezTo>
                  <a:pt x="11032" y="8891"/>
                  <a:pt x="11234" y="8876"/>
                  <a:pt x="11336" y="8855"/>
                </a:cubicBezTo>
                <a:cubicBezTo>
                  <a:pt x="11380" y="8846"/>
                  <a:pt x="11382" y="8852"/>
                  <a:pt x="11410" y="8830"/>
                </a:cubicBezTo>
                <a:cubicBezTo>
                  <a:pt x="11435" y="8810"/>
                  <a:pt x="11410" y="8813"/>
                  <a:pt x="11460" y="8806"/>
                </a:cubicBezTo>
              </a:path>
              <a:path w="14983" h="2209">
                <a:moveTo>
                  <a:pt x="13345" y="8880"/>
                </a:moveTo>
                <a:cubicBezTo>
                  <a:pt x="13337" y="8880"/>
                  <a:pt x="13328" y="8880"/>
                  <a:pt x="13320" y="8880"/>
                </a:cubicBezTo>
                <a:cubicBezTo>
                  <a:pt x="13365" y="8898"/>
                  <a:pt x="13347" y="8921"/>
                  <a:pt x="13395" y="8930"/>
                </a:cubicBezTo>
                <a:cubicBezTo>
                  <a:pt x="13536" y="8957"/>
                  <a:pt x="13723" y="8946"/>
                  <a:pt x="13866" y="8954"/>
                </a:cubicBezTo>
                <a:cubicBezTo>
                  <a:pt x="14074" y="8966"/>
                  <a:pt x="14276" y="8987"/>
                  <a:pt x="14486" y="9004"/>
                </a:cubicBezTo>
                <a:cubicBezTo>
                  <a:pt x="14735" y="9024"/>
                  <a:pt x="15009" y="9059"/>
                  <a:pt x="15255" y="9103"/>
                </a:cubicBezTo>
                <a:cubicBezTo>
                  <a:pt x="15490" y="9145"/>
                  <a:pt x="15745" y="9185"/>
                  <a:pt x="15974" y="9252"/>
                </a:cubicBezTo>
                <a:cubicBezTo>
                  <a:pt x="16114" y="9293"/>
                  <a:pt x="16295" y="9337"/>
                  <a:pt x="16446" y="9327"/>
                </a:cubicBezTo>
                <a:cubicBezTo>
                  <a:pt x="16493" y="9324"/>
                  <a:pt x="16489" y="9298"/>
                  <a:pt x="16520" y="9302"/>
                </a:cubicBezTo>
                <a:cubicBezTo>
                  <a:pt x="16545" y="9302"/>
                  <a:pt x="16553" y="9302"/>
                  <a:pt x="16545" y="9327"/>
                </a:cubicBezTo>
              </a:path>
              <a:path w="14983" h="2209">
                <a:moveTo>
                  <a:pt x="1588" y="7491"/>
                </a:moveTo>
                <a:cubicBezTo>
                  <a:pt x="1550" y="7504"/>
                  <a:pt x="1563" y="7520"/>
                  <a:pt x="1563" y="7565"/>
                </a:cubicBezTo>
                <a:cubicBezTo>
                  <a:pt x="1563" y="7636"/>
                  <a:pt x="1584" y="7667"/>
                  <a:pt x="1588" y="7739"/>
                </a:cubicBezTo>
                <a:cubicBezTo>
                  <a:pt x="1592" y="7816"/>
                  <a:pt x="1609" y="7886"/>
                  <a:pt x="1612" y="7962"/>
                </a:cubicBezTo>
                <a:cubicBezTo>
                  <a:pt x="1616" y="8055"/>
                  <a:pt x="1620" y="8120"/>
                  <a:pt x="1637" y="8210"/>
                </a:cubicBezTo>
                <a:cubicBezTo>
                  <a:pt x="1647" y="8265"/>
                  <a:pt x="1648" y="8312"/>
                  <a:pt x="1662" y="8359"/>
                </a:cubicBezTo>
                <a:cubicBezTo>
                  <a:pt x="1669" y="8382"/>
                  <a:pt x="1662" y="8437"/>
                  <a:pt x="1662" y="8458"/>
                </a:cubicBezTo>
                <a:cubicBezTo>
                  <a:pt x="1701" y="8445"/>
                  <a:pt x="1689" y="8420"/>
                  <a:pt x="1712" y="8384"/>
                </a:cubicBezTo>
                <a:cubicBezTo>
                  <a:pt x="1741" y="8354"/>
                  <a:pt x="1755" y="8342"/>
                  <a:pt x="1786" y="8334"/>
                </a:cubicBezTo>
              </a:path>
              <a:path w="14983" h="2209">
                <a:moveTo>
                  <a:pt x="4887" y="7590"/>
                </a:moveTo>
                <a:cubicBezTo>
                  <a:pt x="4908" y="7561"/>
                  <a:pt x="4916" y="7529"/>
                  <a:pt x="4961" y="7516"/>
                </a:cubicBezTo>
                <a:cubicBezTo>
                  <a:pt x="5024" y="7497"/>
                  <a:pt x="5097" y="7470"/>
                  <a:pt x="5159" y="7466"/>
                </a:cubicBezTo>
                <a:cubicBezTo>
                  <a:pt x="5236" y="7461"/>
                  <a:pt x="5340" y="7449"/>
                  <a:pt x="5407" y="7491"/>
                </a:cubicBezTo>
                <a:cubicBezTo>
                  <a:pt x="5477" y="7534"/>
                  <a:pt x="5464" y="7554"/>
                  <a:pt x="5457" y="7615"/>
                </a:cubicBezTo>
                <a:cubicBezTo>
                  <a:pt x="5447" y="7704"/>
                  <a:pt x="5420" y="7771"/>
                  <a:pt x="5358" y="7838"/>
                </a:cubicBezTo>
                <a:cubicBezTo>
                  <a:pt x="5307" y="7893"/>
                  <a:pt x="5212" y="8020"/>
                  <a:pt x="5159" y="8062"/>
                </a:cubicBezTo>
                <a:cubicBezTo>
                  <a:pt x="5151" y="8062"/>
                  <a:pt x="5143" y="8062"/>
                  <a:pt x="5135" y="8062"/>
                </a:cubicBezTo>
                <a:cubicBezTo>
                  <a:pt x="5172" y="8057"/>
                  <a:pt x="5204" y="8056"/>
                  <a:pt x="5234" y="8037"/>
                </a:cubicBezTo>
                <a:cubicBezTo>
                  <a:pt x="5254" y="8024"/>
                  <a:pt x="5282" y="7997"/>
                  <a:pt x="5333" y="7987"/>
                </a:cubicBezTo>
                <a:cubicBezTo>
                  <a:pt x="5380" y="7978"/>
                  <a:pt x="5423" y="7985"/>
                  <a:pt x="5457" y="8012"/>
                </a:cubicBezTo>
                <a:cubicBezTo>
                  <a:pt x="5509" y="8054"/>
                  <a:pt x="5528" y="8124"/>
                  <a:pt x="5531" y="8186"/>
                </a:cubicBezTo>
                <a:cubicBezTo>
                  <a:pt x="5534" y="8245"/>
                  <a:pt x="5531" y="8333"/>
                  <a:pt x="5507" y="8384"/>
                </a:cubicBezTo>
                <a:cubicBezTo>
                  <a:pt x="5475" y="8455"/>
                  <a:pt x="5399" y="8495"/>
                  <a:pt x="5333" y="8533"/>
                </a:cubicBezTo>
                <a:cubicBezTo>
                  <a:pt x="5259" y="8576"/>
                  <a:pt x="5233" y="8544"/>
                  <a:pt x="5159" y="8533"/>
                </a:cubicBezTo>
                <a:cubicBezTo>
                  <a:pt x="5107" y="8525"/>
                  <a:pt x="5074" y="8519"/>
                  <a:pt x="5035" y="8483"/>
                </a:cubicBezTo>
                <a:cubicBezTo>
                  <a:pt x="5016" y="8466"/>
                  <a:pt x="5003" y="8451"/>
                  <a:pt x="4986" y="8434"/>
                </a:cubicBezTo>
              </a:path>
              <a:path w="14983" h="2209">
                <a:moveTo>
                  <a:pt x="8682" y="7714"/>
                </a:moveTo>
                <a:cubicBezTo>
                  <a:pt x="8716" y="7671"/>
                  <a:pt x="8742" y="7629"/>
                  <a:pt x="8781" y="7590"/>
                </a:cubicBezTo>
                <a:cubicBezTo>
                  <a:pt x="8819" y="7552"/>
                  <a:pt x="8876" y="7544"/>
                  <a:pt x="8930" y="7541"/>
                </a:cubicBezTo>
                <a:cubicBezTo>
                  <a:pt x="8986" y="7538"/>
                  <a:pt x="9108" y="7541"/>
                  <a:pt x="9153" y="7565"/>
                </a:cubicBezTo>
                <a:cubicBezTo>
                  <a:pt x="9226" y="7603"/>
                  <a:pt x="9274" y="7687"/>
                  <a:pt x="9277" y="7764"/>
                </a:cubicBezTo>
                <a:cubicBezTo>
                  <a:pt x="9281" y="7847"/>
                  <a:pt x="9282" y="7943"/>
                  <a:pt x="9227" y="8012"/>
                </a:cubicBezTo>
                <a:cubicBezTo>
                  <a:pt x="9163" y="8093"/>
                  <a:pt x="9125" y="8114"/>
                  <a:pt x="9054" y="8161"/>
                </a:cubicBezTo>
                <a:cubicBezTo>
                  <a:pt x="9021" y="8183"/>
                  <a:pt x="8916" y="8198"/>
                  <a:pt x="8954" y="8210"/>
                </a:cubicBezTo>
                <a:cubicBezTo>
                  <a:pt x="9013" y="8229"/>
                  <a:pt x="9066" y="8209"/>
                  <a:pt x="9128" y="8235"/>
                </a:cubicBezTo>
                <a:cubicBezTo>
                  <a:pt x="9205" y="8268"/>
                  <a:pt x="9227" y="8324"/>
                  <a:pt x="9277" y="8384"/>
                </a:cubicBezTo>
                <a:cubicBezTo>
                  <a:pt x="9314" y="8428"/>
                  <a:pt x="9371" y="8515"/>
                  <a:pt x="9351" y="8582"/>
                </a:cubicBezTo>
                <a:cubicBezTo>
                  <a:pt x="9337" y="8628"/>
                  <a:pt x="9299" y="8663"/>
                  <a:pt x="9252" y="8682"/>
                </a:cubicBezTo>
                <a:cubicBezTo>
                  <a:pt x="9175" y="8713"/>
                  <a:pt x="9141" y="8706"/>
                  <a:pt x="9054" y="8682"/>
                </a:cubicBezTo>
                <a:cubicBezTo>
                  <a:pt x="9023" y="8673"/>
                  <a:pt x="8977" y="8666"/>
                  <a:pt x="8979" y="8632"/>
                </a:cubicBezTo>
                <a:cubicBezTo>
                  <a:pt x="8982" y="8594"/>
                  <a:pt x="9002" y="8585"/>
                  <a:pt x="9029" y="8558"/>
                </a:cubicBezTo>
              </a:path>
              <a:path w="14983" h="2209">
                <a:moveTo>
                  <a:pt x="13742" y="7615"/>
                </a:moveTo>
                <a:cubicBezTo>
                  <a:pt x="13779" y="7664"/>
                  <a:pt x="13788" y="7724"/>
                  <a:pt x="13791" y="7789"/>
                </a:cubicBezTo>
                <a:cubicBezTo>
                  <a:pt x="13795" y="7896"/>
                  <a:pt x="13767" y="8001"/>
                  <a:pt x="13767" y="8111"/>
                </a:cubicBezTo>
                <a:cubicBezTo>
                  <a:pt x="13767" y="8280"/>
                  <a:pt x="13774" y="8440"/>
                  <a:pt x="13791" y="8607"/>
                </a:cubicBezTo>
                <a:cubicBezTo>
                  <a:pt x="13797" y="8668"/>
                  <a:pt x="13810" y="8723"/>
                  <a:pt x="13816" y="8781"/>
                </a:cubicBezTo>
                <a:cubicBezTo>
                  <a:pt x="13820" y="8822"/>
                  <a:pt x="13823" y="8820"/>
                  <a:pt x="13791" y="8830"/>
                </a:cubicBezTo>
              </a:path>
              <a:path w="14983" h="2209">
                <a:moveTo>
                  <a:pt x="2183" y="7813"/>
                </a:moveTo>
                <a:cubicBezTo>
                  <a:pt x="2222" y="7912"/>
                  <a:pt x="2245" y="7978"/>
                  <a:pt x="2307" y="8062"/>
                </a:cubicBezTo>
                <a:cubicBezTo>
                  <a:pt x="2363" y="8139"/>
                  <a:pt x="2415" y="8216"/>
                  <a:pt x="2480" y="8285"/>
                </a:cubicBezTo>
                <a:cubicBezTo>
                  <a:pt x="2545" y="8353"/>
                  <a:pt x="2605" y="8383"/>
                  <a:pt x="2679" y="8434"/>
                </a:cubicBezTo>
                <a:cubicBezTo>
                  <a:pt x="2725" y="8465"/>
                  <a:pt x="2747" y="8483"/>
                  <a:pt x="2803" y="8483"/>
                </a:cubicBezTo>
              </a:path>
              <a:path w="14983" h="2209">
                <a:moveTo>
                  <a:pt x="2654" y="7764"/>
                </a:moveTo>
                <a:cubicBezTo>
                  <a:pt x="2597" y="7820"/>
                  <a:pt x="2598" y="7875"/>
                  <a:pt x="2555" y="7938"/>
                </a:cubicBezTo>
                <a:cubicBezTo>
                  <a:pt x="2497" y="8025"/>
                  <a:pt x="2458" y="8116"/>
                  <a:pt x="2406" y="8210"/>
                </a:cubicBezTo>
                <a:cubicBezTo>
                  <a:pt x="2367" y="8280"/>
                  <a:pt x="2330" y="8346"/>
                  <a:pt x="2282" y="8409"/>
                </a:cubicBezTo>
                <a:cubicBezTo>
                  <a:pt x="2253" y="8447"/>
                  <a:pt x="2266" y="8567"/>
                  <a:pt x="2232" y="8533"/>
                </a:cubicBezTo>
                <a:cubicBezTo>
                  <a:pt x="2232" y="8525"/>
                  <a:pt x="2232" y="8516"/>
                  <a:pt x="2232" y="8508"/>
                </a:cubicBezTo>
              </a:path>
              <a:path w="14983" h="2209">
                <a:moveTo>
                  <a:pt x="2828" y="7144"/>
                </a:moveTo>
                <a:cubicBezTo>
                  <a:pt x="2879" y="7113"/>
                  <a:pt x="2926" y="7102"/>
                  <a:pt x="2977" y="7144"/>
                </a:cubicBezTo>
                <a:cubicBezTo>
                  <a:pt x="3023" y="7182"/>
                  <a:pt x="3048" y="7228"/>
                  <a:pt x="3026" y="7293"/>
                </a:cubicBezTo>
                <a:cubicBezTo>
                  <a:pt x="3018" y="7317"/>
                  <a:pt x="2980" y="7380"/>
                  <a:pt x="2952" y="7392"/>
                </a:cubicBezTo>
                <a:cubicBezTo>
                  <a:pt x="2917" y="7408"/>
                  <a:pt x="2939" y="7405"/>
                  <a:pt x="2902" y="7417"/>
                </a:cubicBezTo>
                <a:cubicBezTo>
                  <a:pt x="2938" y="7443"/>
                  <a:pt x="2990" y="7444"/>
                  <a:pt x="3026" y="7466"/>
                </a:cubicBezTo>
                <a:cubicBezTo>
                  <a:pt x="3060" y="7486"/>
                  <a:pt x="3132" y="7525"/>
                  <a:pt x="3150" y="7565"/>
                </a:cubicBezTo>
                <a:cubicBezTo>
                  <a:pt x="3166" y="7600"/>
                  <a:pt x="3132" y="7651"/>
                  <a:pt x="3101" y="7665"/>
                </a:cubicBezTo>
                <a:cubicBezTo>
                  <a:pt x="3036" y="7695"/>
                  <a:pt x="2961" y="7690"/>
                  <a:pt x="2902" y="7714"/>
                </a:cubicBezTo>
                <a:cubicBezTo>
                  <a:pt x="2894" y="7722"/>
                  <a:pt x="2885" y="7731"/>
                  <a:pt x="2877" y="7739"/>
                </a:cubicBezTo>
              </a:path>
              <a:path w="14983" h="2209">
                <a:moveTo>
                  <a:pt x="5631" y="7888"/>
                </a:moveTo>
                <a:cubicBezTo>
                  <a:pt x="5717" y="7951"/>
                  <a:pt x="5758" y="8012"/>
                  <a:pt x="5829" y="8086"/>
                </a:cubicBezTo>
                <a:cubicBezTo>
                  <a:pt x="5894" y="8154"/>
                  <a:pt x="5937" y="8227"/>
                  <a:pt x="6003" y="8285"/>
                </a:cubicBezTo>
                <a:cubicBezTo>
                  <a:pt x="6061" y="8336"/>
                  <a:pt x="6110" y="8395"/>
                  <a:pt x="6176" y="8434"/>
                </a:cubicBezTo>
                <a:cubicBezTo>
                  <a:pt x="6246" y="8475"/>
                  <a:pt x="6262" y="8474"/>
                  <a:pt x="6325" y="8458"/>
                </a:cubicBezTo>
              </a:path>
              <a:path w="14983" h="2209">
                <a:moveTo>
                  <a:pt x="6028" y="7888"/>
                </a:moveTo>
                <a:cubicBezTo>
                  <a:pt x="5983" y="7983"/>
                  <a:pt x="5960" y="8123"/>
                  <a:pt x="5904" y="8210"/>
                </a:cubicBezTo>
                <a:cubicBezTo>
                  <a:pt x="5864" y="8273"/>
                  <a:pt x="5822" y="8346"/>
                  <a:pt x="5779" y="8409"/>
                </a:cubicBezTo>
                <a:cubicBezTo>
                  <a:pt x="5753" y="8448"/>
                  <a:pt x="5726" y="8550"/>
                  <a:pt x="5705" y="8508"/>
                </a:cubicBezTo>
                <a:cubicBezTo>
                  <a:pt x="5705" y="8500"/>
                  <a:pt x="5705" y="8491"/>
                  <a:pt x="5705" y="8483"/>
                </a:cubicBezTo>
              </a:path>
              <a:path w="14983" h="2209">
                <a:moveTo>
                  <a:pt x="6152" y="7293"/>
                </a:moveTo>
                <a:cubicBezTo>
                  <a:pt x="6193" y="7285"/>
                  <a:pt x="6325" y="7231"/>
                  <a:pt x="6350" y="7317"/>
                </a:cubicBezTo>
                <a:cubicBezTo>
                  <a:pt x="6370" y="7388"/>
                  <a:pt x="6321" y="7446"/>
                  <a:pt x="6276" y="7491"/>
                </a:cubicBezTo>
                <a:cubicBezTo>
                  <a:pt x="6243" y="7524"/>
                  <a:pt x="6210" y="7562"/>
                  <a:pt x="6201" y="7590"/>
                </a:cubicBezTo>
                <a:cubicBezTo>
                  <a:pt x="6304" y="7629"/>
                  <a:pt x="6388" y="7594"/>
                  <a:pt x="6499" y="7590"/>
                </a:cubicBezTo>
                <a:cubicBezTo>
                  <a:pt x="6573" y="7590"/>
                  <a:pt x="6598" y="7590"/>
                  <a:pt x="6648" y="7590"/>
                </a:cubicBezTo>
              </a:path>
              <a:path w="14983" h="2209">
                <a:moveTo>
                  <a:pt x="9624" y="8037"/>
                </a:moveTo>
                <a:cubicBezTo>
                  <a:pt x="9656" y="8123"/>
                  <a:pt x="9681" y="8229"/>
                  <a:pt x="9723" y="8310"/>
                </a:cubicBezTo>
                <a:cubicBezTo>
                  <a:pt x="9764" y="8389"/>
                  <a:pt x="9858" y="8521"/>
                  <a:pt x="9922" y="8582"/>
                </a:cubicBezTo>
                <a:cubicBezTo>
                  <a:pt x="9957" y="8616"/>
                  <a:pt x="10101" y="8716"/>
                  <a:pt x="10145" y="8731"/>
                </a:cubicBezTo>
                <a:cubicBezTo>
                  <a:pt x="10247" y="8765"/>
                  <a:pt x="10226" y="8692"/>
                  <a:pt x="10244" y="8632"/>
                </a:cubicBezTo>
                <a:cubicBezTo>
                  <a:pt x="10252" y="8615"/>
                  <a:pt x="10261" y="8599"/>
                  <a:pt x="10269" y="8582"/>
                </a:cubicBezTo>
              </a:path>
              <a:path w="14983" h="2209">
                <a:moveTo>
                  <a:pt x="10046" y="8062"/>
                </a:moveTo>
                <a:cubicBezTo>
                  <a:pt x="9950" y="8209"/>
                  <a:pt x="9846" y="8318"/>
                  <a:pt x="9748" y="8458"/>
                </a:cubicBezTo>
                <a:cubicBezTo>
                  <a:pt x="9670" y="8569"/>
                  <a:pt x="9583" y="8651"/>
                  <a:pt x="9475" y="8731"/>
                </a:cubicBezTo>
              </a:path>
              <a:path w="14983" h="2209">
                <a:moveTo>
                  <a:pt x="14610" y="8409"/>
                </a:moveTo>
                <a:cubicBezTo>
                  <a:pt x="14610" y="8369"/>
                  <a:pt x="14613" y="8262"/>
                  <a:pt x="14635" y="8235"/>
                </a:cubicBezTo>
                <a:cubicBezTo>
                  <a:pt x="14676" y="8186"/>
                  <a:pt x="14743" y="8144"/>
                  <a:pt x="14784" y="8086"/>
                </a:cubicBezTo>
                <a:cubicBezTo>
                  <a:pt x="14810" y="8032"/>
                  <a:pt x="14822" y="8012"/>
                  <a:pt x="14858" y="7987"/>
                </a:cubicBezTo>
              </a:path>
              <a:path w="14983" h="2209">
                <a:moveTo>
                  <a:pt x="15081" y="7838"/>
                </a:moveTo>
                <a:cubicBezTo>
                  <a:pt x="15081" y="7904"/>
                  <a:pt x="15070" y="7974"/>
                  <a:pt x="15056" y="8037"/>
                </a:cubicBezTo>
                <a:cubicBezTo>
                  <a:pt x="15031" y="8148"/>
                  <a:pt x="14986" y="8245"/>
                  <a:pt x="14982" y="8359"/>
                </a:cubicBezTo>
                <a:cubicBezTo>
                  <a:pt x="14978" y="8461"/>
                  <a:pt x="14957" y="8554"/>
                  <a:pt x="14957" y="8657"/>
                </a:cubicBezTo>
                <a:cubicBezTo>
                  <a:pt x="14957" y="8712"/>
                  <a:pt x="14940" y="8853"/>
                  <a:pt x="14957" y="8830"/>
                </a:cubicBezTo>
                <a:cubicBezTo>
                  <a:pt x="14965" y="8822"/>
                  <a:pt x="14974" y="8814"/>
                  <a:pt x="14982" y="8806"/>
                </a:cubicBezTo>
              </a:path>
              <a:path w="14983" h="2209">
                <a:moveTo>
                  <a:pt x="15453" y="7640"/>
                </a:moveTo>
                <a:cubicBezTo>
                  <a:pt x="15510" y="7617"/>
                  <a:pt x="15544" y="7590"/>
                  <a:pt x="15602" y="7590"/>
                </a:cubicBezTo>
                <a:cubicBezTo>
                  <a:pt x="15626" y="7590"/>
                  <a:pt x="15689" y="7616"/>
                  <a:pt x="15701" y="7640"/>
                </a:cubicBezTo>
                <a:cubicBezTo>
                  <a:pt x="15730" y="7699"/>
                  <a:pt x="15677" y="7725"/>
                  <a:pt x="15652" y="7764"/>
                </a:cubicBezTo>
                <a:cubicBezTo>
                  <a:pt x="15616" y="7820"/>
                  <a:pt x="15560" y="7799"/>
                  <a:pt x="15528" y="7838"/>
                </a:cubicBezTo>
                <a:cubicBezTo>
                  <a:pt x="15528" y="7846"/>
                  <a:pt x="15528" y="7855"/>
                  <a:pt x="15528" y="7863"/>
                </a:cubicBezTo>
                <a:cubicBezTo>
                  <a:pt x="15578" y="7863"/>
                  <a:pt x="15701" y="7838"/>
                  <a:pt x="15726" y="7888"/>
                </a:cubicBezTo>
                <a:cubicBezTo>
                  <a:pt x="15749" y="7935"/>
                  <a:pt x="15764" y="7965"/>
                  <a:pt x="15726" y="8012"/>
                </a:cubicBezTo>
                <a:cubicBezTo>
                  <a:pt x="15686" y="8062"/>
                  <a:pt x="15664" y="8062"/>
                  <a:pt x="15602" y="8062"/>
                </a:cubicBezTo>
                <a:cubicBezTo>
                  <a:pt x="15479" y="8062"/>
                  <a:pt x="15347" y="8080"/>
                  <a:pt x="15230" y="8037"/>
                </a:cubicBezTo>
                <a:cubicBezTo>
                  <a:pt x="15213" y="8029"/>
                  <a:pt x="15197" y="8020"/>
                  <a:pt x="15180" y="8012"/>
                </a:cubicBezTo>
              </a:path>
              <a:path w="14983" h="2209">
                <a:moveTo>
                  <a:pt x="10765" y="8186"/>
                </a:moveTo>
                <a:cubicBezTo>
                  <a:pt x="10765" y="8251"/>
                  <a:pt x="10765" y="8168"/>
                  <a:pt x="10765" y="8161"/>
                </a:cubicBezTo>
              </a:path>
              <a:path w="14983" h="2209">
                <a:moveTo>
                  <a:pt x="11162" y="7789"/>
                </a:moveTo>
                <a:cubicBezTo>
                  <a:pt x="11162" y="8007"/>
                  <a:pt x="11164" y="8221"/>
                  <a:pt x="11187" y="8434"/>
                </a:cubicBezTo>
                <a:cubicBezTo>
                  <a:pt x="11197" y="8524"/>
                  <a:pt x="11207" y="8617"/>
                  <a:pt x="11212" y="8706"/>
                </a:cubicBezTo>
                <a:cubicBezTo>
                  <a:pt x="11213" y="8722"/>
                  <a:pt x="11237" y="8843"/>
                  <a:pt x="11237" y="8781"/>
                </a:cubicBezTo>
              </a:path>
              <a:path w="14983" h="2209">
                <a:moveTo>
                  <a:pt x="11410" y="7466"/>
                </a:moveTo>
                <a:cubicBezTo>
                  <a:pt x="11450" y="7438"/>
                  <a:pt x="11524" y="7362"/>
                  <a:pt x="11584" y="7392"/>
                </a:cubicBezTo>
                <a:cubicBezTo>
                  <a:pt x="11631" y="7415"/>
                  <a:pt x="11633" y="7472"/>
                  <a:pt x="11633" y="7516"/>
                </a:cubicBezTo>
                <a:cubicBezTo>
                  <a:pt x="11633" y="7573"/>
                  <a:pt x="11609" y="7618"/>
                  <a:pt x="11584" y="7665"/>
                </a:cubicBezTo>
                <a:cubicBezTo>
                  <a:pt x="11555" y="7718"/>
                  <a:pt x="11521" y="7754"/>
                  <a:pt x="11509" y="7813"/>
                </a:cubicBezTo>
                <a:cubicBezTo>
                  <a:pt x="11579" y="7839"/>
                  <a:pt x="11632" y="7838"/>
                  <a:pt x="11708" y="7838"/>
                </a:cubicBezTo>
                <a:cubicBezTo>
                  <a:pt x="11791" y="7838"/>
                  <a:pt x="11873" y="7838"/>
                  <a:pt x="11956" y="7838"/>
                </a:cubicBezTo>
                <a:cubicBezTo>
                  <a:pt x="11906" y="7838"/>
                  <a:pt x="11890" y="7838"/>
                  <a:pt x="11857" y="7838"/>
                </a:cubicBezTo>
              </a:path>
              <a:path w="14983" h="2209">
                <a:moveTo>
                  <a:pt x="6871" y="8136"/>
                </a:moveTo>
                <a:cubicBezTo>
                  <a:pt x="6882" y="8170"/>
                  <a:pt x="6919" y="8170"/>
                  <a:pt x="6871" y="8186"/>
                </a:cubicBezTo>
                <a:cubicBezTo>
                  <a:pt x="6879" y="8178"/>
                  <a:pt x="6888" y="8169"/>
                  <a:pt x="6896" y="8161"/>
                </a:cubicBezTo>
              </a:path>
              <a:path w="14983" h="2209">
                <a:moveTo>
                  <a:pt x="7417" y="7541"/>
                </a:moveTo>
                <a:cubicBezTo>
                  <a:pt x="7427" y="7626"/>
                  <a:pt x="7441" y="7699"/>
                  <a:pt x="7441" y="7789"/>
                </a:cubicBezTo>
                <a:cubicBezTo>
                  <a:pt x="7441" y="7885"/>
                  <a:pt x="7480" y="7967"/>
                  <a:pt x="7491" y="8062"/>
                </a:cubicBezTo>
                <a:cubicBezTo>
                  <a:pt x="7501" y="8152"/>
                  <a:pt x="7535" y="8246"/>
                  <a:pt x="7541" y="8334"/>
                </a:cubicBezTo>
                <a:cubicBezTo>
                  <a:pt x="7548" y="8447"/>
                  <a:pt x="7552" y="8527"/>
                  <a:pt x="7491" y="86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2760" y="1660680"/>
            <a:ext cx="463320" cy="403200"/>
          </a:xfrm>
          <a:custGeom>
            <a:avLst/>
            <a:gdLst/>
            <a:ahLst/>
            <a:rect l="l" t="t" r="r" b="b"/>
            <a:pathLst>
              <a:path w="1291" h="1117">
                <a:moveTo>
                  <a:pt x="1364" y="4688"/>
                </a:moveTo>
                <a:cubicBezTo>
                  <a:pt x="1364" y="4865"/>
                  <a:pt x="1360" y="5040"/>
                  <a:pt x="1339" y="5209"/>
                </a:cubicBezTo>
                <a:cubicBezTo>
                  <a:pt x="1322" y="5341"/>
                  <a:pt x="1335" y="5483"/>
                  <a:pt x="1364" y="5606"/>
                </a:cubicBezTo>
                <a:cubicBezTo>
                  <a:pt x="1375" y="5652"/>
                  <a:pt x="1372" y="5719"/>
                  <a:pt x="1339" y="5730"/>
                </a:cubicBezTo>
              </a:path>
              <a:path w="1291" h="1117">
                <a:moveTo>
                  <a:pt x="1736" y="5060"/>
                </a:moveTo>
                <a:cubicBezTo>
                  <a:pt x="1766" y="5100"/>
                  <a:pt x="1741" y="5123"/>
                  <a:pt x="1761" y="5159"/>
                </a:cubicBezTo>
                <a:cubicBezTo>
                  <a:pt x="1796" y="5222"/>
                  <a:pt x="1815" y="5267"/>
                  <a:pt x="1836" y="5333"/>
                </a:cubicBezTo>
                <a:cubicBezTo>
                  <a:pt x="1854" y="5388"/>
                  <a:pt x="1902" y="5454"/>
                  <a:pt x="1935" y="5507"/>
                </a:cubicBezTo>
                <a:cubicBezTo>
                  <a:pt x="1957" y="5543"/>
                  <a:pt x="2004" y="5576"/>
                  <a:pt x="2034" y="5606"/>
                </a:cubicBezTo>
                <a:cubicBezTo>
                  <a:pt x="2064" y="5636"/>
                  <a:pt x="2068" y="5631"/>
                  <a:pt x="2108" y="5631"/>
                </a:cubicBezTo>
                <a:cubicBezTo>
                  <a:pt x="2121" y="5591"/>
                  <a:pt x="2120" y="5621"/>
                  <a:pt x="2133" y="5581"/>
                </a:cubicBezTo>
              </a:path>
              <a:path w="1291" h="1117">
                <a:moveTo>
                  <a:pt x="2133" y="5035"/>
                </a:moveTo>
                <a:cubicBezTo>
                  <a:pt x="2103" y="5095"/>
                  <a:pt x="2059" y="5148"/>
                  <a:pt x="2034" y="5209"/>
                </a:cubicBezTo>
                <a:cubicBezTo>
                  <a:pt x="1996" y="5301"/>
                  <a:pt x="1939" y="5351"/>
                  <a:pt x="1885" y="5432"/>
                </a:cubicBezTo>
                <a:cubicBezTo>
                  <a:pt x="1848" y="5488"/>
                  <a:pt x="1807" y="5530"/>
                  <a:pt x="1761" y="5581"/>
                </a:cubicBezTo>
                <a:cubicBezTo>
                  <a:pt x="1734" y="5611"/>
                  <a:pt x="1712" y="5670"/>
                  <a:pt x="1712" y="5631"/>
                </a:cubicBezTo>
                <a:cubicBezTo>
                  <a:pt x="1712" y="5623"/>
                  <a:pt x="1712" y="5614"/>
                  <a:pt x="1712" y="5606"/>
                </a:cubicBezTo>
              </a:path>
              <a:path w="1291" h="1117">
                <a:moveTo>
                  <a:pt x="2356" y="4663"/>
                </a:moveTo>
                <a:cubicBezTo>
                  <a:pt x="2414" y="4663"/>
                  <a:pt x="2472" y="4663"/>
                  <a:pt x="2530" y="4663"/>
                </a:cubicBezTo>
                <a:cubicBezTo>
                  <a:pt x="2547" y="4611"/>
                  <a:pt x="2592" y="4667"/>
                  <a:pt x="2555" y="4614"/>
                </a:cubicBezTo>
              </a:path>
              <a:path w="1291" h="1117">
                <a:moveTo>
                  <a:pt x="2332" y="4713"/>
                </a:moveTo>
                <a:cubicBezTo>
                  <a:pt x="2309" y="4765"/>
                  <a:pt x="2307" y="4783"/>
                  <a:pt x="2307" y="4837"/>
                </a:cubicBezTo>
                <a:cubicBezTo>
                  <a:pt x="2307" y="4862"/>
                  <a:pt x="2307" y="4886"/>
                  <a:pt x="2307" y="4911"/>
                </a:cubicBezTo>
                <a:cubicBezTo>
                  <a:pt x="2346" y="4899"/>
                  <a:pt x="2335" y="4890"/>
                  <a:pt x="2356" y="4862"/>
                </a:cubicBezTo>
                <a:cubicBezTo>
                  <a:pt x="2383" y="4826"/>
                  <a:pt x="2416" y="4837"/>
                  <a:pt x="2456" y="4837"/>
                </a:cubicBezTo>
                <a:cubicBezTo>
                  <a:pt x="2491" y="4837"/>
                  <a:pt x="2536" y="4881"/>
                  <a:pt x="2555" y="4911"/>
                </a:cubicBezTo>
                <a:cubicBezTo>
                  <a:pt x="2577" y="4946"/>
                  <a:pt x="2625" y="4997"/>
                  <a:pt x="2629" y="5035"/>
                </a:cubicBezTo>
                <a:cubicBezTo>
                  <a:pt x="2634" y="5077"/>
                  <a:pt x="2620" y="5096"/>
                  <a:pt x="2580" y="5110"/>
                </a:cubicBezTo>
                <a:cubicBezTo>
                  <a:pt x="2565" y="5115"/>
                  <a:pt x="2420" y="5116"/>
                  <a:pt x="2431" y="5085"/>
                </a:cubicBezTo>
                <a:cubicBezTo>
                  <a:pt x="2439" y="5085"/>
                  <a:pt x="2448" y="5085"/>
                  <a:pt x="2456" y="50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8320" y="4375080"/>
            <a:ext cx="1473480" cy="652680"/>
          </a:xfrm>
          <a:custGeom>
            <a:avLst/>
            <a:gdLst/>
            <a:ahLst/>
            <a:rect l="l" t="t" r="r" b="b"/>
            <a:pathLst>
              <a:path w="4094" h="1812">
                <a:moveTo>
                  <a:pt x="1687" y="12551"/>
                </a:moveTo>
                <a:cubicBezTo>
                  <a:pt x="1709" y="12624"/>
                  <a:pt x="1727" y="12682"/>
                  <a:pt x="1761" y="12750"/>
                </a:cubicBezTo>
                <a:cubicBezTo>
                  <a:pt x="1801" y="12830"/>
                  <a:pt x="1820" y="12920"/>
                  <a:pt x="1860" y="12998"/>
                </a:cubicBezTo>
                <a:cubicBezTo>
                  <a:pt x="1909" y="13093"/>
                  <a:pt x="1988" y="13180"/>
                  <a:pt x="2034" y="13271"/>
                </a:cubicBezTo>
                <a:cubicBezTo>
                  <a:pt x="2067" y="13336"/>
                  <a:pt x="2116" y="13424"/>
                  <a:pt x="2183" y="13469"/>
                </a:cubicBezTo>
                <a:cubicBezTo>
                  <a:pt x="2235" y="13503"/>
                  <a:pt x="2251" y="13426"/>
                  <a:pt x="2257" y="13395"/>
                </a:cubicBezTo>
              </a:path>
              <a:path w="4094" h="1812">
                <a:moveTo>
                  <a:pt x="2108" y="12626"/>
                </a:moveTo>
                <a:cubicBezTo>
                  <a:pt x="2060" y="12729"/>
                  <a:pt x="2013" y="12824"/>
                  <a:pt x="1960" y="12923"/>
                </a:cubicBezTo>
                <a:cubicBezTo>
                  <a:pt x="1906" y="13023"/>
                  <a:pt x="1846" y="13100"/>
                  <a:pt x="1786" y="13196"/>
                </a:cubicBezTo>
                <a:cubicBezTo>
                  <a:pt x="1759" y="13240"/>
                  <a:pt x="1721" y="13346"/>
                  <a:pt x="1687" y="13370"/>
                </a:cubicBezTo>
                <a:cubicBezTo>
                  <a:pt x="1662" y="13370"/>
                  <a:pt x="1654" y="13370"/>
                  <a:pt x="1662" y="13395"/>
                </a:cubicBezTo>
                <a:cubicBezTo>
                  <a:pt x="1695" y="13362"/>
                  <a:pt x="1728" y="13328"/>
                  <a:pt x="1761" y="13295"/>
                </a:cubicBezTo>
              </a:path>
              <a:path w="4094" h="1812">
                <a:moveTo>
                  <a:pt x="2456" y="12204"/>
                </a:moveTo>
                <a:cubicBezTo>
                  <a:pt x="2551" y="12204"/>
                  <a:pt x="2624" y="12206"/>
                  <a:pt x="2704" y="12179"/>
                </a:cubicBezTo>
                <a:cubicBezTo>
                  <a:pt x="2729" y="12179"/>
                  <a:pt x="2737" y="12179"/>
                  <a:pt x="2729" y="12154"/>
                </a:cubicBezTo>
              </a:path>
              <a:path w="4094" h="1812">
                <a:moveTo>
                  <a:pt x="2480" y="12229"/>
                </a:moveTo>
                <a:cubicBezTo>
                  <a:pt x="2445" y="12264"/>
                  <a:pt x="2387" y="12303"/>
                  <a:pt x="2381" y="12353"/>
                </a:cubicBezTo>
                <a:cubicBezTo>
                  <a:pt x="2381" y="12378"/>
                  <a:pt x="2381" y="12386"/>
                  <a:pt x="2381" y="12402"/>
                </a:cubicBezTo>
                <a:cubicBezTo>
                  <a:pt x="2445" y="12402"/>
                  <a:pt x="2533" y="12384"/>
                  <a:pt x="2580" y="12427"/>
                </a:cubicBezTo>
                <a:cubicBezTo>
                  <a:pt x="2618" y="12461"/>
                  <a:pt x="2662" y="12501"/>
                  <a:pt x="2679" y="12551"/>
                </a:cubicBezTo>
                <a:cubicBezTo>
                  <a:pt x="2702" y="12618"/>
                  <a:pt x="2697" y="12621"/>
                  <a:pt x="2679" y="12675"/>
                </a:cubicBezTo>
                <a:cubicBezTo>
                  <a:pt x="2663" y="12722"/>
                  <a:pt x="2636" y="12736"/>
                  <a:pt x="2580" y="12750"/>
                </a:cubicBezTo>
                <a:cubicBezTo>
                  <a:pt x="2522" y="12765"/>
                  <a:pt x="2476" y="12740"/>
                  <a:pt x="2431" y="12725"/>
                </a:cubicBezTo>
                <a:cubicBezTo>
                  <a:pt x="2406" y="12725"/>
                  <a:pt x="2398" y="12725"/>
                  <a:pt x="2406" y="12700"/>
                </a:cubicBezTo>
              </a:path>
              <a:path w="4094" h="1812">
                <a:moveTo>
                  <a:pt x="3125" y="12700"/>
                </a:moveTo>
                <a:cubicBezTo>
                  <a:pt x="3136" y="12785"/>
                  <a:pt x="3126" y="12958"/>
                  <a:pt x="3150" y="13047"/>
                </a:cubicBezTo>
                <a:cubicBezTo>
                  <a:pt x="3163" y="13095"/>
                  <a:pt x="3191" y="13154"/>
                  <a:pt x="3200" y="13196"/>
                </a:cubicBezTo>
                <a:cubicBezTo>
                  <a:pt x="3214" y="13262"/>
                  <a:pt x="3187" y="13258"/>
                  <a:pt x="3175" y="13221"/>
                </a:cubicBezTo>
              </a:path>
              <a:path w="4094" h="1812">
                <a:moveTo>
                  <a:pt x="2927" y="12973"/>
                </a:moveTo>
                <a:cubicBezTo>
                  <a:pt x="2996" y="12998"/>
                  <a:pt x="3079" y="13038"/>
                  <a:pt x="3150" y="13047"/>
                </a:cubicBezTo>
                <a:cubicBezTo>
                  <a:pt x="3231" y="13058"/>
                  <a:pt x="3317" y="13066"/>
                  <a:pt x="3398" y="13072"/>
                </a:cubicBezTo>
                <a:cubicBezTo>
                  <a:pt x="3438" y="13072"/>
                  <a:pt x="3457" y="13061"/>
                  <a:pt x="3473" y="13022"/>
                </a:cubicBezTo>
              </a:path>
              <a:path w="4094" h="1812">
                <a:moveTo>
                  <a:pt x="3845" y="12725"/>
                </a:moveTo>
                <a:cubicBezTo>
                  <a:pt x="3845" y="12902"/>
                  <a:pt x="3839" y="13074"/>
                  <a:pt x="3820" y="13246"/>
                </a:cubicBezTo>
                <a:cubicBezTo>
                  <a:pt x="3809" y="13344"/>
                  <a:pt x="3806" y="13450"/>
                  <a:pt x="3795" y="13543"/>
                </a:cubicBezTo>
                <a:cubicBezTo>
                  <a:pt x="3786" y="13620"/>
                  <a:pt x="3813" y="13648"/>
                  <a:pt x="3820" y="13717"/>
                </a:cubicBezTo>
                <a:cubicBezTo>
                  <a:pt x="3827" y="13782"/>
                  <a:pt x="3820" y="13702"/>
                  <a:pt x="3820" y="13692"/>
                </a:cubicBezTo>
              </a:path>
              <a:path w="4094" h="1812">
                <a:moveTo>
                  <a:pt x="4068" y="12874"/>
                </a:moveTo>
                <a:cubicBezTo>
                  <a:pt x="4142" y="12854"/>
                  <a:pt x="4238" y="12828"/>
                  <a:pt x="4316" y="12849"/>
                </a:cubicBezTo>
                <a:cubicBezTo>
                  <a:pt x="4393" y="12869"/>
                  <a:pt x="4457" y="12874"/>
                  <a:pt x="4539" y="12874"/>
                </a:cubicBezTo>
                <a:cubicBezTo>
                  <a:pt x="4584" y="12874"/>
                  <a:pt x="4597" y="12877"/>
                  <a:pt x="4614" y="12849"/>
                </a:cubicBezTo>
              </a:path>
              <a:path w="4094" h="1812">
                <a:moveTo>
                  <a:pt x="4192" y="12849"/>
                </a:moveTo>
                <a:cubicBezTo>
                  <a:pt x="4135" y="12930"/>
                  <a:pt x="4078" y="12984"/>
                  <a:pt x="4068" y="13072"/>
                </a:cubicBezTo>
                <a:cubicBezTo>
                  <a:pt x="4064" y="13108"/>
                  <a:pt x="4093" y="13143"/>
                  <a:pt x="4118" y="13146"/>
                </a:cubicBezTo>
                <a:cubicBezTo>
                  <a:pt x="4130" y="13147"/>
                  <a:pt x="4204" y="13129"/>
                  <a:pt x="4217" y="13122"/>
                </a:cubicBezTo>
                <a:cubicBezTo>
                  <a:pt x="4259" y="13099"/>
                  <a:pt x="4265" y="13097"/>
                  <a:pt x="4316" y="13097"/>
                </a:cubicBezTo>
                <a:cubicBezTo>
                  <a:pt x="4360" y="13097"/>
                  <a:pt x="4434" y="13135"/>
                  <a:pt x="4465" y="13171"/>
                </a:cubicBezTo>
                <a:cubicBezTo>
                  <a:pt x="4513" y="13227"/>
                  <a:pt x="4533" y="13304"/>
                  <a:pt x="4564" y="13370"/>
                </a:cubicBezTo>
                <a:cubicBezTo>
                  <a:pt x="4608" y="13463"/>
                  <a:pt x="4614" y="13543"/>
                  <a:pt x="4614" y="13643"/>
                </a:cubicBezTo>
                <a:cubicBezTo>
                  <a:pt x="4614" y="13707"/>
                  <a:pt x="4624" y="13773"/>
                  <a:pt x="4564" y="13816"/>
                </a:cubicBezTo>
                <a:cubicBezTo>
                  <a:pt x="4511" y="13853"/>
                  <a:pt x="4451" y="13841"/>
                  <a:pt x="4390" y="13841"/>
                </a:cubicBezTo>
                <a:cubicBezTo>
                  <a:pt x="4349" y="13841"/>
                  <a:pt x="4269" y="13802"/>
                  <a:pt x="4242" y="13767"/>
                </a:cubicBezTo>
                <a:cubicBezTo>
                  <a:pt x="4218" y="13736"/>
                  <a:pt x="4253" y="13690"/>
                  <a:pt x="4266" y="13667"/>
                </a:cubicBezTo>
              </a:path>
              <a:path w="4094" h="1812">
                <a:moveTo>
                  <a:pt x="4837" y="13171"/>
                </a:moveTo>
                <a:cubicBezTo>
                  <a:pt x="4882" y="13242"/>
                  <a:pt x="4930" y="13316"/>
                  <a:pt x="4961" y="13395"/>
                </a:cubicBezTo>
                <a:cubicBezTo>
                  <a:pt x="5009" y="13515"/>
                  <a:pt x="5087" y="13608"/>
                  <a:pt x="5159" y="13717"/>
                </a:cubicBezTo>
                <a:cubicBezTo>
                  <a:pt x="5200" y="13779"/>
                  <a:pt x="5250" y="13875"/>
                  <a:pt x="5308" y="13915"/>
                </a:cubicBezTo>
                <a:cubicBezTo>
                  <a:pt x="5336" y="13915"/>
                  <a:pt x="5347" y="13917"/>
                  <a:pt x="5358" y="13940"/>
                </a:cubicBezTo>
              </a:path>
              <a:path w="4094" h="1812">
                <a:moveTo>
                  <a:pt x="5159" y="13271"/>
                </a:moveTo>
                <a:cubicBezTo>
                  <a:pt x="5130" y="13373"/>
                  <a:pt x="5096" y="13469"/>
                  <a:pt x="5060" y="13568"/>
                </a:cubicBezTo>
                <a:cubicBezTo>
                  <a:pt x="5028" y="13657"/>
                  <a:pt x="4978" y="13732"/>
                  <a:pt x="4936" y="13816"/>
                </a:cubicBezTo>
                <a:cubicBezTo>
                  <a:pt x="4911" y="13865"/>
                  <a:pt x="4834" y="13979"/>
                  <a:pt x="4887" y="13965"/>
                </a:cubicBezTo>
                <a:cubicBezTo>
                  <a:pt x="4895" y="13957"/>
                  <a:pt x="4903" y="13948"/>
                  <a:pt x="4911" y="13940"/>
                </a:cubicBezTo>
              </a:path>
              <a:path w="4094" h="1812">
                <a:moveTo>
                  <a:pt x="5482" y="12774"/>
                </a:moveTo>
                <a:cubicBezTo>
                  <a:pt x="5482" y="12799"/>
                  <a:pt x="5482" y="12807"/>
                  <a:pt x="5482" y="12824"/>
                </a:cubicBezTo>
                <a:cubicBezTo>
                  <a:pt x="5430" y="12837"/>
                  <a:pt x="5440" y="12861"/>
                  <a:pt x="5407" y="12898"/>
                </a:cubicBezTo>
                <a:cubicBezTo>
                  <a:pt x="5385" y="12921"/>
                  <a:pt x="5377" y="12926"/>
                  <a:pt x="5383" y="12948"/>
                </a:cubicBezTo>
                <a:cubicBezTo>
                  <a:pt x="5322" y="12968"/>
                  <a:pt x="5380" y="12981"/>
                  <a:pt x="5407" y="12998"/>
                </a:cubicBezTo>
                <a:cubicBezTo>
                  <a:pt x="5451" y="13027"/>
                  <a:pt x="5474" y="13022"/>
                  <a:pt x="5531" y="13022"/>
                </a:cubicBezTo>
                <a:cubicBezTo>
                  <a:pt x="5572" y="13022"/>
                  <a:pt x="5614" y="13022"/>
                  <a:pt x="5655" y="13022"/>
                </a:cubicBezTo>
              </a:path>
              <a:path w="4094" h="1812">
                <a:moveTo>
                  <a:pt x="5755" y="12576"/>
                </a:moveTo>
                <a:cubicBezTo>
                  <a:pt x="5730" y="12618"/>
                  <a:pt x="5712" y="12698"/>
                  <a:pt x="5705" y="12750"/>
                </a:cubicBezTo>
                <a:cubicBezTo>
                  <a:pt x="5693" y="12843"/>
                  <a:pt x="5662" y="12951"/>
                  <a:pt x="5680" y="13047"/>
                </a:cubicBezTo>
                <a:cubicBezTo>
                  <a:pt x="5699" y="13148"/>
                  <a:pt x="5705" y="13241"/>
                  <a:pt x="5705" y="133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24080" y="4653000"/>
            <a:ext cx="1071720" cy="490680"/>
          </a:xfrm>
          <a:custGeom>
            <a:avLst/>
            <a:gdLst/>
            <a:ahLst/>
            <a:rect l="l" t="t" r="r" b="b"/>
            <a:pathLst>
              <a:path w="2978" h="1366">
                <a:moveTo>
                  <a:pt x="6375" y="13097"/>
                </a:moveTo>
                <a:cubicBezTo>
                  <a:pt x="6412" y="13121"/>
                  <a:pt x="6400" y="13164"/>
                  <a:pt x="6400" y="13221"/>
                </a:cubicBezTo>
                <a:cubicBezTo>
                  <a:pt x="6400" y="13306"/>
                  <a:pt x="6375" y="13378"/>
                  <a:pt x="6375" y="13469"/>
                </a:cubicBezTo>
                <a:cubicBezTo>
                  <a:pt x="6375" y="13561"/>
                  <a:pt x="6379" y="13631"/>
                  <a:pt x="6400" y="13717"/>
                </a:cubicBezTo>
                <a:cubicBezTo>
                  <a:pt x="6400" y="13742"/>
                  <a:pt x="6400" y="13750"/>
                  <a:pt x="6400" y="13717"/>
                </a:cubicBezTo>
              </a:path>
              <a:path w="2978" h="1366">
                <a:moveTo>
                  <a:pt x="6176" y="13395"/>
                </a:moveTo>
                <a:cubicBezTo>
                  <a:pt x="6215" y="13366"/>
                  <a:pt x="6272" y="13355"/>
                  <a:pt x="6325" y="13370"/>
                </a:cubicBezTo>
                <a:cubicBezTo>
                  <a:pt x="6406" y="13393"/>
                  <a:pt x="6430" y="13395"/>
                  <a:pt x="6524" y="13395"/>
                </a:cubicBezTo>
              </a:path>
              <a:path w="2978" h="1366">
                <a:moveTo>
                  <a:pt x="7193" y="13370"/>
                </a:moveTo>
                <a:cubicBezTo>
                  <a:pt x="7229" y="13334"/>
                  <a:pt x="7259" y="13298"/>
                  <a:pt x="7268" y="13246"/>
                </a:cubicBezTo>
                <a:cubicBezTo>
                  <a:pt x="7279" y="13186"/>
                  <a:pt x="7277" y="13098"/>
                  <a:pt x="7243" y="13047"/>
                </a:cubicBezTo>
                <a:cubicBezTo>
                  <a:pt x="7221" y="13014"/>
                  <a:pt x="7181" y="12977"/>
                  <a:pt x="7144" y="12973"/>
                </a:cubicBezTo>
                <a:cubicBezTo>
                  <a:pt x="7113" y="12970"/>
                  <a:pt x="7015" y="12980"/>
                  <a:pt x="6995" y="12998"/>
                </a:cubicBezTo>
                <a:cubicBezTo>
                  <a:pt x="6965" y="13025"/>
                  <a:pt x="6882" y="13103"/>
                  <a:pt x="6871" y="13146"/>
                </a:cubicBezTo>
                <a:cubicBezTo>
                  <a:pt x="6849" y="13228"/>
                  <a:pt x="6853" y="13266"/>
                  <a:pt x="6871" y="13345"/>
                </a:cubicBezTo>
                <a:cubicBezTo>
                  <a:pt x="6881" y="13387"/>
                  <a:pt x="6905" y="13467"/>
                  <a:pt x="6945" y="13494"/>
                </a:cubicBezTo>
                <a:cubicBezTo>
                  <a:pt x="6994" y="13527"/>
                  <a:pt x="7000" y="13509"/>
                  <a:pt x="7045" y="13494"/>
                </a:cubicBezTo>
                <a:cubicBezTo>
                  <a:pt x="7107" y="13473"/>
                  <a:pt x="7124" y="13405"/>
                  <a:pt x="7144" y="13345"/>
                </a:cubicBezTo>
                <a:cubicBezTo>
                  <a:pt x="7156" y="13310"/>
                  <a:pt x="7182" y="13280"/>
                  <a:pt x="7193" y="13246"/>
                </a:cubicBezTo>
                <a:cubicBezTo>
                  <a:pt x="7193" y="13238"/>
                  <a:pt x="7193" y="13229"/>
                  <a:pt x="7193" y="13221"/>
                </a:cubicBezTo>
                <a:cubicBezTo>
                  <a:pt x="7222" y="13231"/>
                  <a:pt x="7239" y="13279"/>
                  <a:pt x="7218" y="13320"/>
                </a:cubicBezTo>
                <a:cubicBezTo>
                  <a:pt x="7184" y="13388"/>
                  <a:pt x="7193" y="13460"/>
                  <a:pt x="7193" y="13543"/>
                </a:cubicBezTo>
                <a:cubicBezTo>
                  <a:pt x="7193" y="13664"/>
                  <a:pt x="7197" y="13785"/>
                  <a:pt x="7218" y="13891"/>
                </a:cubicBezTo>
                <a:cubicBezTo>
                  <a:pt x="7226" y="13931"/>
                  <a:pt x="7206" y="14009"/>
                  <a:pt x="7243" y="13965"/>
                </a:cubicBezTo>
                <a:cubicBezTo>
                  <a:pt x="7266" y="13942"/>
                  <a:pt x="7274" y="13938"/>
                  <a:pt x="7268" y="13915"/>
                </a:cubicBezTo>
              </a:path>
              <a:path w="2978" h="1366">
                <a:moveTo>
                  <a:pt x="7541" y="13196"/>
                </a:moveTo>
                <a:cubicBezTo>
                  <a:pt x="7516" y="13322"/>
                  <a:pt x="7482" y="13443"/>
                  <a:pt x="7466" y="13568"/>
                </a:cubicBezTo>
                <a:cubicBezTo>
                  <a:pt x="7456" y="13645"/>
                  <a:pt x="7468" y="13745"/>
                  <a:pt x="7491" y="13816"/>
                </a:cubicBezTo>
                <a:cubicBezTo>
                  <a:pt x="7519" y="13905"/>
                  <a:pt x="7572" y="13938"/>
                  <a:pt x="7640" y="13990"/>
                </a:cubicBezTo>
                <a:cubicBezTo>
                  <a:pt x="7687" y="14026"/>
                  <a:pt x="7748" y="14063"/>
                  <a:pt x="7813" y="14039"/>
                </a:cubicBezTo>
                <a:cubicBezTo>
                  <a:pt x="7843" y="14028"/>
                  <a:pt x="7940" y="13965"/>
                  <a:pt x="7962" y="13940"/>
                </a:cubicBezTo>
                <a:cubicBezTo>
                  <a:pt x="8010" y="13884"/>
                  <a:pt x="8020" y="13806"/>
                  <a:pt x="8037" y="13742"/>
                </a:cubicBezTo>
                <a:cubicBezTo>
                  <a:pt x="8060" y="13653"/>
                  <a:pt x="8062" y="13587"/>
                  <a:pt x="8062" y="13494"/>
                </a:cubicBezTo>
                <a:cubicBezTo>
                  <a:pt x="8062" y="13413"/>
                  <a:pt x="8056" y="13286"/>
                  <a:pt x="7987" y="13221"/>
                </a:cubicBezTo>
                <a:cubicBezTo>
                  <a:pt x="7953" y="13189"/>
                  <a:pt x="7883" y="13149"/>
                  <a:pt x="7838" y="13146"/>
                </a:cubicBezTo>
                <a:cubicBezTo>
                  <a:pt x="7764" y="13141"/>
                  <a:pt x="7720" y="13146"/>
                  <a:pt x="7665" y="13196"/>
                </a:cubicBezTo>
                <a:cubicBezTo>
                  <a:pt x="7608" y="13248"/>
                  <a:pt x="7615" y="13300"/>
                  <a:pt x="7615" y="13370"/>
                </a:cubicBezTo>
                <a:cubicBezTo>
                  <a:pt x="7615" y="13429"/>
                  <a:pt x="7618" y="13455"/>
                  <a:pt x="7640" y="13494"/>
                </a:cubicBezTo>
              </a:path>
              <a:path w="2978" h="1366">
                <a:moveTo>
                  <a:pt x="8235" y="13568"/>
                </a:moveTo>
                <a:cubicBezTo>
                  <a:pt x="8292" y="13717"/>
                  <a:pt x="8342" y="13792"/>
                  <a:pt x="8434" y="13915"/>
                </a:cubicBezTo>
                <a:cubicBezTo>
                  <a:pt x="8504" y="14009"/>
                  <a:pt x="8543" y="14134"/>
                  <a:pt x="8632" y="14213"/>
                </a:cubicBezTo>
                <a:cubicBezTo>
                  <a:pt x="8663" y="14240"/>
                  <a:pt x="8720" y="14267"/>
                  <a:pt x="8756" y="14288"/>
                </a:cubicBezTo>
              </a:path>
              <a:path w="2978" h="1366">
                <a:moveTo>
                  <a:pt x="8657" y="13543"/>
                </a:moveTo>
                <a:cubicBezTo>
                  <a:pt x="8581" y="13586"/>
                  <a:pt x="8533" y="13616"/>
                  <a:pt x="8483" y="13692"/>
                </a:cubicBezTo>
                <a:cubicBezTo>
                  <a:pt x="8415" y="13796"/>
                  <a:pt x="8380" y="13902"/>
                  <a:pt x="8334" y="14015"/>
                </a:cubicBezTo>
                <a:cubicBezTo>
                  <a:pt x="8308" y="14079"/>
                  <a:pt x="8290" y="14144"/>
                  <a:pt x="8285" y="14213"/>
                </a:cubicBezTo>
                <a:cubicBezTo>
                  <a:pt x="8285" y="14221"/>
                  <a:pt x="8285" y="14230"/>
                  <a:pt x="8285" y="14238"/>
                </a:cubicBezTo>
              </a:path>
              <a:path w="2978" h="1366">
                <a:moveTo>
                  <a:pt x="8905" y="12948"/>
                </a:moveTo>
                <a:cubicBezTo>
                  <a:pt x="9005" y="12925"/>
                  <a:pt x="9028" y="12904"/>
                  <a:pt x="9103" y="12973"/>
                </a:cubicBezTo>
                <a:cubicBezTo>
                  <a:pt x="9146" y="13012"/>
                  <a:pt x="9170" y="13025"/>
                  <a:pt x="9128" y="13072"/>
                </a:cubicBezTo>
                <a:cubicBezTo>
                  <a:pt x="9093" y="13111"/>
                  <a:pt x="9040" y="13122"/>
                  <a:pt x="9004" y="13146"/>
                </a:cubicBezTo>
                <a:cubicBezTo>
                  <a:pt x="8968" y="13170"/>
                  <a:pt x="8964" y="13165"/>
                  <a:pt x="8954" y="13196"/>
                </a:cubicBezTo>
                <a:cubicBezTo>
                  <a:pt x="8968" y="13238"/>
                  <a:pt x="9005" y="13214"/>
                  <a:pt x="9054" y="13246"/>
                </a:cubicBezTo>
                <a:cubicBezTo>
                  <a:pt x="9094" y="13273"/>
                  <a:pt x="9107" y="13314"/>
                  <a:pt x="9128" y="13345"/>
                </a:cubicBezTo>
                <a:cubicBezTo>
                  <a:pt x="9154" y="13384"/>
                  <a:pt x="9176" y="13443"/>
                  <a:pt x="9153" y="13494"/>
                </a:cubicBezTo>
                <a:cubicBezTo>
                  <a:pt x="9128" y="13549"/>
                  <a:pt x="9116" y="13543"/>
                  <a:pt x="9054" y="13543"/>
                </a:cubicBezTo>
                <a:cubicBezTo>
                  <a:pt x="8987" y="13543"/>
                  <a:pt x="8937" y="13536"/>
                  <a:pt x="8880" y="13519"/>
                </a:cubicBezTo>
                <a:cubicBezTo>
                  <a:pt x="8852" y="13519"/>
                  <a:pt x="8841" y="13517"/>
                  <a:pt x="8830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83000" y="4680000"/>
            <a:ext cx="3375000" cy="561960"/>
          </a:xfrm>
          <a:custGeom>
            <a:avLst/>
            <a:gdLst/>
            <a:ahLst/>
            <a:rect l="l" t="t" r="r" b="b"/>
            <a:pathLst>
              <a:path w="9377" h="1563">
                <a:moveTo>
                  <a:pt x="9798" y="13370"/>
                </a:moveTo>
                <a:cubicBezTo>
                  <a:pt x="9798" y="13431"/>
                  <a:pt x="9819" y="13483"/>
                  <a:pt x="9823" y="13543"/>
                </a:cubicBezTo>
                <a:cubicBezTo>
                  <a:pt x="9827" y="13603"/>
                  <a:pt x="9847" y="13652"/>
                  <a:pt x="9847" y="13717"/>
                </a:cubicBezTo>
                <a:cubicBezTo>
                  <a:pt x="9847" y="13774"/>
                  <a:pt x="9872" y="13810"/>
                  <a:pt x="9872" y="13866"/>
                </a:cubicBezTo>
                <a:cubicBezTo>
                  <a:pt x="9872" y="13882"/>
                  <a:pt x="9872" y="13899"/>
                  <a:pt x="9872" y="13915"/>
                </a:cubicBezTo>
              </a:path>
              <a:path w="9377" h="1563">
                <a:moveTo>
                  <a:pt x="9674" y="13717"/>
                </a:moveTo>
                <a:cubicBezTo>
                  <a:pt x="9757" y="13735"/>
                  <a:pt x="9840" y="13762"/>
                  <a:pt x="9922" y="13767"/>
                </a:cubicBezTo>
                <a:cubicBezTo>
                  <a:pt x="9938" y="13767"/>
                  <a:pt x="9955" y="13767"/>
                  <a:pt x="9971" y="13767"/>
                </a:cubicBezTo>
              </a:path>
              <a:path w="9377" h="1563">
                <a:moveTo>
                  <a:pt x="10344" y="13395"/>
                </a:moveTo>
                <a:cubicBezTo>
                  <a:pt x="10390" y="13384"/>
                  <a:pt x="10487" y="13352"/>
                  <a:pt x="10542" y="13370"/>
                </a:cubicBezTo>
                <a:cubicBezTo>
                  <a:pt x="10590" y="13386"/>
                  <a:pt x="10653" y="13446"/>
                  <a:pt x="10666" y="13494"/>
                </a:cubicBezTo>
                <a:cubicBezTo>
                  <a:pt x="10689" y="13579"/>
                  <a:pt x="10689" y="13679"/>
                  <a:pt x="10666" y="13767"/>
                </a:cubicBezTo>
                <a:cubicBezTo>
                  <a:pt x="10639" y="13868"/>
                  <a:pt x="10580" y="13944"/>
                  <a:pt x="10517" y="14015"/>
                </a:cubicBezTo>
                <a:cubicBezTo>
                  <a:pt x="10480" y="14058"/>
                  <a:pt x="10417" y="14108"/>
                  <a:pt x="10368" y="14139"/>
                </a:cubicBezTo>
                <a:cubicBezTo>
                  <a:pt x="10323" y="14168"/>
                  <a:pt x="10293" y="14163"/>
                  <a:pt x="10244" y="14163"/>
                </a:cubicBezTo>
                <a:cubicBezTo>
                  <a:pt x="10244" y="14125"/>
                  <a:pt x="10228" y="14059"/>
                  <a:pt x="10269" y="14039"/>
                </a:cubicBezTo>
                <a:cubicBezTo>
                  <a:pt x="10319" y="14014"/>
                  <a:pt x="10335" y="14074"/>
                  <a:pt x="10368" y="14089"/>
                </a:cubicBezTo>
                <a:cubicBezTo>
                  <a:pt x="10386" y="14097"/>
                  <a:pt x="10472" y="14164"/>
                  <a:pt x="10492" y="14188"/>
                </a:cubicBezTo>
                <a:cubicBezTo>
                  <a:pt x="10532" y="14235"/>
                  <a:pt x="10570" y="14266"/>
                  <a:pt x="10616" y="14312"/>
                </a:cubicBezTo>
                <a:cubicBezTo>
                  <a:pt x="10656" y="14352"/>
                  <a:pt x="10669" y="14345"/>
                  <a:pt x="10691" y="14312"/>
                </a:cubicBezTo>
              </a:path>
              <a:path w="9377" h="1563">
                <a:moveTo>
                  <a:pt x="10914" y="13593"/>
                </a:moveTo>
                <a:cubicBezTo>
                  <a:pt x="10958" y="13584"/>
                  <a:pt x="11085" y="13542"/>
                  <a:pt x="11137" y="13568"/>
                </a:cubicBezTo>
                <a:cubicBezTo>
                  <a:pt x="11174" y="13587"/>
                  <a:pt x="11228" y="13574"/>
                  <a:pt x="11261" y="13593"/>
                </a:cubicBezTo>
                <a:cubicBezTo>
                  <a:pt x="11305" y="13618"/>
                  <a:pt x="11311" y="13617"/>
                  <a:pt x="11311" y="13667"/>
                </a:cubicBezTo>
                <a:cubicBezTo>
                  <a:pt x="11311" y="13714"/>
                  <a:pt x="11298" y="13747"/>
                  <a:pt x="11286" y="13791"/>
                </a:cubicBezTo>
                <a:cubicBezTo>
                  <a:pt x="11265" y="13866"/>
                  <a:pt x="11241" y="13938"/>
                  <a:pt x="11237" y="14015"/>
                </a:cubicBezTo>
                <a:cubicBezTo>
                  <a:pt x="11234" y="14063"/>
                  <a:pt x="11257" y="14343"/>
                  <a:pt x="11261" y="14337"/>
                </a:cubicBezTo>
                <a:cubicBezTo>
                  <a:pt x="11261" y="14329"/>
                  <a:pt x="11261" y="14320"/>
                  <a:pt x="11261" y="14312"/>
                </a:cubicBezTo>
              </a:path>
              <a:path w="9377" h="1563">
                <a:moveTo>
                  <a:pt x="11559" y="13742"/>
                </a:moveTo>
                <a:cubicBezTo>
                  <a:pt x="11559" y="13841"/>
                  <a:pt x="11550" y="13923"/>
                  <a:pt x="11534" y="14015"/>
                </a:cubicBezTo>
                <a:cubicBezTo>
                  <a:pt x="11523" y="14083"/>
                  <a:pt x="11573" y="14127"/>
                  <a:pt x="11584" y="14188"/>
                </a:cubicBezTo>
                <a:cubicBezTo>
                  <a:pt x="11599" y="14273"/>
                  <a:pt x="11614" y="14261"/>
                  <a:pt x="11683" y="14312"/>
                </a:cubicBezTo>
                <a:cubicBezTo>
                  <a:pt x="11743" y="14357"/>
                  <a:pt x="11769" y="14347"/>
                  <a:pt x="11832" y="14337"/>
                </a:cubicBezTo>
                <a:cubicBezTo>
                  <a:pt x="11915" y="14323"/>
                  <a:pt x="11940" y="14261"/>
                  <a:pt x="11981" y="14188"/>
                </a:cubicBezTo>
                <a:cubicBezTo>
                  <a:pt x="12027" y="14107"/>
                  <a:pt x="12030" y="14057"/>
                  <a:pt x="12030" y="13965"/>
                </a:cubicBezTo>
                <a:cubicBezTo>
                  <a:pt x="12030" y="13883"/>
                  <a:pt x="12037" y="13816"/>
                  <a:pt x="12005" y="13742"/>
                </a:cubicBezTo>
                <a:cubicBezTo>
                  <a:pt x="11971" y="13664"/>
                  <a:pt x="11936" y="13555"/>
                  <a:pt x="11857" y="13519"/>
                </a:cubicBezTo>
                <a:cubicBezTo>
                  <a:pt x="11817" y="13501"/>
                  <a:pt x="11731" y="13477"/>
                  <a:pt x="11683" y="13494"/>
                </a:cubicBezTo>
                <a:cubicBezTo>
                  <a:pt x="11601" y="13523"/>
                  <a:pt x="11607" y="13553"/>
                  <a:pt x="11584" y="13618"/>
                </a:cubicBezTo>
                <a:cubicBezTo>
                  <a:pt x="11545" y="13727"/>
                  <a:pt x="11558" y="13755"/>
                  <a:pt x="11609" y="13866"/>
                </a:cubicBezTo>
                <a:cubicBezTo>
                  <a:pt x="11630" y="13909"/>
                  <a:pt x="11634" y="13921"/>
                  <a:pt x="11658" y="13940"/>
                </a:cubicBezTo>
              </a:path>
              <a:path w="9377" h="1563">
                <a:moveTo>
                  <a:pt x="12303" y="13742"/>
                </a:moveTo>
                <a:cubicBezTo>
                  <a:pt x="12327" y="13796"/>
                  <a:pt x="12342" y="13842"/>
                  <a:pt x="12378" y="13891"/>
                </a:cubicBezTo>
                <a:cubicBezTo>
                  <a:pt x="12423" y="13951"/>
                  <a:pt x="12465" y="14023"/>
                  <a:pt x="12502" y="14089"/>
                </a:cubicBezTo>
                <a:cubicBezTo>
                  <a:pt x="12541" y="14158"/>
                  <a:pt x="12594" y="14211"/>
                  <a:pt x="12650" y="14263"/>
                </a:cubicBezTo>
                <a:cubicBezTo>
                  <a:pt x="12684" y="14295"/>
                  <a:pt x="12711" y="14304"/>
                  <a:pt x="12725" y="14263"/>
                </a:cubicBezTo>
              </a:path>
              <a:path w="9377" h="1563">
                <a:moveTo>
                  <a:pt x="12526" y="13692"/>
                </a:moveTo>
                <a:cubicBezTo>
                  <a:pt x="12454" y="13753"/>
                  <a:pt x="12383" y="13823"/>
                  <a:pt x="12328" y="13891"/>
                </a:cubicBezTo>
                <a:cubicBezTo>
                  <a:pt x="12293" y="13935"/>
                  <a:pt x="12218" y="14063"/>
                  <a:pt x="12204" y="14114"/>
                </a:cubicBezTo>
                <a:cubicBezTo>
                  <a:pt x="12192" y="14158"/>
                  <a:pt x="12179" y="14191"/>
                  <a:pt x="12179" y="14238"/>
                </a:cubicBezTo>
              </a:path>
              <a:path w="9377" h="1563">
                <a:moveTo>
                  <a:pt x="12650" y="13047"/>
                </a:moveTo>
                <a:cubicBezTo>
                  <a:pt x="12735" y="13008"/>
                  <a:pt x="12770" y="12983"/>
                  <a:pt x="12849" y="13022"/>
                </a:cubicBezTo>
                <a:cubicBezTo>
                  <a:pt x="12878" y="13036"/>
                  <a:pt x="12917" y="13087"/>
                  <a:pt x="12898" y="13122"/>
                </a:cubicBezTo>
                <a:cubicBezTo>
                  <a:pt x="12881" y="13153"/>
                  <a:pt x="12841" y="13196"/>
                  <a:pt x="12824" y="13221"/>
                </a:cubicBezTo>
                <a:cubicBezTo>
                  <a:pt x="12802" y="13254"/>
                  <a:pt x="12769" y="13292"/>
                  <a:pt x="12750" y="13320"/>
                </a:cubicBezTo>
                <a:cubicBezTo>
                  <a:pt x="12742" y="13328"/>
                  <a:pt x="12733" y="13337"/>
                  <a:pt x="12725" y="13345"/>
                </a:cubicBezTo>
                <a:cubicBezTo>
                  <a:pt x="12743" y="13368"/>
                  <a:pt x="12775" y="13457"/>
                  <a:pt x="12799" y="13469"/>
                </a:cubicBezTo>
                <a:cubicBezTo>
                  <a:pt x="12843" y="13491"/>
                  <a:pt x="12945" y="13511"/>
                  <a:pt x="12998" y="13519"/>
                </a:cubicBezTo>
                <a:cubicBezTo>
                  <a:pt x="13051" y="13527"/>
                  <a:pt x="13084" y="13495"/>
                  <a:pt x="13122" y="13469"/>
                </a:cubicBezTo>
                <a:cubicBezTo>
                  <a:pt x="13147" y="13452"/>
                  <a:pt x="13171" y="13436"/>
                  <a:pt x="13196" y="13419"/>
                </a:cubicBezTo>
              </a:path>
              <a:path w="9377" h="1563">
                <a:moveTo>
                  <a:pt x="13345" y="13965"/>
                </a:moveTo>
                <a:cubicBezTo>
                  <a:pt x="13345" y="13987"/>
                  <a:pt x="13376" y="14058"/>
                  <a:pt x="13370" y="14064"/>
                </a:cubicBezTo>
                <a:cubicBezTo>
                  <a:pt x="13362" y="14064"/>
                  <a:pt x="13353" y="14064"/>
                  <a:pt x="13345" y="14064"/>
                </a:cubicBezTo>
              </a:path>
              <a:path w="9377" h="1563">
                <a:moveTo>
                  <a:pt x="13345" y="13667"/>
                </a:moveTo>
                <a:cubicBezTo>
                  <a:pt x="13345" y="13733"/>
                  <a:pt x="13366" y="13777"/>
                  <a:pt x="13370" y="13841"/>
                </a:cubicBezTo>
                <a:cubicBezTo>
                  <a:pt x="13374" y="13918"/>
                  <a:pt x="13408" y="13989"/>
                  <a:pt x="13419" y="14064"/>
                </a:cubicBezTo>
                <a:cubicBezTo>
                  <a:pt x="13429" y="14131"/>
                  <a:pt x="13444" y="14194"/>
                  <a:pt x="13444" y="14263"/>
                </a:cubicBezTo>
                <a:cubicBezTo>
                  <a:pt x="13444" y="14296"/>
                  <a:pt x="13444" y="14329"/>
                  <a:pt x="13444" y="14362"/>
                </a:cubicBezTo>
              </a:path>
              <a:path w="9377" h="1563">
                <a:moveTo>
                  <a:pt x="13146" y="13965"/>
                </a:moveTo>
                <a:cubicBezTo>
                  <a:pt x="13189" y="13965"/>
                  <a:pt x="13232" y="13976"/>
                  <a:pt x="13271" y="13990"/>
                </a:cubicBezTo>
                <a:cubicBezTo>
                  <a:pt x="13343" y="14016"/>
                  <a:pt x="13415" y="14035"/>
                  <a:pt x="13494" y="14039"/>
                </a:cubicBezTo>
                <a:cubicBezTo>
                  <a:pt x="13561" y="14042"/>
                  <a:pt x="13606" y="14035"/>
                  <a:pt x="13667" y="14015"/>
                </a:cubicBezTo>
              </a:path>
              <a:path w="9377" h="1563">
                <a:moveTo>
                  <a:pt x="13940" y="13618"/>
                </a:moveTo>
                <a:cubicBezTo>
                  <a:pt x="13940" y="13664"/>
                  <a:pt x="13937" y="13707"/>
                  <a:pt x="13915" y="13742"/>
                </a:cubicBezTo>
                <a:cubicBezTo>
                  <a:pt x="13890" y="13780"/>
                  <a:pt x="13854" y="13826"/>
                  <a:pt x="13841" y="13866"/>
                </a:cubicBezTo>
                <a:cubicBezTo>
                  <a:pt x="13832" y="13894"/>
                  <a:pt x="13823" y="13911"/>
                  <a:pt x="13816" y="13940"/>
                </a:cubicBezTo>
                <a:cubicBezTo>
                  <a:pt x="13845" y="13960"/>
                  <a:pt x="13837" y="13970"/>
                  <a:pt x="13866" y="13990"/>
                </a:cubicBezTo>
                <a:cubicBezTo>
                  <a:pt x="13874" y="14013"/>
                  <a:pt x="13907" y="14029"/>
                  <a:pt x="13940" y="14039"/>
                </a:cubicBezTo>
                <a:cubicBezTo>
                  <a:pt x="13975" y="14050"/>
                  <a:pt x="14031" y="14062"/>
                  <a:pt x="14064" y="14064"/>
                </a:cubicBezTo>
                <a:cubicBezTo>
                  <a:pt x="14106" y="14064"/>
                  <a:pt x="14114" y="14064"/>
                  <a:pt x="14139" y="14064"/>
                </a:cubicBezTo>
              </a:path>
              <a:path w="9377" h="1563">
                <a:moveTo>
                  <a:pt x="14263" y="13543"/>
                </a:moveTo>
                <a:cubicBezTo>
                  <a:pt x="14230" y="13642"/>
                  <a:pt x="14213" y="13712"/>
                  <a:pt x="14213" y="13816"/>
                </a:cubicBezTo>
                <a:cubicBezTo>
                  <a:pt x="14213" y="13929"/>
                  <a:pt x="14221" y="14498"/>
                  <a:pt x="14238" y="14486"/>
                </a:cubicBezTo>
              </a:path>
              <a:path w="9377" h="1563">
                <a:moveTo>
                  <a:pt x="14536" y="13816"/>
                </a:moveTo>
                <a:cubicBezTo>
                  <a:pt x="14510" y="13880"/>
                  <a:pt x="14470" y="13947"/>
                  <a:pt x="14461" y="14015"/>
                </a:cubicBezTo>
                <a:cubicBezTo>
                  <a:pt x="14450" y="14101"/>
                  <a:pt x="14434" y="14178"/>
                  <a:pt x="14461" y="14263"/>
                </a:cubicBezTo>
                <a:cubicBezTo>
                  <a:pt x="14483" y="14330"/>
                  <a:pt x="14518" y="14404"/>
                  <a:pt x="14560" y="14461"/>
                </a:cubicBezTo>
                <a:cubicBezTo>
                  <a:pt x="14585" y="14494"/>
                  <a:pt x="14641" y="14527"/>
                  <a:pt x="14684" y="14511"/>
                </a:cubicBezTo>
                <a:cubicBezTo>
                  <a:pt x="14756" y="14485"/>
                  <a:pt x="14780" y="14429"/>
                  <a:pt x="14808" y="14362"/>
                </a:cubicBezTo>
                <a:cubicBezTo>
                  <a:pt x="14856" y="14250"/>
                  <a:pt x="14879" y="14136"/>
                  <a:pt x="14883" y="14015"/>
                </a:cubicBezTo>
                <a:cubicBezTo>
                  <a:pt x="14886" y="13930"/>
                  <a:pt x="14858" y="13821"/>
                  <a:pt x="14833" y="13742"/>
                </a:cubicBezTo>
                <a:cubicBezTo>
                  <a:pt x="14817" y="13690"/>
                  <a:pt x="14764" y="13587"/>
                  <a:pt x="14709" y="13568"/>
                </a:cubicBezTo>
                <a:cubicBezTo>
                  <a:pt x="14660" y="13551"/>
                  <a:pt x="14625" y="13533"/>
                  <a:pt x="14585" y="13568"/>
                </a:cubicBezTo>
                <a:cubicBezTo>
                  <a:pt x="14546" y="13603"/>
                  <a:pt x="14524" y="13641"/>
                  <a:pt x="14511" y="13692"/>
                </a:cubicBezTo>
                <a:cubicBezTo>
                  <a:pt x="14497" y="13746"/>
                  <a:pt x="14526" y="13792"/>
                  <a:pt x="14536" y="13841"/>
                </a:cubicBezTo>
              </a:path>
              <a:path w="9377" h="1563">
                <a:moveTo>
                  <a:pt x="15180" y="13667"/>
                </a:moveTo>
                <a:cubicBezTo>
                  <a:pt x="15285" y="13667"/>
                  <a:pt x="15386" y="13670"/>
                  <a:pt x="15478" y="13643"/>
                </a:cubicBezTo>
                <a:cubicBezTo>
                  <a:pt x="15486" y="13643"/>
                  <a:pt x="15495" y="13643"/>
                  <a:pt x="15503" y="13643"/>
                </a:cubicBezTo>
              </a:path>
              <a:path w="9377" h="1563">
                <a:moveTo>
                  <a:pt x="15131" y="13742"/>
                </a:moveTo>
                <a:cubicBezTo>
                  <a:pt x="15124" y="13755"/>
                  <a:pt x="15034" y="13876"/>
                  <a:pt x="15056" y="13915"/>
                </a:cubicBezTo>
                <a:cubicBezTo>
                  <a:pt x="15077" y="13953"/>
                  <a:pt x="15120" y="13940"/>
                  <a:pt x="15156" y="13940"/>
                </a:cubicBezTo>
                <a:cubicBezTo>
                  <a:pt x="15213" y="13940"/>
                  <a:pt x="15234" y="13931"/>
                  <a:pt x="15280" y="13915"/>
                </a:cubicBezTo>
                <a:cubicBezTo>
                  <a:pt x="15311" y="13905"/>
                  <a:pt x="15351" y="13900"/>
                  <a:pt x="15379" y="13891"/>
                </a:cubicBezTo>
                <a:cubicBezTo>
                  <a:pt x="15413" y="13880"/>
                  <a:pt x="15456" y="13887"/>
                  <a:pt x="15478" y="13915"/>
                </a:cubicBezTo>
                <a:cubicBezTo>
                  <a:pt x="15512" y="13958"/>
                  <a:pt x="15528" y="14003"/>
                  <a:pt x="15528" y="14064"/>
                </a:cubicBezTo>
                <a:cubicBezTo>
                  <a:pt x="15528" y="14142"/>
                  <a:pt x="15535" y="14242"/>
                  <a:pt x="15503" y="14312"/>
                </a:cubicBezTo>
                <a:cubicBezTo>
                  <a:pt x="15463" y="14398"/>
                  <a:pt x="15390" y="14406"/>
                  <a:pt x="15329" y="14436"/>
                </a:cubicBezTo>
                <a:cubicBezTo>
                  <a:pt x="15283" y="14459"/>
                  <a:pt x="15265" y="14461"/>
                  <a:pt x="15205" y="14461"/>
                </a:cubicBezTo>
                <a:cubicBezTo>
                  <a:pt x="15137" y="14461"/>
                  <a:pt x="15136" y="14451"/>
                  <a:pt x="15106" y="14436"/>
                </a:cubicBezTo>
                <a:cubicBezTo>
                  <a:pt x="15098" y="14436"/>
                  <a:pt x="15089" y="14436"/>
                  <a:pt x="15081" y="14436"/>
                </a:cubicBezTo>
              </a:path>
              <a:path w="9377" h="1563">
                <a:moveTo>
                  <a:pt x="15776" y="13965"/>
                </a:moveTo>
                <a:cubicBezTo>
                  <a:pt x="15810" y="14059"/>
                  <a:pt x="15847" y="14108"/>
                  <a:pt x="15900" y="14188"/>
                </a:cubicBezTo>
                <a:cubicBezTo>
                  <a:pt x="15948" y="14260"/>
                  <a:pt x="15995" y="14344"/>
                  <a:pt x="16049" y="14412"/>
                </a:cubicBezTo>
                <a:cubicBezTo>
                  <a:pt x="16095" y="14471"/>
                  <a:pt x="16179" y="14528"/>
                  <a:pt x="16247" y="14536"/>
                </a:cubicBezTo>
                <a:cubicBezTo>
                  <a:pt x="16299" y="14536"/>
                  <a:pt x="16317" y="14535"/>
                  <a:pt x="16346" y="14511"/>
                </a:cubicBezTo>
              </a:path>
              <a:path w="9377" h="1563">
                <a:moveTo>
                  <a:pt x="16222" y="13791"/>
                </a:moveTo>
                <a:cubicBezTo>
                  <a:pt x="16133" y="13906"/>
                  <a:pt x="16079" y="13986"/>
                  <a:pt x="16024" y="14114"/>
                </a:cubicBezTo>
                <a:cubicBezTo>
                  <a:pt x="15990" y="14192"/>
                  <a:pt x="15931" y="14257"/>
                  <a:pt x="15900" y="14337"/>
                </a:cubicBezTo>
                <a:cubicBezTo>
                  <a:pt x="15881" y="14385"/>
                  <a:pt x="15855" y="14461"/>
                  <a:pt x="15850" y="14511"/>
                </a:cubicBezTo>
                <a:cubicBezTo>
                  <a:pt x="15846" y="14552"/>
                  <a:pt x="15843" y="14550"/>
                  <a:pt x="15875" y="14560"/>
                </a:cubicBezTo>
              </a:path>
              <a:path w="9377" h="1563">
                <a:moveTo>
                  <a:pt x="16768" y="13742"/>
                </a:moveTo>
                <a:cubicBezTo>
                  <a:pt x="16761" y="13853"/>
                  <a:pt x="16755" y="13937"/>
                  <a:pt x="16768" y="14039"/>
                </a:cubicBezTo>
                <a:cubicBezTo>
                  <a:pt x="16779" y="14123"/>
                  <a:pt x="16780" y="14208"/>
                  <a:pt x="16793" y="14288"/>
                </a:cubicBezTo>
                <a:cubicBezTo>
                  <a:pt x="16801" y="14338"/>
                  <a:pt x="16808" y="14399"/>
                  <a:pt x="16768" y="14412"/>
                </a:cubicBezTo>
              </a:path>
              <a:path w="9377" h="1563">
                <a:moveTo>
                  <a:pt x="16570" y="14039"/>
                </a:moveTo>
                <a:cubicBezTo>
                  <a:pt x="16701" y="14016"/>
                  <a:pt x="16821" y="14054"/>
                  <a:pt x="16966" y="14064"/>
                </a:cubicBezTo>
                <a:cubicBezTo>
                  <a:pt x="17034" y="14064"/>
                  <a:pt x="17053" y="14067"/>
                  <a:pt x="17090" y="14039"/>
                </a:cubicBezTo>
              </a:path>
              <a:path w="9377" h="1563">
                <a:moveTo>
                  <a:pt x="17487" y="13692"/>
                </a:moveTo>
                <a:cubicBezTo>
                  <a:pt x="17464" y="13715"/>
                  <a:pt x="17456" y="13719"/>
                  <a:pt x="17462" y="13742"/>
                </a:cubicBezTo>
                <a:cubicBezTo>
                  <a:pt x="17512" y="13692"/>
                  <a:pt x="17510" y="13672"/>
                  <a:pt x="17537" y="13618"/>
                </a:cubicBezTo>
                <a:cubicBezTo>
                  <a:pt x="17568" y="13558"/>
                  <a:pt x="17616" y="13565"/>
                  <a:pt x="17661" y="13543"/>
                </a:cubicBezTo>
                <a:cubicBezTo>
                  <a:pt x="17697" y="13526"/>
                  <a:pt x="17709" y="13473"/>
                  <a:pt x="17760" y="13494"/>
                </a:cubicBezTo>
                <a:cubicBezTo>
                  <a:pt x="17812" y="13515"/>
                  <a:pt x="17816" y="13544"/>
                  <a:pt x="17835" y="13593"/>
                </a:cubicBezTo>
                <a:cubicBezTo>
                  <a:pt x="17879" y="13705"/>
                  <a:pt x="17866" y="13769"/>
                  <a:pt x="17859" y="13891"/>
                </a:cubicBezTo>
                <a:cubicBezTo>
                  <a:pt x="17852" y="13998"/>
                  <a:pt x="17819" y="14086"/>
                  <a:pt x="17785" y="14188"/>
                </a:cubicBezTo>
                <a:cubicBezTo>
                  <a:pt x="17762" y="14257"/>
                  <a:pt x="17732" y="14353"/>
                  <a:pt x="17686" y="14412"/>
                </a:cubicBezTo>
                <a:cubicBezTo>
                  <a:pt x="17656" y="14450"/>
                  <a:pt x="17604" y="14494"/>
                  <a:pt x="17562" y="14511"/>
                </a:cubicBezTo>
                <a:cubicBezTo>
                  <a:pt x="17537" y="14511"/>
                  <a:pt x="17529" y="14511"/>
                  <a:pt x="17512" y="14511"/>
                </a:cubicBezTo>
                <a:cubicBezTo>
                  <a:pt x="17488" y="14479"/>
                  <a:pt x="17469" y="14451"/>
                  <a:pt x="17462" y="14412"/>
                </a:cubicBezTo>
                <a:cubicBezTo>
                  <a:pt x="17454" y="14369"/>
                  <a:pt x="17466" y="14297"/>
                  <a:pt x="17487" y="14263"/>
                </a:cubicBezTo>
                <a:cubicBezTo>
                  <a:pt x="17512" y="14221"/>
                  <a:pt x="17528" y="14177"/>
                  <a:pt x="17587" y="14163"/>
                </a:cubicBezTo>
                <a:cubicBezTo>
                  <a:pt x="17619" y="14155"/>
                  <a:pt x="17664" y="14174"/>
                  <a:pt x="17686" y="14188"/>
                </a:cubicBezTo>
                <a:cubicBezTo>
                  <a:pt x="17727" y="14215"/>
                  <a:pt x="17761" y="14273"/>
                  <a:pt x="17785" y="14312"/>
                </a:cubicBezTo>
                <a:cubicBezTo>
                  <a:pt x="17820" y="14369"/>
                  <a:pt x="17844" y="14433"/>
                  <a:pt x="17884" y="14486"/>
                </a:cubicBezTo>
                <a:cubicBezTo>
                  <a:pt x="17907" y="14517"/>
                  <a:pt x="17940" y="14550"/>
                  <a:pt x="17983" y="14536"/>
                </a:cubicBezTo>
                <a:cubicBezTo>
                  <a:pt x="18013" y="14526"/>
                  <a:pt x="18023" y="14439"/>
                  <a:pt x="18033" y="14412"/>
                </a:cubicBezTo>
              </a:path>
              <a:path w="9377" h="1563">
                <a:moveTo>
                  <a:pt x="18182" y="13643"/>
                </a:moveTo>
                <a:cubicBezTo>
                  <a:pt x="18182" y="13635"/>
                  <a:pt x="18182" y="13626"/>
                  <a:pt x="18182" y="13618"/>
                </a:cubicBezTo>
                <a:cubicBezTo>
                  <a:pt x="18182" y="13666"/>
                  <a:pt x="18184" y="13706"/>
                  <a:pt x="18207" y="13742"/>
                </a:cubicBezTo>
                <a:cubicBezTo>
                  <a:pt x="18233" y="13782"/>
                  <a:pt x="18264" y="13838"/>
                  <a:pt x="18306" y="13866"/>
                </a:cubicBezTo>
                <a:cubicBezTo>
                  <a:pt x="18329" y="13881"/>
                  <a:pt x="18398" y="13909"/>
                  <a:pt x="18430" y="13891"/>
                </a:cubicBezTo>
                <a:cubicBezTo>
                  <a:pt x="18460" y="13861"/>
                  <a:pt x="18471" y="13847"/>
                  <a:pt x="18479" y="13816"/>
                </a:cubicBezTo>
              </a:path>
              <a:path w="9377" h="1563">
                <a:moveTo>
                  <a:pt x="18529" y="13271"/>
                </a:moveTo>
                <a:cubicBezTo>
                  <a:pt x="18493" y="13318"/>
                  <a:pt x="18494" y="13361"/>
                  <a:pt x="18479" y="13419"/>
                </a:cubicBezTo>
                <a:cubicBezTo>
                  <a:pt x="18451" y="13528"/>
                  <a:pt x="18455" y="13629"/>
                  <a:pt x="18455" y="13742"/>
                </a:cubicBezTo>
                <a:cubicBezTo>
                  <a:pt x="18455" y="13868"/>
                  <a:pt x="18430" y="13986"/>
                  <a:pt x="18430" y="14114"/>
                </a:cubicBezTo>
                <a:cubicBezTo>
                  <a:pt x="18430" y="14230"/>
                  <a:pt x="18430" y="14345"/>
                  <a:pt x="18430" y="14461"/>
                </a:cubicBezTo>
                <a:cubicBezTo>
                  <a:pt x="18458" y="14425"/>
                  <a:pt x="18459" y="14409"/>
                  <a:pt x="18479" y="14362"/>
                </a:cubicBezTo>
              </a:path>
              <a:path w="9377" h="1563">
                <a:moveTo>
                  <a:pt x="18827" y="13568"/>
                </a:moveTo>
                <a:cubicBezTo>
                  <a:pt x="18845" y="13550"/>
                  <a:pt x="18922" y="13438"/>
                  <a:pt x="18976" y="13469"/>
                </a:cubicBezTo>
                <a:cubicBezTo>
                  <a:pt x="18992" y="13478"/>
                  <a:pt x="19053" y="13554"/>
                  <a:pt x="19050" y="13568"/>
                </a:cubicBezTo>
                <a:cubicBezTo>
                  <a:pt x="19038" y="13621"/>
                  <a:pt x="18959" y="13722"/>
                  <a:pt x="18926" y="13767"/>
                </a:cubicBezTo>
                <a:cubicBezTo>
                  <a:pt x="18887" y="13821"/>
                  <a:pt x="18818" y="13851"/>
                  <a:pt x="18802" y="13915"/>
                </a:cubicBezTo>
                <a:cubicBezTo>
                  <a:pt x="18876" y="13915"/>
                  <a:pt x="18916" y="13920"/>
                  <a:pt x="18976" y="13940"/>
                </a:cubicBezTo>
                <a:cubicBezTo>
                  <a:pt x="19019" y="13955"/>
                  <a:pt x="19040" y="13985"/>
                  <a:pt x="19050" y="14039"/>
                </a:cubicBezTo>
                <a:cubicBezTo>
                  <a:pt x="19065" y="14122"/>
                  <a:pt x="19049" y="14210"/>
                  <a:pt x="19025" y="14288"/>
                </a:cubicBezTo>
                <a:cubicBezTo>
                  <a:pt x="19000" y="14368"/>
                  <a:pt x="18957" y="14449"/>
                  <a:pt x="18901" y="14511"/>
                </a:cubicBezTo>
                <a:cubicBezTo>
                  <a:pt x="18878" y="14537"/>
                  <a:pt x="18835" y="14556"/>
                  <a:pt x="18802" y="14560"/>
                </a:cubicBezTo>
                <a:cubicBezTo>
                  <a:pt x="18749" y="14566"/>
                  <a:pt x="18729" y="14548"/>
                  <a:pt x="18678" y="14536"/>
                </a:cubicBezTo>
                <a:cubicBezTo>
                  <a:pt x="18623" y="14523"/>
                  <a:pt x="18627" y="14518"/>
                  <a:pt x="18554" y="145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11320" y="5180040"/>
            <a:ext cx="366840" cy="428760"/>
          </a:xfrm>
          <a:custGeom>
            <a:avLst/>
            <a:gdLst/>
            <a:ahLst/>
            <a:rect l="l" t="t" r="r" b="b"/>
            <a:pathLst>
              <a:path w="1018" h="1191">
                <a:moveTo>
                  <a:pt x="8086" y="14660"/>
                </a:moveTo>
                <a:cubicBezTo>
                  <a:pt x="8095" y="14695"/>
                  <a:pt x="8129" y="14727"/>
                  <a:pt x="8136" y="14759"/>
                </a:cubicBezTo>
                <a:cubicBezTo>
                  <a:pt x="8150" y="14825"/>
                  <a:pt x="8165" y="14899"/>
                  <a:pt x="8210" y="14957"/>
                </a:cubicBezTo>
                <a:cubicBezTo>
                  <a:pt x="8267" y="15031"/>
                  <a:pt x="8336" y="15097"/>
                  <a:pt x="8384" y="15180"/>
                </a:cubicBezTo>
                <a:cubicBezTo>
                  <a:pt x="8443" y="15281"/>
                  <a:pt x="8517" y="15357"/>
                  <a:pt x="8582" y="15453"/>
                </a:cubicBezTo>
                <a:cubicBezTo>
                  <a:pt x="8615" y="15502"/>
                  <a:pt x="8642" y="15570"/>
                  <a:pt x="8706" y="15577"/>
                </a:cubicBezTo>
                <a:cubicBezTo>
                  <a:pt x="8734" y="15577"/>
                  <a:pt x="8745" y="15575"/>
                  <a:pt x="8756" y="15553"/>
                </a:cubicBezTo>
              </a:path>
              <a:path w="1018" h="1191">
                <a:moveTo>
                  <a:pt x="8483" y="14709"/>
                </a:moveTo>
                <a:cubicBezTo>
                  <a:pt x="8423" y="14812"/>
                  <a:pt x="8380" y="14899"/>
                  <a:pt x="8334" y="15007"/>
                </a:cubicBezTo>
                <a:cubicBezTo>
                  <a:pt x="8292" y="15106"/>
                  <a:pt x="8256" y="15207"/>
                  <a:pt x="8210" y="15304"/>
                </a:cubicBezTo>
                <a:cubicBezTo>
                  <a:pt x="8188" y="15351"/>
                  <a:pt x="8161" y="15416"/>
                  <a:pt x="8136" y="15453"/>
                </a:cubicBezTo>
                <a:cubicBezTo>
                  <a:pt x="8128" y="15461"/>
                  <a:pt x="8119" y="15470"/>
                  <a:pt x="8111" y="15478"/>
                </a:cubicBezTo>
              </a:path>
              <a:path w="1018" h="1191">
                <a:moveTo>
                  <a:pt x="8806" y="14387"/>
                </a:moveTo>
                <a:cubicBezTo>
                  <a:pt x="8843" y="14416"/>
                  <a:pt x="8857" y="14412"/>
                  <a:pt x="8905" y="14412"/>
                </a:cubicBezTo>
                <a:cubicBezTo>
                  <a:pt x="8940" y="14412"/>
                  <a:pt x="8978" y="14419"/>
                  <a:pt x="9004" y="14436"/>
                </a:cubicBezTo>
                <a:cubicBezTo>
                  <a:pt x="9047" y="14464"/>
                  <a:pt x="9054" y="14490"/>
                  <a:pt x="9054" y="14536"/>
                </a:cubicBezTo>
                <a:cubicBezTo>
                  <a:pt x="9054" y="14593"/>
                  <a:pt x="8996" y="14585"/>
                  <a:pt x="8979" y="14610"/>
                </a:cubicBezTo>
                <a:cubicBezTo>
                  <a:pt x="8961" y="14637"/>
                  <a:pt x="8901" y="14645"/>
                  <a:pt x="8930" y="14660"/>
                </a:cubicBezTo>
                <a:cubicBezTo>
                  <a:pt x="8965" y="14678"/>
                  <a:pt x="8977" y="14664"/>
                  <a:pt x="9004" y="14684"/>
                </a:cubicBezTo>
                <a:cubicBezTo>
                  <a:pt x="9061" y="14726"/>
                  <a:pt x="9054" y="14756"/>
                  <a:pt x="9079" y="14808"/>
                </a:cubicBezTo>
                <a:cubicBezTo>
                  <a:pt x="9107" y="14865"/>
                  <a:pt x="9103" y="14913"/>
                  <a:pt x="9103" y="14982"/>
                </a:cubicBezTo>
                <a:cubicBezTo>
                  <a:pt x="9103" y="15009"/>
                  <a:pt x="9079" y="15029"/>
                  <a:pt x="9054" y="15032"/>
                </a:cubicBezTo>
                <a:cubicBezTo>
                  <a:pt x="9001" y="15039"/>
                  <a:pt x="8969" y="14995"/>
                  <a:pt x="8930" y="14982"/>
                </a:cubicBezTo>
                <a:cubicBezTo>
                  <a:pt x="8905" y="14974"/>
                  <a:pt x="8861" y="14944"/>
                  <a:pt x="8855" y="14932"/>
                </a:cubicBezTo>
                <a:cubicBezTo>
                  <a:pt x="8855" y="14924"/>
                  <a:pt x="8855" y="14916"/>
                  <a:pt x="8855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54280" y="5330880"/>
            <a:ext cx="115920" cy="260280"/>
          </a:xfrm>
          <a:custGeom>
            <a:avLst/>
            <a:gdLst/>
            <a:ahLst/>
            <a:rect l="l" t="t" r="r" b="b"/>
            <a:pathLst>
              <a:path w="324" h="721">
                <a:moveTo>
                  <a:pt x="9996" y="14808"/>
                </a:moveTo>
                <a:cubicBezTo>
                  <a:pt x="10009" y="14858"/>
                  <a:pt x="10021" y="14872"/>
                  <a:pt x="10021" y="14932"/>
                </a:cubicBezTo>
                <a:cubicBezTo>
                  <a:pt x="10021" y="15013"/>
                  <a:pt x="10034" y="15081"/>
                  <a:pt x="10046" y="15156"/>
                </a:cubicBezTo>
                <a:cubicBezTo>
                  <a:pt x="10060" y="15245"/>
                  <a:pt x="10065" y="15340"/>
                  <a:pt x="10071" y="15429"/>
                </a:cubicBezTo>
                <a:cubicBezTo>
                  <a:pt x="10073" y="15462"/>
                  <a:pt x="10067" y="15560"/>
                  <a:pt x="10096" y="15503"/>
                </a:cubicBezTo>
              </a:path>
              <a:path w="324" h="721">
                <a:moveTo>
                  <a:pt x="9872" y="15180"/>
                </a:moveTo>
                <a:cubicBezTo>
                  <a:pt x="9983" y="15235"/>
                  <a:pt x="10080" y="15303"/>
                  <a:pt x="10195" y="153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83040" y="5241960"/>
            <a:ext cx="677880" cy="446040"/>
          </a:xfrm>
          <a:custGeom>
            <a:avLst/>
            <a:gdLst/>
            <a:ahLst/>
            <a:rect l="l" t="t" r="r" b="b"/>
            <a:pathLst>
              <a:path w="1886" h="1242">
                <a:moveTo>
                  <a:pt x="11063" y="14932"/>
                </a:moveTo>
                <a:cubicBezTo>
                  <a:pt x="11190" y="14932"/>
                  <a:pt x="11215" y="14924"/>
                  <a:pt x="11311" y="14982"/>
                </a:cubicBezTo>
                <a:cubicBezTo>
                  <a:pt x="11363" y="15014"/>
                  <a:pt x="11405" y="15042"/>
                  <a:pt x="11435" y="15081"/>
                </a:cubicBezTo>
                <a:cubicBezTo>
                  <a:pt x="11453" y="15104"/>
                  <a:pt x="11453" y="15127"/>
                  <a:pt x="11410" y="15156"/>
                </a:cubicBezTo>
                <a:cubicBezTo>
                  <a:pt x="11374" y="15181"/>
                  <a:pt x="11315" y="15182"/>
                  <a:pt x="11286" y="15205"/>
                </a:cubicBezTo>
                <a:cubicBezTo>
                  <a:pt x="11280" y="15210"/>
                  <a:pt x="11164" y="15277"/>
                  <a:pt x="11162" y="15280"/>
                </a:cubicBezTo>
                <a:cubicBezTo>
                  <a:pt x="11162" y="15288"/>
                  <a:pt x="11162" y="15296"/>
                  <a:pt x="11162" y="15304"/>
                </a:cubicBezTo>
                <a:cubicBezTo>
                  <a:pt x="11198" y="15304"/>
                  <a:pt x="11234" y="15311"/>
                  <a:pt x="11261" y="15329"/>
                </a:cubicBezTo>
                <a:cubicBezTo>
                  <a:pt x="11300" y="15355"/>
                  <a:pt x="11380" y="15394"/>
                  <a:pt x="11410" y="15429"/>
                </a:cubicBezTo>
                <a:cubicBezTo>
                  <a:pt x="11444" y="15468"/>
                  <a:pt x="11498" y="15551"/>
                  <a:pt x="11509" y="15602"/>
                </a:cubicBezTo>
                <a:cubicBezTo>
                  <a:pt x="11520" y="15655"/>
                  <a:pt x="11514" y="15746"/>
                  <a:pt x="11460" y="15776"/>
                </a:cubicBezTo>
                <a:cubicBezTo>
                  <a:pt x="11394" y="15813"/>
                  <a:pt x="11364" y="15791"/>
                  <a:pt x="11286" y="15776"/>
                </a:cubicBezTo>
                <a:cubicBezTo>
                  <a:pt x="11244" y="15768"/>
                  <a:pt x="11217" y="15745"/>
                  <a:pt x="11212" y="15701"/>
                </a:cubicBezTo>
                <a:cubicBezTo>
                  <a:pt x="11206" y="15650"/>
                  <a:pt x="11227" y="15637"/>
                  <a:pt x="11261" y="15602"/>
                </a:cubicBezTo>
              </a:path>
              <a:path w="1886" h="1242">
                <a:moveTo>
                  <a:pt x="12005" y="15081"/>
                </a:moveTo>
                <a:cubicBezTo>
                  <a:pt x="12099" y="15229"/>
                  <a:pt x="12169" y="15388"/>
                  <a:pt x="12278" y="15528"/>
                </a:cubicBezTo>
                <a:cubicBezTo>
                  <a:pt x="12325" y="15588"/>
                  <a:pt x="12375" y="15676"/>
                  <a:pt x="12452" y="15701"/>
                </a:cubicBezTo>
                <a:cubicBezTo>
                  <a:pt x="12480" y="15701"/>
                  <a:pt x="12491" y="15699"/>
                  <a:pt x="12502" y="15677"/>
                </a:cubicBezTo>
              </a:path>
              <a:path w="1886" h="1242">
                <a:moveTo>
                  <a:pt x="12378" y="14982"/>
                </a:moveTo>
                <a:cubicBezTo>
                  <a:pt x="12315" y="15079"/>
                  <a:pt x="12209" y="15202"/>
                  <a:pt x="12154" y="15304"/>
                </a:cubicBezTo>
                <a:cubicBezTo>
                  <a:pt x="12112" y="15381"/>
                  <a:pt x="12043" y="15447"/>
                  <a:pt x="12005" y="15528"/>
                </a:cubicBezTo>
                <a:cubicBezTo>
                  <a:pt x="11978" y="15586"/>
                  <a:pt x="12004" y="15563"/>
                  <a:pt x="12030" y="15528"/>
                </a:cubicBezTo>
              </a:path>
              <a:path w="1886" h="1242">
                <a:moveTo>
                  <a:pt x="12650" y="14585"/>
                </a:moveTo>
                <a:cubicBezTo>
                  <a:pt x="12704" y="14578"/>
                  <a:pt x="12815" y="14536"/>
                  <a:pt x="12824" y="14610"/>
                </a:cubicBezTo>
                <a:cubicBezTo>
                  <a:pt x="12831" y="14668"/>
                  <a:pt x="12801" y="14666"/>
                  <a:pt x="12774" y="14709"/>
                </a:cubicBezTo>
                <a:cubicBezTo>
                  <a:pt x="12751" y="14746"/>
                  <a:pt x="12692" y="14795"/>
                  <a:pt x="12675" y="14833"/>
                </a:cubicBezTo>
                <a:cubicBezTo>
                  <a:pt x="12675" y="14861"/>
                  <a:pt x="12673" y="14872"/>
                  <a:pt x="12650" y="14883"/>
                </a:cubicBezTo>
                <a:cubicBezTo>
                  <a:pt x="12683" y="14916"/>
                  <a:pt x="12717" y="14948"/>
                  <a:pt x="12750" y="14982"/>
                </a:cubicBezTo>
                <a:cubicBezTo>
                  <a:pt x="12809" y="15043"/>
                  <a:pt x="12868" y="15032"/>
                  <a:pt x="12948" y="150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94200" y="5411880"/>
            <a:ext cx="187560" cy="196920"/>
          </a:xfrm>
          <a:custGeom>
            <a:avLst/>
            <a:gdLst/>
            <a:ahLst/>
            <a:rect l="l" t="t" r="r" b="b"/>
            <a:pathLst>
              <a:path w="522" h="546">
                <a:moveTo>
                  <a:pt x="13643" y="15032"/>
                </a:moveTo>
                <a:cubicBezTo>
                  <a:pt x="13643" y="15096"/>
                  <a:pt x="13624" y="15148"/>
                  <a:pt x="13618" y="15205"/>
                </a:cubicBezTo>
                <a:cubicBezTo>
                  <a:pt x="13608" y="15301"/>
                  <a:pt x="13629" y="15367"/>
                  <a:pt x="13643" y="15453"/>
                </a:cubicBezTo>
                <a:cubicBezTo>
                  <a:pt x="13649" y="15491"/>
                  <a:pt x="13643" y="15538"/>
                  <a:pt x="13643" y="15577"/>
                </a:cubicBezTo>
              </a:path>
              <a:path w="522" h="546">
                <a:moveTo>
                  <a:pt x="13593" y="15255"/>
                </a:moveTo>
                <a:cubicBezTo>
                  <a:pt x="13736" y="15273"/>
                  <a:pt x="13920" y="15322"/>
                  <a:pt x="14064" y="15304"/>
                </a:cubicBezTo>
                <a:cubicBezTo>
                  <a:pt x="14081" y="15296"/>
                  <a:pt x="14097" y="15288"/>
                  <a:pt x="14114" y="152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03880" y="5340240"/>
            <a:ext cx="411120" cy="339840"/>
          </a:xfrm>
          <a:custGeom>
            <a:avLst/>
            <a:gdLst/>
            <a:ahLst/>
            <a:rect l="l" t="t" r="r" b="b"/>
            <a:pathLst>
              <a:path w="1142" h="944">
                <a:moveTo>
                  <a:pt x="14734" y="14833"/>
                </a:moveTo>
                <a:cubicBezTo>
                  <a:pt x="14964" y="14873"/>
                  <a:pt x="14885" y="14852"/>
                  <a:pt x="15007" y="14957"/>
                </a:cubicBezTo>
                <a:cubicBezTo>
                  <a:pt x="15039" y="14984"/>
                  <a:pt x="15086" y="15025"/>
                  <a:pt x="15056" y="15081"/>
                </a:cubicBezTo>
                <a:cubicBezTo>
                  <a:pt x="15043" y="15105"/>
                  <a:pt x="14956" y="15146"/>
                  <a:pt x="14932" y="15156"/>
                </a:cubicBezTo>
                <a:cubicBezTo>
                  <a:pt x="14898" y="15170"/>
                  <a:pt x="14874" y="15180"/>
                  <a:pt x="14833" y="15180"/>
                </a:cubicBezTo>
                <a:cubicBezTo>
                  <a:pt x="14825" y="15180"/>
                  <a:pt x="14816" y="15180"/>
                  <a:pt x="14808" y="15180"/>
                </a:cubicBezTo>
                <a:cubicBezTo>
                  <a:pt x="14817" y="15208"/>
                  <a:pt x="14891" y="15267"/>
                  <a:pt x="14932" y="15280"/>
                </a:cubicBezTo>
                <a:cubicBezTo>
                  <a:pt x="14990" y="15298"/>
                  <a:pt x="15083" y="15302"/>
                  <a:pt x="15131" y="15354"/>
                </a:cubicBezTo>
                <a:cubicBezTo>
                  <a:pt x="15194" y="15423"/>
                  <a:pt x="15216" y="15528"/>
                  <a:pt x="15205" y="15602"/>
                </a:cubicBezTo>
                <a:cubicBezTo>
                  <a:pt x="15199" y="15639"/>
                  <a:pt x="15143" y="15725"/>
                  <a:pt x="15106" y="15751"/>
                </a:cubicBezTo>
                <a:cubicBezTo>
                  <a:pt x="15068" y="15778"/>
                  <a:pt x="14977" y="15793"/>
                  <a:pt x="14932" y="15776"/>
                </a:cubicBezTo>
                <a:cubicBezTo>
                  <a:pt x="14889" y="15759"/>
                  <a:pt x="14847" y="15685"/>
                  <a:pt x="14833" y="15652"/>
                </a:cubicBezTo>
                <a:cubicBezTo>
                  <a:pt x="14811" y="15608"/>
                  <a:pt x="14798" y="15596"/>
                  <a:pt x="14833" y="15577"/>
                </a:cubicBezTo>
              </a:path>
              <a:path w="1142" h="944">
                <a:moveTo>
                  <a:pt x="15354" y="15007"/>
                </a:moveTo>
                <a:cubicBezTo>
                  <a:pt x="15399" y="15063"/>
                  <a:pt x="15465" y="15121"/>
                  <a:pt x="15503" y="15180"/>
                </a:cubicBezTo>
                <a:cubicBezTo>
                  <a:pt x="15588" y="15311"/>
                  <a:pt x="15663" y="15449"/>
                  <a:pt x="15751" y="15577"/>
                </a:cubicBezTo>
                <a:cubicBezTo>
                  <a:pt x="15781" y="15637"/>
                  <a:pt x="15799" y="15660"/>
                  <a:pt x="15850" y="15677"/>
                </a:cubicBezTo>
              </a:path>
              <a:path w="1142" h="944">
                <a:moveTo>
                  <a:pt x="15875" y="14982"/>
                </a:moveTo>
                <a:cubicBezTo>
                  <a:pt x="15760" y="15076"/>
                  <a:pt x="15677" y="15175"/>
                  <a:pt x="15577" y="15280"/>
                </a:cubicBezTo>
                <a:cubicBezTo>
                  <a:pt x="15503" y="15357"/>
                  <a:pt x="15395" y="15427"/>
                  <a:pt x="15329" y="15503"/>
                </a:cubicBezTo>
                <a:cubicBezTo>
                  <a:pt x="15302" y="15534"/>
                  <a:pt x="15275" y="15591"/>
                  <a:pt x="15255" y="156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72120" y="5392800"/>
            <a:ext cx="142920" cy="216000"/>
          </a:xfrm>
          <a:custGeom>
            <a:avLst/>
            <a:gdLst/>
            <a:ahLst/>
            <a:rect l="l" t="t" r="r" b="b"/>
            <a:pathLst>
              <a:path w="398" h="596">
                <a:moveTo>
                  <a:pt x="17016" y="14982"/>
                </a:moveTo>
                <a:cubicBezTo>
                  <a:pt x="17016" y="15082"/>
                  <a:pt x="17009" y="15156"/>
                  <a:pt x="17016" y="15255"/>
                </a:cubicBezTo>
                <a:cubicBezTo>
                  <a:pt x="17021" y="15330"/>
                  <a:pt x="17016" y="15458"/>
                  <a:pt x="17041" y="15528"/>
                </a:cubicBezTo>
                <a:cubicBezTo>
                  <a:pt x="17063" y="15550"/>
                  <a:pt x="17072" y="15555"/>
                  <a:pt x="17066" y="15577"/>
                </a:cubicBezTo>
              </a:path>
              <a:path w="398" h="596">
                <a:moveTo>
                  <a:pt x="16867" y="15329"/>
                </a:moveTo>
                <a:cubicBezTo>
                  <a:pt x="17002" y="15358"/>
                  <a:pt x="17128" y="15395"/>
                  <a:pt x="17264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83240" y="5429160"/>
            <a:ext cx="17640" cy="285840"/>
          </a:xfrm>
          <a:custGeom>
            <a:avLst/>
            <a:gdLst/>
            <a:ahLst/>
            <a:rect l="l" t="t" r="r" b="b"/>
            <a:pathLst>
              <a:path w="51" h="795">
                <a:moveTo>
                  <a:pt x="18008" y="15081"/>
                </a:moveTo>
                <a:cubicBezTo>
                  <a:pt x="18008" y="15222"/>
                  <a:pt x="17929" y="15734"/>
                  <a:pt x="18033" y="15850"/>
                </a:cubicBezTo>
                <a:cubicBezTo>
                  <a:pt x="18041" y="15858"/>
                  <a:pt x="18050" y="15867"/>
                  <a:pt x="18058" y="158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8320" y="5715000"/>
            <a:ext cx="527040" cy="527040"/>
          </a:xfrm>
          <a:custGeom>
            <a:avLst/>
            <a:gdLst/>
            <a:ahLst/>
            <a:rect l="l" t="t" r="r" b="b"/>
            <a:pathLst>
              <a:path w="1464" h="1464">
                <a:moveTo>
                  <a:pt x="1736" y="16346"/>
                </a:moveTo>
                <a:cubicBezTo>
                  <a:pt x="1736" y="16402"/>
                  <a:pt x="1761" y="16441"/>
                  <a:pt x="1786" y="16495"/>
                </a:cubicBezTo>
                <a:cubicBezTo>
                  <a:pt x="1819" y="16567"/>
                  <a:pt x="1871" y="16677"/>
                  <a:pt x="1910" y="16743"/>
                </a:cubicBezTo>
                <a:cubicBezTo>
                  <a:pt x="1957" y="16822"/>
                  <a:pt x="2023" y="16924"/>
                  <a:pt x="2084" y="16991"/>
                </a:cubicBezTo>
                <a:cubicBezTo>
                  <a:pt x="2153" y="17067"/>
                  <a:pt x="2220" y="17134"/>
                  <a:pt x="2282" y="17214"/>
                </a:cubicBezTo>
                <a:cubicBezTo>
                  <a:pt x="2314" y="17256"/>
                  <a:pt x="2354" y="17284"/>
                  <a:pt x="2406" y="17289"/>
                </a:cubicBezTo>
                <a:cubicBezTo>
                  <a:pt x="2431" y="17289"/>
                  <a:pt x="2439" y="17289"/>
                  <a:pt x="2431" y="17264"/>
                </a:cubicBezTo>
              </a:path>
              <a:path w="1464" h="1464">
                <a:moveTo>
                  <a:pt x="2208" y="16247"/>
                </a:moveTo>
                <a:cubicBezTo>
                  <a:pt x="2147" y="16262"/>
                  <a:pt x="2147" y="16298"/>
                  <a:pt x="2108" y="16346"/>
                </a:cubicBezTo>
                <a:cubicBezTo>
                  <a:pt x="2050" y="16417"/>
                  <a:pt x="2009" y="16492"/>
                  <a:pt x="1960" y="16570"/>
                </a:cubicBezTo>
                <a:cubicBezTo>
                  <a:pt x="1896" y="16672"/>
                  <a:pt x="1870" y="16787"/>
                  <a:pt x="1811" y="16892"/>
                </a:cubicBezTo>
                <a:cubicBezTo>
                  <a:pt x="1750" y="17000"/>
                  <a:pt x="1743" y="17077"/>
                  <a:pt x="1712" y="17190"/>
                </a:cubicBezTo>
                <a:cubicBezTo>
                  <a:pt x="1699" y="17239"/>
                  <a:pt x="1673" y="17270"/>
                  <a:pt x="1662" y="17314"/>
                </a:cubicBezTo>
                <a:cubicBezTo>
                  <a:pt x="1648" y="17369"/>
                  <a:pt x="1662" y="17304"/>
                  <a:pt x="1662" y="17289"/>
                </a:cubicBezTo>
              </a:path>
              <a:path w="1464" h="1464">
                <a:moveTo>
                  <a:pt x="2332" y="15900"/>
                </a:moveTo>
                <a:cubicBezTo>
                  <a:pt x="2358" y="15889"/>
                  <a:pt x="2422" y="15856"/>
                  <a:pt x="2456" y="15875"/>
                </a:cubicBezTo>
                <a:cubicBezTo>
                  <a:pt x="2497" y="15898"/>
                  <a:pt x="2504" y="15900"/>
                  <a:pt x="2555" y="15900"/>
                </a:cubicBezTo>
              </a:path>
              <a:path w="1464" h="1464">
                <a:moveTo>
                  <a:pt x="2356" y="15925"/>
                </a:moveTo>
                <a:cubicBezTo>
                  <a:pt x="2340" y="15952"/>
                  <a:pt x="2280" y="16026"/>
                  <a:pt x="2307" y="16073"/>
                </a:cubicBezTo>
                <a:cubicBezTo>
                  <a:pt x="2322" y="16099"/>
                  <a:pt x="2380" y="16120"/>
                  <a:pt x="2406" y="16123"/>
                </a:cubicBezTo>
                <a:cubicBezTo>
                  <a:pt x="2460" y="16129"/>
                  <a:pt x="2484" y="16133"/>
                  <a:pt x="2530" y="16148"/>
                </a:cubicBezTo>
                <a:cubicBezTo>
                  <a:pt x="2561" y="16158"/>
                  <a:pt x="2612" y="16184"/>
                  <a:pt x="2629" y="16222"/>
                </a:cubicBezTo>
                <a:cubicBezTo>
                  <a:pt x="2658" y="16288"/>
                  <a:pt x="2670" y="16359"/>
                  <a:pt x="2629" y="16421"/>
                </a:cubicBezTo>
                <a:cubicBezTo>
                  <a:pt x="2603" y="16459"/>
                  <a:pt x="2569" y="16467"/>
                  <a:pt x="2530" y="16470"/>
                </a:cubicBezTo>
                <a:cubicBezTo>
                  <a:pt x="2495" y="16473"/>
                  <a:pt x="2456" y="16462"/>
                  <a:pt x="2431" y="16446"/>
                </a:cubicBezTo>
                <a:cubicBezTo>
                  <a:pt x="2406" y="16421"/>
                  <a:pt x="2398" y="16413"/>
                  <a:pt x="2381" y="16396"/>
                </a:cubicBezTo>
              </a:path>
              <a:path w="1464" h="1464">
                <a:moveTo>
                  <a:pt x="3026" y="16297"/>
                </a:moveTo>
                <a:cubicBezTo>
                  <a:pt x="3026" y="16381"/>
                  <a:pt x="3011" y="16444"/>
                  <a:pt x="3001" y="16520"/>
                </a:cubicBezTo>
                <a:cubicBezTo>
                  <a:pt x="2988" y="16622"/>
                  <a:pt x="3004" y="16724"/>
                  <a:pt x="3026" y="16818"/>
                </a:cubicBezTo>
                <a:cubicBezTo>
                  <a:pt x="3026" y="16826"/>
                  <a:pt x="3026" y="16834"/>
                  <a:pt x="3026" y="16842"/>
                </a:cubicBezTo>
              </a:path>
              <a:path w="1464" h="1464">
                <a:moveTo>
                  <a:pt x="2853" y="16446"/>
                </a:moveTo>
                <a:cubicBezTo>
                  <a:pt x="2907" y="16459"/>
                  <a:pt x="2964" y="16489"/>
                  <a:pt x="3026" y="16495"/>
                </a:cubicBezTo>
                <a:cubicBezTo>
                  <a:pt x="3059" y="16495"/>
                  <a:pt x="3092" y="16495"/>
                  <a:pt x="3125" y="164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03200" y="5143680"/>
            <a:ext cx="1554480" cy="1090440"/>
          </a:xfrm>
          <a:custGeom>
            <a:avLst/>
            <a:gdLst/>
            <a:ahLst/>
            <a:rect l="l" t="t" r="r" b="b"/>
            <a:pathLst>
              <a:path w="4318" h="3027">
                <a:moveTo>
                  <a:pt x="3621" y="16073"/>
                </a:moveTo>
                <a:cubicBezTo>
                  <a:pt x="3660" y="16125"/>
                  <a:pt x="3646" y="16179"/>
                  <a:pt x="3646" y="16247"/>
                </a:cubicBezTo>
                <a:cubicBezTo>
                  <a:pt x="3646" y="16343"/>
                  <a:pt x="3630" y="16428"/>
                  <a:pt x="3621" y="16520"/>
                </a:cubicBezTo>
                <a:cubicBezTo>
                  <a:pt x="3605" y="16688"/>
                  <a:pt x="3609" y="16883"/>
                  <a:pt x="3646" y="17041"/>
                </a:cubicBezTo>
                <a:cubicBezTo>
                  <a:pt x="3646" y="17049"/>
                  <a:pt x="3646" y="17058"/>
                  <a:pt x="3646" y="17066"/>
                </a:cubicBezTo>
              </a:path>
              <a:path w="4318" h="3027">
                <a:moveTo>
                  <a:pt x="3870" y="16123"/>
                </a:moveTo>
                <a:cubicBezTo>
                  <a:pt x="3954" y="16072"/>
                  <a:pt x="3952" y="16073"/>
                  <a:pt x="4043" y="16073"/>
                </a:cubicBezTo>
                <a:cubicBezTo>
                  <a:pt x="4125" y="16073"/>
                  <a:pt x="4190" y="16077"/>
                  <a:pt x="4266" y="16049"/>
                </a:cubicBezTo>
              </a:path>
              <a:path w="4318" h="3027">
                <a:moveTo>
                  <a:pt x="4043" y="15999"/>
                </a:moveTo>
                <a:cubicBezTo>
                  <a:pt x="4019" y="16030"/>
                  <a:pt x="3925" y="16123"/>
                  <a:pt x="3919" y="16173"/>
                </a:cubicBezTo>
                <a:cubicBezTo>
                  <a:pt x="3913" y="16228"/>
                  <a:pt x="3934" y="16275"/>
                  <a:pt x="3944" y="16297"/>
                </a:cubicBezTo>
                <a:cubicBezTo>
                  <a:pt x="3959" y="16332"/>
                  <a:pt x="3972" y="16321"/>
                  <a:pt x="4018" y="16321"/>
                </a:cubicBezTo>
                <a:cubicBezTo>
                  <a:pt x="4069" y="16321"/>
                  <a:pt x="4077" y="16332"/>
                  <a:pt x="4118" y="16346"/>
                </a:cubicBezTo>
                <a:cubicBezTo>
                  <a:pt x="4147" y="16356"/>
                  <a:pt x="4220" y="16396"/>
                  <a:pt x="4242" y="16421"/>
                </a:cubicBezTo>
                <a:cubicBezTo>
                  <a:pt x="4276" y="16460"/>
                  <a:pt x="4288" y="16546"/>
                  <a:pt x="4291" y="16594"/>
                </a:cubicBezTo>
                <a:cubicBezTo>
                  <a:pt x="4295" y="16668"/>
                  <a:pt x="4306" y="16753"/>
                  <a:pt x="4266" y="16818"/>
                </a:cubicBezTo>
                <a:cubicBezTo>
                  <a:pt x="4242" y="16857"/>
                  <a:pt x="4191" y="16898"/>
                  <a:pt x="4167" y="16917"/>
                </a:cubicBezTo>
                <a:cubicBezTo>
                  <a:pt x="4106" y="16965"/>
                  <a:pt x="4084" y="16934"/>
                  <a:pt x="4018" y="16917"/>
                </a:cubicBezTo>
                <a:cubicBezTo>
                  <a:pt x="3985" y="16909"/>
                  <a:pt x="3922" y="16884"/>
                  <a:pt x="3894" y="16867"/>
                </a:cubicBezTo>
                <a:cubicBezTo>
                  <a:pt x="3841" y="16834"/>
                  <a:pt x="3845" y="16799"/>
                  <a:pt x="3845" y="16743"/>
                </a:cubicBezTo>
              </a:path>
              <a:path w="4318" h="3027">
                <a:moveTo>
                  <a:pt x="4614" y="16446"/>
                </a:moveTo>
                <a:cubicBezTo>
                  <a:pt x="4650" y="16566"/>
                  <a:pt x="4681" y="16728"/>
                  <a:pt x="4738" y="16842"/>
                </a:cubicBezTo>
                <a:cubicBezTo>
                  <a:pt x="4776" y="16918"/>
                  <a:pt x="4824" y="17033"/>
                  <a:pt x="4887" y="17090"/>
                </a:cubicBezTo>
                <a:cubicBezTo>
                  <a:pt x="4912" y="17107"/>
                  <a:pt x="4936" y="17123"/>
                  <a:pt x="4961" y="17140"/>
                </a:cubicBezTo>
              </a:path>
              <a:path w="4318" h="3027">
                <a:moveTo>
                  <a:pt x="4961" y="16346"/>
                </a:moveTo>
                <a:cubicBezTo>
                  <a:pt x="4901" y="16421"/>
                  <a:pt x="4756" y="16573"/>
                  <a:pt x="4713" y="16669"/>
                </a:cubicBezTo>
                <a:cubicBezTo>
                  <a:pt x="4666" y="16774"/>
                  <a:pt x="4631" y="16848"/>
                  <a:pt x="4564" y="16942"/>
                </a:cubicBezTo>
                <a:cubicBezTo>
                  <a:pt x="4528" y="16992"/>
                  <a:pt x="4503" y="17043"/>
                  <a:pt x="4465" y="17090"/>
                </a:cubicBezTo>
              </a:path>
              <a:path w="4318" h="3027">
                <a:moveTo>
                  <a:pt x="5234" y="15974"/>
                </a:moveTo>
                <a:cubicBezTo>
                  <a:pt x="5213" y="16027"/>
                  <a:pt x="5175" y="16076"/>
                  <a:pt x="5159" y="16123"/>
                </a:cubicBezTo>
                <a:cubicBezTo>
                  <a:pt x="5147" y="16159"/>
                  <a:pt x="5135" y="16180"/>
                  <a:pt x="5135" y="16222"/>
                </a:cubicBezTo>
                <a:cubicBezTo>
                  <a:pt x="5135" y="16247"/>
                  <a:pt x="5135" y="16272"/>
                  <a:pt x="5135" y="16297"/>
                </a:cubicBezTo>
                <a:cubicBezTo>
                  <a:pt x="5176" y="16297"/>
                  <a:pt x="5218" y="16297"/>
                  <a:pt x="5259" y="16297"/>
                </a:cubicBezTo>
              </a:path>
              <a:path w="4318" h="3027">
                <a:moveTo>
                  <a:pt x="5457" y="15875"/>
                </a:moveTo>
                <a:cubicBezTo>
                  <a:pt x="5418" y="15924"/>
                  <a:pt x="5391" y="15987"/>
                  <a:pt x="5383" y="16049"/>
                </a:cubicBezTo>
                <a:cubicBezTo>
                  <a:pt x="5370" y="16150"/>
                  <a:pt x="5358" y="16243"/>
                  <a:pt x="5358" y="16346"/>
                </a:cubicBezTo>
                <a:cubicBezTo>
                  <a:pt x="5358" y="16457"/>
                  <a:pt x="5333" y="16556"/>
                  <a:pt x="5333" y="16669"/>
                </a:cubicBezTo>
                <a:cubicBezTo>
                  <a:pt x="5333" y="16737"/>
                  <a:pt x="5336" y="16756"/>
                  <a:pt x="5308" y="16793"/>
                </a:cubicBezTo>
              </a:path>
              <a:path w="4318" h="3027">
                <a:moveTo>
                  <a:pt x="5804" y="16570"/>
                </a:moveTo>
                <a:cubicBezTo>
                  <a:pt x="5762" y="16624"/>
                  <a:pt x="5800" y="16650"/>
                  <a:pt x="5804" y="16718"/>
                </a:cubicBezTo>
                <a:cubicBezTo>
                  <a:pt x="5808" y="16790"/>
                  <a:pt x="5825" y="16848"/>
                  <a:pt x="5829" y="16917"/>
                </a:cubicBezTo>
                <a:cubicBezTo>
                  <a:pt x="5832" y="16966"/>
                  <a:pt x="5829" y="17017"/>
                  <a:pt x="5829" y="17066"/>
                </a:cubicBezTo>
              </a:path>
              <a:path w="4318" h="3027">
                <a:moveTo>
                  <a:pt x="5556" y="16768"/>
                </a:moveTo>
                <a:cubicBezTo>
                  <a:pt x="5564" y="16760"/>
                  <a:pt x="5573" y="16751"/>
                  <a:pt x="5581" y="16743"/>
                </a:cubicBezTo>
                <a:cubicBezTo>
                  <a:pt x="5623" y="16768"/>
                  <a:pt x="5701" y="16806"/>
                  <a:pt x="5755" y="16818"/>
                </a:cubicBezTo>
                <a:cubicBezTo>
                  <a:pt x="5806" y="16818"/>
                  <a:pt x="5824" y="16819"/>
                  <a:pt x="5854" y="16842"/>
                </a:cubicBezTo>
              </a:path>
              <a:path w="4318" h="3027">
                <a:moveTo>
                  <a:pt x="6449" y="16346"/>
                </a:moveTo>
                <a:cubicBezTo>
                  <a:pt x="6494" y="16354"/>
                  <a:pt x="6519" y="16353"/>
                  <a:pt x="6524" y="16396"/>
                </a:cubicBezTo>
                <a:cubicBezTo>
                  <a:pt x="6527" y="16420"/>
                  <a:pt x="6524" y="16446"/>
                  <a:pt x="6524" y="16470"/>
                </a:cubicBezTo>
                <a:cubicBezTo>
                  <a:pt x="6536" y="16408"/>
                  <a:pt x="6530" y="16400"/>
                  <a:pt x="6524" y="16346"/>
                </a:cubicBezTo>
                <a:cubicBezTo>
                  <a:pt x="6519" y="16298"/>
                  <a:pt x="6470" y="16263"/>
                  <a:pt x="6424" y="16247"/>
                </a:cubicBezTo>
                <a:cubicBezTo>
                  <a:pt x="6372" y="16229"/>
                  <a:pt x="6315" y="16250"/>
                  <a:pt x="6276" y="16272"/>
                </a:cubicBezTo>
                <a:cubicBezTo>
                  <a:pt x="6235" y="16296"/>
                  <a:pt x="6186" y="16323"/>
                  <a:pt x="6176" y="16371"/>
                </a:cubicBezTo>
                <a:cubicBezTo>
                  <a:pt x="6161" y="16439"/>
                  <a:pt x="6187" y="16493"/>
                  <a:pt x="6226" y="16545"/>
                </a:cubicBezTo>
                <a:cubicBezTo>
                  <a:pt x="6253" y="16581"/>
                  <a:pt x="6286" y="16609"/>
                  <a:pt x="6325" y="16619"/>
                </a:cubicBezTo>
              </a:path>
              <a:path w="4318" h="3027">
                <a:moveTo>
                  <a:pt x="6350" y="16594"/>
                </a:moveTo>
                <a:cubicBezTo>
                  <a:pt x="6402" y="16553"/>
                  <a:pt x="6466" y="16516"/>
                  <a:pt x="6474" y="16446"/>
                </a:cubicBezTo>
                <a:cubicBezTo>
                  <a:pt x="6479" y="16401"/>
                  <a:pt x="6519" y="16413"/>
                  <a:pt x="6499" y="16421"/>
                </a:cubicBezTo>
                <a:cubicBezTo>
                  <a:pt x="6475" y="16430"/>
                  <a:pt x="6454" y="16528"/>
                  <a:pt x="6449" y="16570"/>
                </a:cubicBezTo>
                <a:cubicBezTo>
                  <a:pt x="6432" y="16728"/>
                  <a:pt x="6452" y="16888"/>
                  <a:pt x="6474" y="17041"/>
                </a:cubicBezTo>
                <a:cubicBezTo>
                  <a:pt x="6483" y="17104"/>
                  <a:pt x="6474" y="17175"/>
                  <a:pt x="6474" y="17239"/>
                </a:cubicBezTo>
              </a:path>
              <a:path w="4318" h="3027">
                <a:moveTo>
                  <a:pt x="6821" y="16148"/>
                </a:moveTo>
                <a:cubicBezTo>
                  <a:pt x="6791" y="16266"/>
                  <a:pt x="6810" y="16330"/>
                  <a:pt x="6821" y="16446"/>
                </a:cubicBezTo>
                <a:cubicBezTo>
                  <a:pt x="6833" y="16578"/>
                  <a:pt x="6823" y="16711"/>
                  <a:pt x="6846" y="16842"/>
                </a:cubicBezTo>
                <a:cubicBezTo>
                  <a:pt x="6867" y="16961"/>
                  <a:pt x="6899" y="17072"/>
                  <a:pt x="6921" y="17190"/>
                </a:cubicBezTo>
                <a:cubicBezTo>
                  <a:pt x="6931" y="17247"/>
                  <a:pt x="6936" y="17269"/>
                  <a:pt x="6970" y="17314"/>
                </a:cubicBezTo>
              </a:path>
              <a:path w="4318" h="3027">
                <a:moveTo>
                  <a:pt x="7144" y="16545"/>
                </a:moveTo>
                <a:cubicBezTo>
                  <a:pt x="7184" y="16625"/>
                  <a:pt x="7202" y="16716"/>
                  <a:pt x="7243" y="16793"/>
                </a:cubicBezTo>
                <a:cubicBezTo>
                  <a:pt x="7297" y="16897"/>
                  <a:pt x="7337" y="17011"/>
                  <a:pt x="7392" y="17115"/>
                </a:cubicBezTo>
                <a:cubicBezTo>
                  <a:pt x="7443" y="17210"/>
                  <a:pt x="7503" y="17270"/>
                  <a:pt x="7590" y="17314"/>
                </a:cubicBezTo>
              </a:path>
              <a:path w="4318" h="3027">
                <a:moveTo>
                  <a:pt x="7541" y="16570"/>
                </a:moveTo>
                <a:cubicBezTo>
                  <a:pt x="7438" y="16667"/>
                  <a:pt x="7373" y="16750"/>
                  <a:pt x="7293" y="16867"/>
                </a:cubicBezTo>
                <a:cubicBezTo>
                  <a:pt x="7246" y="16937"/>
                  <a:pt x="7207" y="17014"/>
                  <a:pt x="7169" y="17090"/>
                </a:cubicBezTo>
                <a:cubicBezTo>
                  <a:pt x="7146" y="17136"/>
                  <a:pt x="7099" y="17192"/>
                  <a:pt x="7094" y="17239"/>
                </a:cubicBezTo>
                <a:cubicBezTo>
                  <a:pt x="7094" y="17267"/>
                  <a:pt x="7096" y="17273"/>
                  <a:pt x="7119" y="17239"/>
                </a:cubicBezTo>
              </a:path>
              <a:path w="4318" h="3027">
                <a:moveTo>
                  <a:pt x="7689" y="16222"/>
                </a:moveTo>
                <a:cubicBezTo>
                  <a:pt x="7775" y="16222"/>
                  <a:pt x="7775" y="16226"/>
                  <a:pt x="7838" y="16247"/>
                </a:cubicBezTo>
                <a:cubicBezTo>
                  <a:pt x="7868" y="16257"/>
                  <a:pt x="7879" y="16268"/>
                  <a:pt x="7913" y="16297"/>
                </a:cubicBezTo>
                <a:cubicBezTo>
                  <a:pt x="7952" y="16331"/>
                  <a:pt x="7937" y="16374"/>
                  <a:pt x="7888" y="16396"/>
                </a:cubicBezTo>
                <a:cubicBezTo>
                  <a:pt x="7864" y="16406"/>
                  <a:pt x="7804" y="16398"/>
                  <a:pt x="7789" y="16421"/>
                </a:cubicBezTo>
                <a:cubicBezTo>
                  <a:pt x="7789" y="16446"/>
                  <a:pt x="7789" y="16454"/>
                  <a:pt x="7764" y="16446"/>
                </a:cubicBezTo>
                <a:cubicBezTo>
                  <a:pt x="7785" y="16461"/>
                  <a:pt x="7832" y="16492"/>
                  <a:pt x="7838" y="16495"/>
                </a:cubicBezTo>
                <a:cubicBezTo>
                  <a:pt x="7876" y="16514"/>
                  <a:pt x="7907" y="16518"/>
                  <a:pt x="7913" y="16570"/>
                </a:cubicBezTo>
                <a:cubicBezTo>
                  <a:pt x="7918" y="16610"/>
                  <a:pt x="7938" y="16623"/>
                  <a:pt x="7938" y="16669"/>
                </a:cubicBezTo>
                <a:cubicBezTo>
                  <a:pt x="7938" y="16744"/>
                  <a:pt x="7907" y="16762"/>
                  <a:pt x="7838" y="16768"/>
                </a:cubicBezTo>
                <a:cubicBezTo>
                  <a:pt x="7775" y="16773"/>
                  <a:pt x="7776" y="16697"/>
                  <a:pt x="7739" y="16669"/>
                </a:cubicBezTo>
                <a:cubicBezTo>
                  <a:pt x="7713" y="16649"/>
                  <a:pt x="7717" y="16657"/>
                  <a:pt x="7689" y="16619"/>
                </a:cubicBezTo>
              </a:path>
              <a:path w="4318" h="3027">
                <a:moveTo>
                  <a:pt x="7863" y="14288"/>
                </a:moveTo>
                <a:cubicBezTo>
                  <a:pt x="7863" y="14362"/>
                  <a:pt x="7877" y="14414"/>
                  <a:pt x="7888" y="14486"/>
                </a:cubicBezTo>
                <a:cubicBezTo>
                  <a:pt x="7932" y="14780"/>
                  <a:pt x="7612" y="15440"/>
                  <a:pt x="7888" y="15329"/>
                </a:cubicBezTo>
                <a:cubicBezTo>
                  <a:pt x="7919" y="15317"/>
                  <a:pt x="7902" y="15347"/>
                  <a:pt x="7888" y="153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17880" y="5848200"/>
            <a:ext cx="3376440" cy="528840"/>
          </a:xfrm>
          <a:custGeom>
            <a:avLst/>
            <a:gdLst/>
            <a:ahLst/>
            <a:rect l="l" t="t" r="r" b="b"/>
            <a:pathLst>
              <a:path w="9377" h="1465">
                <a:moveTo>
                  <a:pt x="8558" y="16371"/>
                </a:moveTo>
                <a:cubicBezTo>
                  <a:pt x="8545" y="16421"/>
                  <a:pt x="8533" y="16435"/>
                  <a:pt x="8533" y="16495"/>
                </a:cubicBezTo>
                <a:cubicBezTo>
                  <a:pt x="8533" y="16631"/>
                  <a:pt x="8541" y="16763"/>
                  <a:pt x="8558" y="16892"/>
                </a:cubicBezTo>
                <a:cubicBezTo>
                  <a:pt x="8558" y="16917"/>
                  <a:pt x="8558" y="16941"/>
                  <a:pt x="8558" y="16966"/>
                </a:cubicBezTo>
              </a:path>
              <a:path w="9377" h="1465">
                <a:moveTo>
                  <a:pt x="8384" y="16743"/>
                </a:moveTo>
                <a:cubicBezTo>
                  <a:pt x="8423" y="16754"/>
                  <a:pt x="8543" y="16804"/>
                  <a:pt x="8582" y="16793"/>
                </a:cubicBezTo>
                <a:cubicBezTo>
                  <a:pt x="8599" y="16785"/>
                  <a:pt x="8615" y="16776"/>
                  <a:pt x="8632" y="16768"/>
                </a:cubicBezTo>
              </a:path>
              <a:path w="9377" h="1465">
                <a:moveTo>
                  <a:pt x="8880" y="16346"/>
                </a:moveTo>
                <a:cubicBezTo>
                  <a:pt x="8935" y="16322"/>
                  <a:pt x="8956" y="16314"/>
                  <a:pt x="9004" y="16346"/>
                </a:cubicBezTo>
                <a:cubicBezTo>
                  <a:pt x="9042" y="16371"/>
                  <a:pt x="9068" y="16386"/>
                  <a:pt x="9103" y="16421"/>
                </a:cubicBezTo>
                <a:cubicBezTo>
                  <a:pt x="9138" y="16457"/>
                  <a:pt x="9150" y="16495"/>
                  <a:pt x="9153" y="16545"/>
                </a:cubicBezTo>
                <a:cubicBezTo>
                  <a:pt x="9158" y="16628"/>
                  <a:pt x="9162" y="16716"/>
                  <a:pt x="9128" y="16793"/>
                </a:cubicBezTo>
                <a:cubicBezTo>
                  <a:pt x="9075" y="16913"/>
                  <a:pt x="9015" y="17064"/>
                  <a:pt x="8930" y="17165"/>
                </a:cubicBezTo>
                <a:cubicBezTo>
                  <a:pt x="8901" y="17199"/>
                  <a:pt x="8851" y="17259"/>
                  <a:pt x="8806" y="17264"/>
                </a:cubicBezTo>
                <a:cubicBezTo>
                  <a:pt x="8765" y="17269"/>
                  <a:pt x="8763" y="17263"/>
                  <a:pt x="8731" y="17239"/>
                </a:cubicBezTo>
                <a:cubicBezTo>
                  <a:pt x="8731" y="17202"/>
                  <a:pt x="8741" y="17145"/>
                  <a:pt x="8756" y="17115"/>
                </a:cubicBezTo>
                <a:cubicBezTo>
                  <a:pt x="8780" y="17066"/>
                  <a:pt x="8788" y="17034"/>
                  <a:pt x="8830" y="16991"/>
                </a:cubicBezTo>
                <a:cubicBezTo>
                  <a:pt x="8860" y="16961"/>
                  <a:pt x="8865" y="16966"/>
                  <a:pt x="8905" y="16966"/>
                </a:cubicBezTo>
                <a:cubicBezTo>
                  <a:pt x="8917" y="17014"/>
                  <a:pt x="8952" y="17024"/>
                  <a:pt x="8979" y="17066"/>
                </a:cubicBezTo>
                <a:cubicBezTo>
                  <a:pt x="9018" y="17126"/>
                  <a:pt x="9040" y="17189"/>
                  <a:pt x="9079" y="17239"/>
                </a:cubicBezTo>
                <a:cubicBezTo>
                  <a:pt x="9104" y="17271"/>
                  <a:pt x="9118" y="17280"/>
                  <a:pt x="9153" y="17289"/>
                </a:cubicBezTo>
              </a:path>
              <a:path w="9377" h="1465">
                <a:moveTo>
                  <a:pt x="9401" y="16321"/>
                </a:moveTo>
                <a:cubicBezTo>
                  <a:pt x="9453" y="16299"/>
                  <a:pt x="9471" y="16297"/>
                  <a:pt x="9525" y="16297"/>
                </a:cubicBezTo>
                <a:cubicBezTo>
                  <a:pt x="9552" y="16297"/>
                  <a:pt x="9624" y="16307"/>
                  <a:pt x="9649" y="16321"/>
                </a:cubicBezTo>
                <a:cubicBezTo>
                  <a:pt x="9674" y="16335"/>
                  <a:pt x="9715" y="16367"/>
                  <a:pt x="9723" y="16371"/>
                </a:cubicBezTo>
                <a:cubicBezTo>
                  <a:pt x="9741" y="16380"/>
                  <a:pt x="9769" y="16408"/>
                  <a:pt x="9748" y="16446"/>
                </a:cubicBezTo>
                <a:cubicBezTo>
                  <a:pt x="9709" y="16515"/>
                  <a:pt x="9701" y="16593"/>
                  <a:pt x="9674" y="16669"/>
                </a:cubicBezTo>
                <a:cubicBezTo>
                  <a:pt x="9645" y="16753"/>
                  <a:pt x="9628" y="16854"/>
                  <a:pt x="9624" y="16942"/>
                </a:cubicBezTo>
                <a:cubicBezTo>
                  <a:pt x="9621" y="17016"/>
                  <a:pt x="9618" y="17118"/>
                  <a:pt x="9599" y="17190"/>
                </a:cubicBezTo>
                <a:cubicBezTo>
                  <a:pt x="9586" y="17239"/>
                  <a:pt x="9544" y="17295"/>
                  <a:pt x="9599" y="17314"/>
                </a:cubicBezTo>
              </a:path>
              <a:path w="9377" h="1465">
                <a:moveTo>
                  <a:pt x="10021" y="16470"/>
                </a:moveTo>
                <a:cubicBezTo>
                  <a:pt x="10059" y="16450"/>
                  <a:pt x="10140" y="16390"/>
                  <a:pt x="10195" y="16421"/>
                </a:cubicBezTo>
                <a:cubicBezTo>
                  <a:pt x="10224" y="16437"/>
                  <a:pt x="10260" y="16493"/>
                  <a:pt x="10269" y="16520"/>
                </a:cubicBezTo>
                <a:cubicBezTo>
                  <a:pt x="10280" y="16552"/>
                  <a:pt x="10228" y="16615"/>
                  <a:pt x="10220" y="16644"/>
                </a:cubicBezTo>
                <a:cubicBezTo>
                  <a:pt x="10204" y="16700"/>
                  <a:pt x="10187" y="16726"/>
                  <a:pt x="10145" y="16768"/>
                </a:cubicBezTo>
                <a:cubicBezTo>
                  <a:pt x="10126" y="16787"/>
                  <a:pt x="10077" y="16839"/>
                  <a:pt x="10071" y="16842"/>
                </a:cubicBezTo>
                <a:cubicBezTo>
                  <a:pt x="10046" y="16842"/>
                  <a:pt x="10038" y="16842"/>
                  <a:pt x="10046" y="16867"/>
                </a:cubicBezTo>
                <a:cubicBezTo>
                  <a:pt x="10112" y="16867"/>
                  <a:pt x="10077" y="16848"/>
                  <a:pt x="10145" y="16842"/>
                </a:cubicBezTo>
                <a:cubicBezTo>
                  <a:pt x="10187" y="16838"/>
                  <a:pt x="10264" y="16832"/>
                  <a:pt x="10294" y="16867"/>
                </a:cubicBezTo>
                <a:cubicBezTo>
                  <a:pt x="10319" y="16895"/>
                  <a:pt x="10319" y="16950"/>
                  <a:pt x="10319" y="16991"/>
                </a:cubicBezTo>
                <a:cubicBezTo>
                  <a:pt x="10319" y="17057"/>
                  <a:pt x="10302" y="17156"/>
                  <a:pt x="10269" y="17214"/>
                </a:cubicBezTo>
                <a:cubicBezTo>
                  <a:pt x="10244" y="17257"/>
                  <a:pt x="10169" y="17333"/>
                  <a:pt x="10120" y="17338"/>
                </a:cubicBezTo>
                <a:cubicBezTo>
                  <a:pt x="10086" y="17342"/>
                  <a:pt x="10045" y="17330"/>
                  <a:pt x="10021" y="17314"/>
                </a:cubicBezTo>
                <a:cubicBezTo>
                  <a:pt x="9987" y="17292"/>
                  <a:pt x="9951" y="17252"/>
                  <a:pt x="9947" y="17214"/>
                </a:cubicBezTo>
                <a:cubicBezTo>
                  <a:pt x="9947" y="17206"/>
                  <a:pt x="9947" y="17198"/>
                  <a:pt x="9947" y="17190"/>
                </a:cubicBezTo>
              </a:path>
              <a:path w="9377" h="1465">
                <a:moveTo>
                  <a:pt x="10517" y="16942"/>
                </a:moveTo>
                <a:cubicBezTo>
                  <a:pt x="10598" y="17054"/>
                  <a:pt x="10660" y="17164"/>
                  <a:pt x="10716" y="17289"/>
                </a:cubicBezTo>
                <a:cubicBezTo>
                  <a:pt x="10754" y="17373"/>
                  <a:pt x="10801" y="17430"/>
                  <a:pt x="10864" y="17487"/>
                </a:cubicBezTo>
              </a:path>
              <a:path w="9377" h="1465">
                <a:moveTo>
                  <a:pt x="10964" y="16768"/>
                </a:moveTo>
                <a:cubicBezTo>
                  <a:pt x="10876" y="16836"/>
                  <a:pt x="10794" y="16893"/>
                  <a:pt x="10740" y="16991"/>
                </a:cubicBezTo>
                <a:cubicBezTo>
                  <a:pt x="10697" y="17070"/>
                  <a:pt x="10635" y="17132"/>
                  <a:pt x="10592" y="17214"/>
                </a:cubicBezTo>
                <a:cubicBezTo>
                  <a:pt x="10563" y="17269"/>
                  <a:pt x="10514" y="17334"/>
                  <a:pt x="10492" y="17388"/>
                </a:cubicBezTo>
                <a:cubicBezTo>
                  <a:pt x="10476" y="17427"/>
                  <a:pt x="10479" y="17456"/>
                  <a:pt x="10492" y="17462"/>
                </a:cubicBezTo>
              </a:path>
              <a:path w="9377" h="1465">
                <a:moveTo>
                  <a:pt x="11261" y="16470"/>
                </a:moveTo>
                <a:cubicBezTo>
                  <a:pt x="11333" y="16522"/>
                  <a:pt x="11335" y="16544"/>
                  <a:pt x="11361" y="16619"/>
                </a:cubicBezTo>
                <a:cubicBezTo>
                  <a:pt x="11381" y="16676"/>
                  <a:pt x="11409" y="16778"/>
                  <a:pt x="11385" y="16842"/>
                </a:cubicBezTo>
                <a:cubicBezTo>
                  <a:pt x="11369" y="16884"/>
                  <a:pt x="11276" y="16935"/>
                  <a:pt x="11237" y="16942"/>
                </a:cubicBezTo>
                <a:cubicBezTo>
                  <a:pt x="11152" y="16957"/>
                  <a:pt x="11146" y="16935"/>
                  <a:pt x="11112" y="16917"/>
                </a:cubicBezTo>
                <a:cubicBezTo>
                  <a:pt x="11098" y="16910"/>
                  <a:pt x="11096" y="16863"/>
                  <a:pt x="11137" y="16842"/>
                </a:cubicBezTo>
                <a:cubicBezTo>
                  <a:pt x="11190" y="16815"/>
                  <a:pt x="11188" y="16826"/>
                  <a:pt x="11237" y="16842"/>
                </a:cubicBezTo>
                <a:cubicBezTo>
                  <a:pt x="11287" y="16858"/>
                  <a:pt x="11331" y="16901"/>
                  <a:pt x="11385" y="16917"/>
                </a:cubicBezTo>
                <a:cubicBezTo>
                  <a:pt x="11440" y="16934"/>
                  <a:pt x="11499" y="16978"/>
                  <a:pt x="11559" y="16991"/>
                </a:cubicBezTo>
                <a:cubicBezTo>
                  <a:pt x="11603" y="17001"/>
                  <a:pt x="11663" y="16991"/>
                  <a:pt x="11708" y="16991"/>
                </a:cubicBezTo>
              </a:path>
              <a:path w="9377" h="1465">
                <a:moveTo>
                  <a:pt x="12402" y="16570"/>
                </a:moveTo>
                <a:cubicBezTo>
                  <a:pt x="12402" y="16633"/>
                  <a:pt x="12424" y="16678"/>
                  <a:pt x="12427" y="16743"/>
                </a:cubicBezTo>
                <a:cubicBezTo>
                  <a:pt x="12430" y="16815"/>
                  <a:pt x="12443" y="16876"/>
                  <a:pt x="12452" y="16942"/>
                </a:cubicBezTo>
                <a:cubicBezTo>
                  <a:pt x="12462" y="17016"/>
                  <a:pt x="12473" y="17093"/>
                  <a:pt x="12477" y="17165"/>
                </a:cubicBezTo>
                <a:cubicBezTo>
                  <a:pt x="12478" y="17176"/>
                  <a:pt x="12493" y="17281"/>
                  <a:pt x="12502" y="17289"/>
                </a:cubicBezTo>
                <a:cubicBezTo>
                  <a:pt x="12530" y="17289"/>
                  <a:pt x="12540" y="17286"/>
                  <a:pt x="12551" y="17264"/>
                </a:cubicBezTo>
              </a:path>
              <a:path w="9377" h="1465">
                <a:moveTo>
                  <a:pt x="12874" y="16842"/>
                </a:moveTo>
                <a:cubicBezTo>
                  <a:pt x="12646" y="16842"/>
                  <a:pt x="12396" y="16817"/>
                  <a:pt x="12179" y="16867"/>
                </a:cubicBezTo>
                <a:cubicBezTo>
                  <a:pt x="12154" y="16867"/>
                  <a:pt x="12146" y="16867"/>
                  <a:pt x="12129" y="16867"/>
                </a:cubicBezTo>
              </a:path>
              <a:path w="9377" h="1465">
                <a:moveTo>
                  <a:pt x="13122" y="16520"/>
                </a:moveTo>
                <a:cubicBezTo>
                  <a:pt x="13076" y="16566"/>
                  <a:pt x="13050" y="16559"/>
                  <a:pt x="12998" y="16594"/>
                </a:cubicBezTo>
                <a:cubicBezTo>
                  <a:pt x="12945" y="16629"/>
                  <a:pt x="12914" y="16684"/>
                  <a:pt x="12898" y="16743"/>
                </a:cubicBezTo>
                <a:cubicBezTo>
                  <a:pt x="12897" y="16745"/>
                  <a:pt x="12916" y="16805"/>
                  <a:pt x="12923" y="16818"/>
                </a:cubicBezTo>
                <a:cubicBezTo>
                  <a:pt x="12948" y="16862"/>
                  <a:pt x="13026" y="16927"/>
                  <a:pt x="13072" y="16942"/>
                </a:cubicBezTo>
                <a:cubicBezTo>
                  <a:pt x="13126" y="16960"/>
                  <a:pt x="13165" y="16986"/>
                  <a:pt x="13221" y="16991"/>
                </a:cubicBezTo>
                <a:cubicBezTo>
                  <a:pt x="13265" y="16995"/>
                  <a:pt x="13289" y="16966"/>
                  <a:pt x="13320" y="16942"/>
                </a:cubicBezTo>
              </a:path>
              <a:path w="9377" h="1465">
                <a:moveTo>
                  <a:pt x="13469" y="16346"/>
                </a:moveTo>
                <a:cubicBezTo>
                  <a:pt x="13423" y="16403"/>
                  <a:pt x="13395" y="16451"/>
                  <a:pt x="13370" y="16520"/>
                </a:cubicBezTo>
                <a:cubicBezTo>
                  <a:pt x="13330" y="16629"/>
                  <a:pt x="13321" y="16731"/>
                  <a:pt x="13295" y="16842"/>
                </a:cubicBezTo>
                <a:cubicBezTo>
                  <a:pt x="13267" y="16960"/>
                  <a:pt x="13271" y="17069"/>
                  <a:pt x="13271" y="17190"/>
                </a:cubicBezTo>
                <a:cubicBezTo>
                  <a:pt x="13271" y="17212"/>
                  <a:pt x="13266" y="17532"/>
                  <a:pt x="13295" y="17512"/>
                </a:cubicBezTo>
                <a:cubicBezTo>
                  <a:pt x="13312" y="17495"/>
                  <a:pt x="13328" y="17479"/>
                  <a:pt x="13345" y="17462"/>
                </a:cubicBezTo>
              </a:path>
              <a:path w="9377" h="1465">
                <a:moveTo>
                  <a:pt x="13742" y="16570"/>
                </a:moveTo>
                <a:cubicBezTo>
                  <a:pt x="13684" y="16650"/>
                  <a:pt x="13630" y="16726"/>
                  <a:pt x="13593" y="16818"/>
                </a:cubicBezTo>
                <a:cubicBezTo>
                  <a:pt x="13564" y="16892"/>
                  <a:pt x="13546" y="16987"/>
                  <a:pt x="13543" y="17066"/>
                </a:cubicBezTo>
                <a:cubicBezTo>
                  <a:pt x="13539" y="17152"/>
                  <a:pt x="13534" y="17235"/>
                  <a:pt x="13568" y="17314"/>
                </a:cubicBezTo>
                <a:cubicBezTo>
                  <a:pt x="13589" y="17363"/>
                  <a:pt x="13629" y="17419"/>
                  <a:pt x="13667" y="17438"/>
                </a:cubicBezTo>
                <a:cubicBezTo>
                  <a:pt x="13720" y="17464"/>
                  <a:pt x="13789" y="17474"/>
                  <a:pt x="13841" y="17438"/>
                </a:cubicBezTo>
                <a:cubicBezTo>
                  <a:pt x="13900" y="17398"/>
                  <a:pt x="13957" y="17324"/>
                  <a:pt x="13990" y="17264"/>
                </a:cubicBezTo>
                <a:cubicBezTo>
                  <a:pt x="14026" y="17200"/>
                  <a:pt x="14061" y="17139"/>
                  <a:pt x="14064" y="17066"/>
                </a:cubicBezTo>
                <a:cubicBezTo>
                  <a:pt x="14067" y="16992"/>
                  <a:pt x="14084" y="16875"/>
                  <a:pt x="14039" y="16818"/>
                </a:cubicBezTo>
                <a:cubicBezTo>
                  <a:pt x="14009" y="16780"/>
                  <a:pt x="13961" y="16723"/>
                  <a:pt x="13915" y="16718"/>
                </a:cubicBezTo>
                <a:cubicBezTo>
                  <a:pt x="13865" y="16712"/>
                  <a:pt x="13841" y="16730"/>
                  <a:pt x="13816" y="16694"/>
                </a:cubicBezTo>
                <a:cubicBezTo>
                  <a:pt x="13786" y="16746"/>
                  <a:pt x="13747" y="16792"/>
                  <a:pt x="13717" y="16842"/>
                </a:cubicBezTo>
                <a:cubicBezTo>
                  <a:pt x="13693" y="16890"/>
                  <a:pt x="13685" y="16905"/>
                  <a:pt x="13692" y="16942"/>
                </a:cubicBezTo>
              </a:path>
              <a:path w="9377" h="1465">
                <a:moveTo>
                  <a:pt x="14511" y="16570"/>
                </a:moveTo>
                <a:cubicBezTo>
                  <a:pt x="14470" y="16529"/>
                  <a:pt x="14417" y="16464"/>
                  <a:pt x="14362" y="16446"/>
                </a:cubicBezTo>
                <a:cubicBezTo>
                  <a:pt x="14333" y="16437"/>
                  <a:pt x="14274" y="16496"/>
                  <a:pt x="14263" y="16520"/>
                </a:cubicBezTo>
                <a:cubicBezTo>
                  <a:pt x="14227" y="16601"/>
                  <a:pt x="14281" y="16731"/>
                  <a:pt x="14312" y="16793"/>
                </a:cubicBezTo>
                <a:cubicBezTo>
                  <a:pt x="14342" y="16853"/>
                  <a:pt x="14382" y="16904"/>
                  <a:pt x="14412" y="16966"/>
                </a:cubicBezTo>
                <a:cubicBezTo>
                  <a:pt x="14442" y="17026"/>
                  <a:pt x="14452" y="17085"/>
                  <a:pt x="14486" y="17140"/>
                </a:cubicBezTo>
                <a:cubicBezTo>
                  <a:pt x="14522" y="17198"/>
                  <a:pt x="14516" y="17226"/>
                  <a:pt x="14486" y="17289"/>
                </a:cubicBezTo>
                <a:cubicBezTo>
                  <a:pt x="14464" y="17335"/>
                  <a:pt x="14438" y="17382"/>
                  <a:pt x="14387" y="17388"/>
                </a:cubicBezTo>
                <a:cubicBezTo>
                  <a:pt x="14331" y="17394"/>
                  <a:pt x="14286" y="17393"/>
                  <a:pt x="14263" y="17363"/>
                </a:cubicBezTo>
                <a:cubicBezTo>
                  <a:pt x="14232" y="17321"/>
                  <a:pt x="14236" y="17288"/>
                  <a:pt x="14263" y="17239"/>
                </a:cubicBezTo>
                <a:cubicBezTo>
                  <a:pt x="14303" y="17165"/>
                  <a:pt x="14321" y="17083"/>
                  <a:pt x="14362" y="17016"/>
                </a:cubicBezTo>
                <a:cubicBezTo>
                  <a:pt x="14393" y="16966"/>
                  <a:pt x="14415" y="16920"/>
                  <a:pt x="14436" y="16867"/>
                </a:cubicBezTo>
                <a:cubicBezTo>
                  <a:pt x="14459" y="16811"/>
                  <a:pt x="14506" y="16769"/>
                  <a:pt x="14536" y="16718"/>
                </a:cubicBezTo>
                <a:cubicBezTo>
                  <a:pt x="14572" y="16657"/>
                  <a:pt x="14615" y="16600"/>
                  <a:pt x="14660" y="16545"/>
                </a:cubicBezTo>
              </a:path>
              <a:path w="9377" h="1465">
                <a:moveTo>
                  <a:pt x="14808" y="16818"/>
                </a:moveTo>
                <a:cubicBezTo>
                  <a:pt x="14853" y="16908"/>
                  <a:pt x="14915" y="16999"/>
                  <a:pt x="14957" y="17090"/>
                </a:cubicBezTo>
                <a:cubicBezTo>
                  <a:pt x="14996" y="17176"/>
                  <a:pt x="15037" y="17254"/>
                  <a:pt x="15081" y="17338"/>
                </a:cubicBezTo>
                <a:cubicBezTo>
                  <a:pt x="15110" y="17393"/>
                  <a:pt x="15119" y="17447"/>
                  <a:pt x="15180" y="17462"/>
                </a:cubicBezTo>
              </a:path>
              <a:path w="9377" h="1465">
                <a:moveTo>
                  <a:pt x="15205" y="16842"/>
                </a:moveTo>
                <a:cubicBezTo>
                  <a:pt x="15125" y="16872"/>
                  <a:pt x="15096" y="16886"/>
                  <a:pt x="15032" y="16942"/>
                </a:cubicBezTo>
                <a:cubicBezTo>
                  <a:pt x="14957" y="17008"/>
                  <a:pt x="14907" y="17079"/>
                  <a:pt x="14858" y="17165"/>
                </a:cubicBezTo>
                <a:cubicBezTo>
                  <a:pt x="14828" y="17217"/>
                  <a:pt x="14778" y="17282"/>
                  <a:pt x="14759" y="17338"/>
                </a:cubicBezTo>
                <a:cubicBezTo>
                  <a:pt x="14744" y="17384"/>
                  <a:pt x="14745" y="17414"/>
                  <a:pt x="14784" y="17388"/>
                </a:cubicBezTo>
              </a:path>
              <a:path w="9377" h="1465">
                <a:moveTo>
                  <a:pt x="15726" y="16520"/>
                </a:moveTo>
                <a:cubicBezTo>
                  <a:pt x="15726" y="16692"/>
                  <a:pt x="15725" y="16850"/>
                  <a:pt x="15701" y="17016"/>
                </a:cubicBezTo>
                <a:cubicBezTo>
                  <a:pt x="15700" y="17023"/>
                  <a:pt x="15713" y="17178"/>
                  <a:pt x="15677" y="17165"/>
                </a:cubicBezTo>
                <a:cubicBezTo>
                  <a:pt x="15677" y="17157"/>
                  <a:pt x="15677" y="17148"/>
                  <a:pt x="15677" y="17140"/>
                </a:cubicBezTo>
              </a:path>
              <a:path w="9377" h="1465">
                <a:moveTo>
                  <a:pt x="15528" y="16867"/>
                </a:moveTo>
                <a:cubicBezTo>
                  <a:pt x="15597" y="16876"/>
                  <a:pt x="15662" y="16888"/>
                  <a:pt x="15726" y="16917"/>
                </a:cubicBezTo>
                <a:cubicBezTo>
                  <a:pt x="15784" y="16943"/>
                  <a:pt x="15812" y="16942"/>
                  <a:pt x="15875" y="16942"/>
                </a:cubicBezTo>
              </a:path>
              <a:path w="9377" h="1465">
                <a:moveTo>
                  <a:pt x="16197" y="16570"/>
                </a:moveTo>
                <a:cubicBezTo>
                  <a:pt x="16224" y="16546"/>
                  <a:pt x="16298" y="16476"/>
                  <a:pt x="16346" y="16495"/>
                </a:cubicBezTo>
                <a:cubicBezTo>
                  <a:pt x="16385" y="16511"/>
                  <a:pt x="16427" y="16587"/>
                  <a:pt x="16446" y="16619"/>
                </a:cubicBezTo>
                <a:cubicBezTo>
                  <a:pt x="16495" y="16703"/>
                  <a:pt x="16473" y="16805"/>
                  <a:pt x="16446" y="16892"/>
                </a:cubicBezTo>
                <a:cubicBezTo>
                  <a:pt x="16407" y="17019"/>
                  <a:pt x="16365" y="17094"/>
                  <a:pt x="16272" y="17190"/>
                </a:cubicBezTo>
                <a:cubicBezTo>
                  <a:pt x="16208" y="17257"/>
                  <a:pt x="16156" y="17344"/>
                  <a:pt x="16073" y="17388"/>
                </a:cubicBezTo>
                <a:cubicBezTo>
                  <a:pt x="16038" y="17406"/>
                  <a:pt x="15989" y="17408"/>
                  <a:pt x="15949" y="17413"/>
                </a:cubicBezTo>
                <a:cubicBezTo>
                  <a:pt x="15949" y="17364"/>
                  <a:pt x="15944" y="17334"/>
                  <a:pt x="15974" y="17289"/>
                </a:cubicBezTo>
                <a:cubicBezTo>
                  <a:pt x="16001" y="17249"/>
                  <a:pt x="16031" y="17192"/>
                  <a:pt x="16073" y="17165"/>
                </a:cubicBezTo>
                <a:cubicBezTo>
                  <a:pt x="16124" y="17132"/>
                  <a:pt x="16150" y="17096"/>
                  <a:pt x="16197" y="17140"/>
                </a:cubicBezTo>
                <a:cubicBezTo>
                  <a:pt x="16252" y="17191"/>
                  <a:pt x="16316" y="17269"/>
                  <a:pt x="16346" y="17338"/>
                </a:cubicBezTo>
                <a:cubicBezTo>
                  <a:pt x="16361" y="17372"/>
                  <a:pt x="16404" y="17557"/>
                  <a:pt x="16446" y="17562"/>
                </a:cubicBezTo>
                <a:cubicBezTo>
                  <a:pt x="16480" y="17526"/>
                  <a:pt x="16493" y="17504"/>
                  <a:pt x="16495" y="17462"/>
                </a:cubicBezTo>
              </a:path>
              <a:path w="9377" h="1465">
                <a:moveTo>
                  <a:pt x="16768" y="16446"/>
                </a:moveTo>
                <a:cubicBezTo>
                  <a:pt x="16739" y="16493"/>
                  <a:pt x="16743" y="16539"/>
                  <a:pt x="16718" y="16594"/>
                </a:cubicBezTo>
                <a:cubicBezTo>
                  <a:pt x="16689" y="16656"/>
                  <a:pt x="16694" y="16698"/>
                  <a:pt x="16694" y="16768"/>
                </a:cubicBezTo>
                <a:cubicBezTo>
                  <a:pt x="16694" y="16813"/>
                  <a:pt x="16688" y="16832"/>
                  <a:pt x="16718" y="16867"/>
                </a:cubicBezTo>
                <a:cubicBezTo>
                  <a:pt x="16730" y="16881"/>
                  <a:pt x="16801" y="16937"/>
                  <a:pt x="16818" y="16942"/>
                </a:cubicBezTo>
                <a:cubicBezTo>
                  <a:pt x="16835" y="16947"/>
                  <a:pt x="16958" y="16992"/>
                  <a:pt x="16966" y="16991"/>
                </a:cubicBezTo>
                <a:cubicBezTo>
                  <a:pt x="17010" y="16985"/>
                  <a:pt x="17057" y="16943"/>
                  <a:pt x="17090" y="16917"/>
                </a:cubicBezTo>
              </a:path>
              <a:path w="9377" h="1465">
                <a:moveTo>
                  <a:pt x="17165" y="16297"/>
                </a:moveTo>
                <a:cubicBezTo>
                  <a:pt x="17118" y="16437"/>
                  <a:pt x="17077" y="16574"/>
                  <a:pt x="17041" y="16718"/>
                </a:cubicBezTo>
                <a:cubicBezTo>
                  <a:pt x="17005" y="16861"/>
                  <a:pt x="16996" y="16998"/>
                  <a:pt x="16966" y="17140"/>
                </a:cubicBezTo>
                <a:cubicBezTo>
                  <a:pt x="16940" y="17261"/>
                  <a:pt x="16909" y="17391"/>
                  <a:pt x="16892" y="17512"/>
                </a:cubicBezTo>
                <a:cubicBezTo>
                  <a:pt x="16885" y="17560"/>
                  <a:pt x="16849" y="17662"/>
                  <a:pt x="16867" y="17711"/>
                </a:cubicBezTo>
                <a:cubicBezTo>
                  <a:pt x="16875" y="17711"/>
                  <a:pt x="16884" y="17711"/>
                  <a:pt x="16892" y="17711"/>
                </a:cubicBezTo>
              </a:path>
              <a:path w="9377" h="1465">
                <a:moveTo>
                  <a:pt x="17363" y="16396"/>
                </a:moveTo>
                <a:cubicBezTo>
                  <a:pt x="17399" y="16420"/>
                  <a:pt x="17381" y="16469"/>
                  <a:pt x="17363" y="16520"/>
                </a:cubicBezTo>
                <a:cubicBezTo>
                  <a:pt x="17336" y="16598"/>
                  <a:pt x="17301" y="16659"/>
                  <a:pt x="17289" y="16743"/>
                </a:cubicBezTo>
                <a:cubicBezTo>
                  <a:pt x="17278" y="16819"/>
                  <a:pt x="17302" y="16881"/>
                  <a:pt x="17314" y="16942"/>
                </a:cubicBezTo>
                <a:cubicBezTo>
                  <a:pt x="17325" y="16994"/>
                  <a:pt x="17324" y="17034"/>
                  <a:pt x="17388" y="17041"/>
                </a:cubicBezTo>
                <a:cubicBezTo>
                  <a:pt x="17440" y="17047"/>
                  <a:pt x="17452" y="17026"/>
                  <a:pt x="17487" y="16991"/>
                </a:cubicBezTo>
                <a:cubicBezTo>
                  <a:pt x="17530" y="16948"/>
                  <a:pt x="17549" y="16917"/>
                  <a:pt x="17562" y="16867"/>
                </a:cubicBezTo>
              </a:path>
              <a:path w="9377" h="1465">
                <a:moveTo>
                  <a:pt x="17760" y="16247"/>
                </a:moveTo>
                <a:cubicBezTo>
                  <a:pt x="17750" y="16324"/>
                  <a:pt x="17731" y="16393"/>
                  <a:pt x="17711" y="16470"/>
                </a:cubicBezTo>
                <a:cubicBezTo>
                  <a:pt x="17678" y="16601"/>
                  <a:pt x="17683" y="16735"/>
                  <a:pt x="17661" y="16867"/>
                </a:cubicBezTo>
                <a:cubicBezTo>
                  <a:pt x="17625" y="17086"/>
                  <a:pt x="17531" y="17295"/>
                  <a:pt x="17487" y="17512"/>
                </a:cubicBezTo>
                <a:cubicBezTo>
                  <a:pt x="17473" y="17579"/>
                  <a:pt x="17468" y="17643"/>
                  <a:pt x="17462" y="177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4760" y="5554800"/>
            <a:ext cx="6608520" cy="295200"/>
          </a:xfrm>
          <a:custGeom>
            <a:avLst/>
            <a:gdLst/>
            <a:ahLst/>
            <a:rect l="l" t="t" r="r" b="b"/>
            <a:pathLst>
              <a:path w="18356" h="819">
                <a:moveTo>
                  <a:pt x="19397" y="16098"/>
                </a:moveTo>
                <a:cubicBezTo>
                  <a:pt x="19350" y="16087"/>
                  <a:pt x="19321" y="16084"/>
                  <a:pt x="19273" y="16073"/>
                </a:cubicBezTo>
                <a:cubicBezTo>
                  <a:pt x="19161" y="16048"/>
                  <a:pt x="19075" y="16016"/>
                  <a:pt x="18951" y="15999"/>
                </a:cubicBezTo>
                <a:cubicBezTo>
                  <a:pt x="18787" y="15976"/>
                  <a:pt x="18624" y="15977"/>
                  <a:pt x="18455" y="15974"/>
                </a:cubicBezTo>
                <a:cubicBezTo>
                  <a:pt x="16541" y="15944"/>
                  <a:pt x="14692" y="16139"/>
                  <a:pt x="12799" y="16247"/>
                </a:cubicBezTo>
                <a:cubicBezTo>
                  <a:pt x="12154" y="16284"/>
                  <a:pt x="11477" y="16256"/>
                  <a:pt x="10840" y="16173"/>
                </a:cubicBezTo>
                <a:cubicBezTo>
                  <a:pt x="10632" y="16146"/>
                  <a:pt x="10429" y="16117"/>
                  <a:pt x="10220" y="16098"/>
                </a:cubicBezTo>
                <a:cubicBezTo>
                  <a:pt x="9924" y="16071"/>
                  <a:pt x="9624" y="16050"/>
                  <a:pt x="9327" y="16024"/>
                </a:cubicBezTo>
                <a:cubicBezTo>
                  <a:pt x="9129" y="16007"/>
                  <a:pt x="8929" y="16016"/>
                  <a:pt x="8731" y="15999"/>
                </a:cubicBezTo>
                <a:cubicBezTo>
                  <a:pt x="8541" y="15983"/>
                  <a:pt x="8351" y="15964"/>
                  <a:pt x="8161" y="15949"/>
                </a:cubicBezTo>
                <a:cubicBezTo>
                  <a:pt x="7960" y="15933"/>
                  <a:pt x="7765" y="15905"/>
                  <a:pt x="7565" y="15875"/>
                </a:cubicBezTo>
                <a:cubicBezTo>
                  <a:pt x="6937" y="15780"/>
                  <a:pt x="6310" y="15669"/>
                  <a:pt x="5680" y="15602"/>
                </a:cubicBezTo>
                <a:cubicBezTo>
                  <a:pt x="5467" y="15579"/>
                  <a:pt x="5250" y="15573"/>
                  <a:pt x="5035" y="15553"/>
                </a:cubicBezTo>
                <a:cubicBezTo>
                  <a:pt x="4763" y="15528"/>
                  <a:pt x="4490" y="15500"/>
                  <a:pt x="4217" y="15478"/>
                </a:cubicBezTo>
                <a:cubicBezTo>
                  <a:pt x="3988" y="15459"/>
                  <a:pt x="3751" y="15436"/>
                  <a:pt x="3522" y="15429"/>
                </a:cubicBezTo>
                <a:cubicBezTo>
                  <a:pt x="2711" y="15404"/>
                  <a:pt x="1935" y="15443"/>
                  <a:pt x="1141" y="15602"/>
                </a:cubicBezTo>
                <a:cubicBezTo>
                  <a:pt x="1108" y="15610"/>
                  <a:pt x="1075" y="15619"/>
                  <a:pt x="1042" y="156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6120" y="5616720"/>
            <a:ext cx="6278760" cy="1098360"/>
          </a:xfrm>
          <a:custGeom>
            <a:avLst/>
            <a:gdLst/>
            <a:ahLst/>
            <a:rect l="l" t="t" r="r" b="b"/>
            <a:pathLst>
              <a:path w="17439" h="3052">
                <a:moveTo>
                  <a:pt x="18182" y="15999"/>
                </a:moveTo>
                <a:cubicBezTo>
                  <a:pt x="18172" y="16092"/>
                  <a:pt x="18195" y="16172"/>
                  <a:pt x="18182" y="16272"/>
                </a:cubicBezTo>
                <a:cubicBezTo>
                  <a:pt x="18164" y="16403"/>
                  <a:pt x="18134" y="16540"/>
                  <a:pt x="18107" y="16669"/>
                </a:cubicBezTo>
                <a:cubicBezTo>
                  <a:pt x="18039" y="16995"/>
                  <a:pt x="17932" y="17317"/>
                  <a:pt x="17835" y="17636"/>
                </a:cubicBezTo>
                <a:cubicBezTo>
                  <a:pt x="17784" y="17805"/>
                  <a:pt x="17735" y="18043"/>
                  <a:pt x="17636" y="18182"/>
                </a:cubicBezTo>
                <a:cubicBezTo>
                  <a:pt x="17605" y="18226"/>
                  <a:pt x="17534" y="18324"/>
                  <a:pt x="17487" y="18355"/>
                </a:cubicBezTo>
                <a:cubicBezTo>
                  <a:pt x="17444" y="18383"/>
                  <a:pt x="17412" y="18422"/>
                  <a:pt x="17363" y="18430"/>
                </a:cubicBezTo>
                <a:cubicBezTo>
                  <a:pt x="17216" y="18455"/>
                  <a:pt x="17119" y="18334"/>
                  <a:pt x="16991" y="18306"/>
                </a:cubicBezTo>
                <a:cubicBezTo>
                  <a:pt x="16908" y="18288"/>
                  <a:pt x="16824" y="18277"/>
                  <a:pt x="16743" y="18256"/>
                </a:cubicBezTo>
                <a:cubicBezTo>
                  <a:pt x="16653" y="18233"/>
                  <a:pt x="16539" y="18191"/>
                  <a:pt x="16446" y="18182"/>
                </a:cubicBezTo>
                <a:cubicBezTo>
                  <a:pt x="16164" y="18156"/>
                  <a:pt x="15898" y="18221"/>
                  <a:pt x="15627" y="18256"/>
                </a:cubicBezTo>
                <a:cubicBezTo>
                  <a:pt x="15503" y="18272"/>
                  <a:pt x="15379" y="18289"/>
                  <a:pt x="15255" y="18306"/>
                </a:cubicBezTo>
                <a:cubicBezTo>
                  <a:pt x="15100" y="18327"/>
                  <a:pt x="14940" y="18333"/>
                  <a:pt x="14784" y="18355"/>
                </a:cubicBezTo>
                <a:cubicBezTo>
                  <a:pt x="14644" y="18375"/>
                  <a:pt x="14503" y="18387"/>
                  <a:pt x="14362" y="18405"/>
                </a:cubicBezTo>
                <a:cubicBezTo>
                  <a:pt x="14189" y="18427"/>
                  <a:pt x="14013" y="18455"/>
                  <a:pt x="13841" y="18479"/>
                </a:cubicBezTo>
                <a:cubicBezTo>
                  <a:pt x="13684" y="18501"/>
                  <a:pt x="13527" y="18510"/>
                  <a:pt x="13370" y="18529"/>
                </a:cubicBezTo>
                <a:cubicBezTo>
                  <a:pt x="13221" y="18547"/>
                  <a:pt x="13072" y="18562"/>
                  <a:pt x="12923" y="18579"/>
                </a:cubicBezTo>
                <a:cubicBezTo>
                  <a:pt x="12716" y="18603"/>
                  <a:pt x="12512" y="18614"/>
                  <a:pt x="12303" y="18628"/>
                </a:cubicBezTo>
                <a:cubicBezTo>
                  <a:pt x="12057" y="18644"/>
                  <a:pt x="11830" y="18640"/>
                  <a:pt x="11584" y="18628"/>
                </a:cubicBezTo>
                <a:cubicBezTo>
                  <a:pt x="11409" y="18619"/>
                  <a:pt x="11237" y="18616"/>
                  <a:pt x="11063" y="18604"/>
                </a:cubicBezTo>
                <a:cubicBezTo>
                  <a:pt x="10907" y="18593"/>
                  <a:pt x="10747" y="18595"/>
                  <a:pt x="10592" y="18579"/>
                </a:cubicBezTo>
                <a:cubicBezTo>
                  <a:pt x="10376" y="18557"/>
                  <a:pt x="10163" y="18520"/>
                  <a:pt x="9947" y="18504"/>
                </a:cubicBezTo>
                <a:cubicBezTo>
                  <a:pt x="9788" y="18492"/>
                  <a:pt x="9633" y="18469"/>
                  <a:pt x="9475" y="18455"/>
                </a:cubicBezTo>
                <a:cubicBezTo>
                  <a:pt x="8935" y="18406"/>
                  <a:pt x="8403" y="18361"/>
                  <a:pt x="7863" y="18306"/>
                </a:cubicBezTo>
                <a:cubicBezTo>
                  <a:pt x="7722" y="18292"/>
                  <a:pt x="7581" y="18271"/>
                  <a:pt x="7441" y="18256"/>
                </a:cubicBezTo>
                <a:cubicBezTo>
                  <a:pt x="7300" y="18241"/>
                  <a:pt x="7162" y="18241"/>
                  <a:pt x="7020" y="18231"/>
                </a:cubicBezTo>
                <a:cubicBezTo>
                  <a:pt x="6886" y="18221"/>
                  <a:pt x="6759" y="18201"/>
                  <a:pt x="6623" y="18207"/>
                </a:cubicBezTo>
                <a:cubicBezTo>
                  <a:pt x="6434" y="18215"/>
                  <a:pt x="6239" y="18252"/>
                  <a:pt x="6052" y="18281"/>
                </a:cubicBezTo>
                <a:cubicBezTo>
                  <a:pt x="5919" y="18302"/>
                  <a:pt x="5787" y="18331"/>
                  <a:pt x="5655" y="18355"/>
                </a:cubicBezTo>
                <a:cubicBezTo>
                  <a:pt x="5522" y="18379"/>
                  <a:pt x="5392" y="18411"/>
                  <a:pt x="5259" y="18430"/>
                </a:cubicBezTo>
                <a:cubicBezTo>
                  <a:pt x="5104" y="18452"/>
                  <a:pt x="4974" y="18472"/>
                  <a:pt x="4812" y="18479"/>
                </a:cubicBezTo>
                <a:cubicBezTo>
                  <a:pt x="4564" y="18490"/>
                  <a:pt x="4328" y="18474"/>
                  <a:pt x="4093" y="18405"/>
                </a:cubicBezTo>
                <a:cubicBezTo>
                  <a:pt x="3761" y="18307"/>
                  <a:pt x="3477" y="18094"/>
                  <a:pt x="3175" y="17959"/>
                </a:cubicBezTo>
                <a:cubicBezTo>
                  <a:pt x="3034" y="17896"/>
                  <a:pt x="2904" y="17833"/>
                  <a:pt x="2753" y="17810"/>
                </a:cubicBezTo>
                <a:cubicBezTo>
                  <a:pt x="2459" y="17765"/>
                  <a:pt x="2238" y="17937"/>
                  <a:pt x="1984" y="17959"/>
                </a:cubicBezTo>
                <a:cubicBezTo>
                  <a:pt x="1776" y="17977"/>
                  <a:pt x="1639" y="17939"/>
                  <a:pt x="1463" y="17835"/>
                </a:cubicBezTo>
                <a:cubicBezTo>
                  <a:pt x="1247" y="17707"/>
                  <a:pt x="1030" y="17435"/>
                  <a:pt x="943" y="17214"/>
                </a:cubicBezTo>
                <a:cubicBezTo>
                  <a:pt x="905" y="17117"/>
                  <a:pt x="906" y="17065"/>
                  <a:pt x="893" y="16966"/>
                </a:cubicBezTo>
                <a:cubicBezTo>
                  <a:pt x="881" y="16876"/>
                  <a:pt x="894" y="16835"/>
                  <a:pt x="893" y="16743"/>
                </a:cubicBezTo>
                <a:cubicBezTo>
                  <a:pt x="892" y="16644"/>
                  <a:pt x="912" y="16565"/>
                  <a:pt x="918" y="16470"/>
                </a:cubicBezTo>
                <a:cubicBezTo>
                  <a:pt x="923" y="16383"/>
                  <a:pt x="943" y="16312"/>
                  <a:pt x="943" y="16222"/>
                </a:cubicBezTo>
                <a:cubicBezTo>
                  <a:pt x="943" y="16031"/>
                  <a:pt x="931" y="15887"/>
                  <a:pt x="868" y="15726"/>
                </a:cubicBezTo>
                <a:cubicBezTo>
                  <a:pt x="856" y="15696"/>
                  <a:pt x="836" y="15691"/>
                  <a:pt x="819" y="15652"/>
                </a:cubicBezTo>
                <a:cubicBezTo>
                  <a:pt x="815" y="15642"/>
                  <a:pt x="820" y="15679"/>
                  <a:pt x="794" y="15627"/>
                </a:cubicBezTo>
                <a:cubicBezTo>
                  <a:pt x="786" y="15619"/>
                  <a:pt x="777" y="15610"/>
                  <a:pt x="769" y="156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.  6(x + 2)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– 2(x – 1)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09880" y="1677960"/>
            <a:ext cx="384120" cy="430200"/>
          </a:xfrm>
          <a:custGeom>
            <a:avLst/>
            <a:gdLst/>
            <a:ahLst/>
            <a:rect l="l" t="t" r="r" b="b"/>
            <a:pathLst>
              <a:path w="1068" h="1192">
                <a:moveTo>
                  <a:pt x="5631" y="4713"/>
                </a:moveTo>
                <a:cubicBezTo>
                  <a:pt x="5631" y="4930"/>
                  <a:pt x="5624" y="5146"/>
                  <a:pt x="5606" y="5358"/>
                </a:cubicBezTo>
                <a:cubicBezTo>
                  <a:pt x="5596" y="5482"/>
                  <a:pt x="5606" y="5587"/>
                  <a:pt x="5581" y="5705"/>
                </a:cubicBezTo>
                <a:cubicBezTo>
                  <a:pt x="5570" y="5757"/>
                  <a:pt x="5630" y="5806"/>
                  <a:pt x="5606" y="5854"/>
                </a:cubicBezTo>
                <a:cubicBezTo>
                  <a:pt x="5581" y="5854"/>
                  <a:pt x="5573" y="5854"/>
                  <a:pt x="5581" y="5829"/>
                </a:cubicBezTo>
              </a:path>
              <a:path w="1068" h="1192">
                <a:moveTo>
                  <a:pt x="5928" y="5209"/>
                </a:moveTo>
                <a:cubicBezTo>
                  <a:pt x="5928" y="5274"/>
                  <a:pt x="5943" y="5322"/>
                  <a:pt x="5953" y="5383"/>
                </a:cubicBezTo>
                <a:cubicBezTo>
                  <a:pt x="5971" y="5489"/>
                  <a:pt x="5994" y="5499"/>
                  <a:pt x="6052" y="5581"/>
                </a:cubicBezTo>
                <a:cubicBezTo>
                  <a:pt x="6105" y="5657"/>
                  <a:pt x="6131" y="5691"/>
                  <a:pt x="6201" y="5755"/>
                </a:cubicBezTo>
                <a:cubicBezTo>
                  <a:pt x="6241" y="5792"/>
                  <a:pt x="6260" y="5784"/>
                  <a:pt x="6300" y="5755"/>
                </a:cubicBezTo>
              </a:path>
              <a:path w="1068" h="1192">
                <a:moveTo>
                  <a:pt x="6226" y="5184"/>
                </a:moveTo>
                <a:cubicBezTo>
                  <a:pt x="6174" y="5273"/>
                  <a:pt x="6149" y="5367"/>
                  <a:pt x="6102" y="5457"/>
                </a:cubicBezTo>
                <a:cubicBezTo>
                  <a:pt x="6053" y="5550"/>
                  <a:pt x="6006" y="5643"/>
                  <a:pt x="5953" y="5730"/>
                </a:cubicBezTo>
                <a:cubicBezTo>
                  <a:pt x="5930" y="5768"/>
                  <a:pt x="5914" y="5825"/>
                  <a:pt x="5879" y="5829"/>
                </a:cubicBezTo>
                <a:cubicBezTo>
                  <a:pt x="5839" y="5834"/>
                  <a:pt x="5854" y="5808"/>
                  <a:pt x="5854" y="5779"/>
                </a:cubicBezTo>
              </a:path>
              <a:path w="1068" h="1192">
                <a:moveTo>
                  <a:pt x="6424" y="4713"/>
                </a:moveTo>
                <a:cubicBezTo>
                  <a:pt x="6455" y="4690"/>
                  <a:pt x="6503" y="4648"/>
                  <a:pt x="6548" y="4663"/>
                </a:cubicBezTo>
                <a:cubicBezTo>
                  <a:pt x="6578" y="4673"/>
                  <a:pt x="6652" y="4719"/>
                  <a:pt x="6648" y="4762"/>
                </a:cubicBezTo>
                <a:cubicBezTo>
                  <a:pt x="6645" y="4802"/>
                  <a:pt x="6606" y="4854"/>
                  <a:pt x="6573" y="4887"/>
                </a:cubicBezTo>
                <a:cubicBezTo>
                  <a:pt x="6540" y="4919"/>
                  <a:pt x="6509" y="4931"/>
                  <a:pt x="6499" y="4961"/>
                </a:cubicBezTo>
                <a:cubicBezTo>
                  <a:pt x="6533" y="4995"/>
                  <a:pt x="6565" y="5013"/>
                  <a:pt x="6598" y="5035"/>
                </a:cubicBezTo>
                <a:cubicBezTo>
                  <a:pt x="6636" y="5060"/>
                  <a:pt x="6674" y="5101"/>
                  <a:pt x="6623" y="5135"/>
                </a:cubicBezTo>
                <a:cubicBezTo>
                  <a:pt x="6581" y="5164"/>
                  <a:pt x="6499" y="5200"/>
                  <a:pt x="6449" y="5209"/>
                </a:cubicBezTo>
                <a:cubicBezTo>
                  <a:pt x="6420" y="5214"/>
                  <a:pt x="6380" y="5209"/>
                  <a:pt x="6350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59080" y="1697040"/>
            <a:ext cx="973080" cy="411120"/>
          </a:xfrm>
          <a:custGeom>
            <a:avLst/>
            <a:gdLst/>
            <a:ahLst/>
            <a:rect l="l" t="t" r="r" b="b"/>
            <a:pathLst>
              <a:path w="2704" h="1142">
                <a:moveTo>
                  <a:pt x="9277" y="4787"/>
                </a:moveTo>
                <a:cubicBezTo>
                  <a:pt x="9338" y="4727"/>
                  <a:pt x="9293" y="4732"/>
                  <a:pt x="9426" y="4713"/>
                </a:cubicBezTo>
                <a:cubicBezTo>
                  <a:pt x="9486" y="4704"/>
                  <a:pt x="9561" y="4708"/>
                  <a:pt x="9599" y="4762"/>
                </a:cubicBezTo>
                <a:cubicBezTo>
                  <a:pt x="9651" y="4835"/>
                  <a:pt x="9606" y="4913"/>
                  <a:pt x="9575" y="4986"/>
                </a:cubicBezTo>
                <a:cubicBezTo>
                  <a:pt x="9544" y="5059"/>
                  <a:pt x="9456" y="5136"/>
                  <a:pt x="9401" y="5184"/>
                </a:cubicBezTo>
                <a:cubicBezTo>
                  <a:pt x="9363" y="5217"/>
                  <a:pt x="9275" y="5289"/>
                  <a:pt x="9227" y="5308"/>
                </a:cubicBezTo>
                <a:cubicBezTo>
                  <a:pt x="9219" y="5308"/>
                  <a:pt x="9211" y="5308"/>
                  <a:pt x="9203" y="5308"/>
                </a:cubicBezTo>
                <a:cubicBezTo>
                  <a:pt x="9242" y="5282"/>
                  <a:pt x="9277" y="5268"/>
                  <a:pt x="9327" y="5259"/>
                </a:cubicBezTo>
                <a:cubicBezTo>
                  <a:pt x="9404" y="5245"/>
                  <a:pt x="9459" y="5275"/>
                  <a:pt x="9525" y="5308"/>
                </a:cubicBezTo>
                <a:cubicBezTo>
                  <a:pt x="9594" y="5342"/>
                  <a:pt x="9637" y="5429"/>
                  <a:pt x="9649" y="5507"/>
                </a:cubicBezTo>
                <a:cubicBezTo>
                  <a:pt x="9658" y="5567"/>
                  <a:pt x="9634" y="5608"/>
                  <a:pt x="9599" y="5655"/>
                </a:cubicBezTo>
                <a:cubicBezTo>
                  <a:pt x="9550" y="5721"/>
                  <a:pt x="9482" y="5764"/>
                  <a:pt x="9401" y="5779"/>
                </a:cubicBezTo>
                <a:cubicBezTo>
                  <a:pt x="9327" y="5793"/>
                  <a:pt x="9249" y="5817"/>
                  <a:pt x="9178" y="5829"/>
                </a:cubicBezTo>
                <a:cubicBezTo>
                  <a:pt x="9143" y="5835"/>
                  <a:pt x="9089" y="5829"/>
                  <a:pt x="9054" y="5829"/>
                </a:cubicBezTo>
              </a:path>
              <a:path w="2704" h="1142">
                <a:moveTo>
                  <a:pt x="9947" y="5234"/>
                </a:moveTo>
                <a:cubicBezTo>
                  <a:pt x="9982" y="5293"/>
                  <a:pt x="10004" y="5344"/>
                  <a:pt x="10046" y="5407"/>
                </a:cubicBezTo>
                <a:cubicBezTo>
                  <a:pt x="10090" y="5473"/>
                  <a:pt x="10137" y="5575"/>
                  <a:pt x="10195" y="5631"/>
                </a:cubicBezTo>
                <a:cubicBezTo>
                  <a:pt x="10240" y="5674"/>
                  <a:pt x="10326" y="5748"/>
                  <a:pt x="10393" y="5755"/>
                </a:cubicBezTo>
                <a:cubicBezTo>
                  <a:pt x="10435" y="5759"/>
                  <a:pt x="10418" y="5712"/>
                  <a:pt x="10418" y="5680"/>
                </a:cubicBezTo>
              </a:path>
              <a:path w="2704" h="1142">
                <a:moveTo>
                  <a:pt x="10269" y="5283"/>
                </a:moveTo>
                <a:cubicBezTo>
                  <a:pt x="10175" y="5425"/>
                  <a:pt x="10084" y="5553"/>
                  <a:pt x="9971" y="5680"/>
                </a:cubicBezTo>
                <a:cubicBezTo>
                  <a:pt x="9950" y="5704"/>
                  <a:pt x="9885" y="5818"/>
                  <a:pt x="9872" y="5829"/>
                </a:cubicBezTo>
                <a:cubicBezTo>
                  <a:pt x="9845" y="5851"/>
                  <a:pt x="9858" y="5787"/>
                  <a:pt x="9872" y="5755"/>
                </a:cubicBezTo>
              </a:path>
              <a:path w="2704" h="1142">
                <a:moveTo>
                  <a:pt x="10616" y="4787"/>
                </a:moveTo>
                <a:cubicBezTo>
                  <a:pt x="10720" y="4771"/>
                  <a:pt x="10756" y="4749"/>
                  <a:pt x="10765" y="4862"/>
                </a:cubicBezTo>
                <a:cubicBezTo>
                  <a:pt x="10768" y="4901"/>
                  <a:pt x="10720" y="5008"/>
                  <a:pt x="10691" y="5035"/>
                </a:cubicBezTo>
                <a:cubicBezTo>
                  <a:pt x="10660" y="5063"/>
                  <a:pt x="10623" y="5078"/>
                  <a:pt x="10592" y="5110"/>
                </a:cubicBezTo>
                <a:cubicBezTo>
                  <a:pt x="10659" y="5110"/>
                  <a:pt x="10704" y="5095"/>
                  <a:pt x="10765" y="5085"/>
                </a:cubicBezTo>
                <a:cubicBezTo>
                  <a:pt x="10827" y="5075"/>
                  <a:pt x="10901" y="5085"/>
                  <a:pt x="10964" y="5085"/>
                </a:cubicBezTo>
              </a:path>
              <a:path w="2704" h="1142">
                <a:moveTo>
                  <a:pt x="11088" y="5581"/>
                </a:moveTo>
                <a:cubicBezTo>
                  <a:pt x="11088" y="5573"/>
                  <a:pt x="11088" y="5564"/>
                  <a:pt x="11088" y="5556"/>
                </a:cubicBezTo>
              </a:path>
              <a:path w="2704" h="1142">
                <a:moveTo>
                  <a:pt x="11237" y="5085"/>
                </a:moveTo>
                <a:cubicBezTo>
                  <a:pt x="11315" y="5044"/>
                  <a:pt x="11384" y="4968"/>
                  <a:pt x="11460" y="5035"/>
                </a:cubicBezTo>
                <a:cubicBezTo>
                  <a:pt x="11520" y="5087"/>
                  <a:pt x="11523" y="5155"/>
                  <a:pt x="11509" y="5234"/>
                </a:cubicBezTo>
                <a:cubicBezTo>
                  <a:pt x="11493" y="5323"/>
                  <a:pt x="11482" y="5420"/>
                  <a:pt x="11460" y="5507"/>
                </a:cubicBezTo>
                <a:cubicBezTo>
                  <a:pt x="11444" y="5571"/>
                  <a:pt x="11410" y="5674"/>
                  <a:pt x="11385" y="5730"/>
                </a:cubicBezTo>
                <a:cubicBezTo>
                  <a:pt x="11366" y="5772"/>
                  <a:pt x="11361" y="5779"/>
                  <a:pt x="11361" y="5829"/>
                </a:cubicBezTo>
                <a:cubicBezTo>
                  <a:pt x="11388" y="5843"/>
                  <a:pt x="11459" y="5843"/>
                  <a:pt x="11509" y="5829"/>
                </a:cubicBezTo>
                <a:cubicBezTo>
                  <a:pt x="11581" y="5809"/>
                  <a:pt x="11659" y="5787"/>
                  <a:pt x="11733" y="5779"/>
                </a:cubicBezTo>
                <a:cubicBezTo>
                  <a:pt x="11780" y="5774"/>
                  <a:pt x="11710" y="5803"/>
                  <a:pt x="11708" y="5804"/>
                </a:cubicBezTo>
                <a:cubicBezTo>
                  <a:pt x="11693" y="5811"/>
                  <a:pt x="11650" y="5804"/>
                  <a:pt x="11633" y="58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99000" y="1598760"/>
            <a:ext cx="1143000" cy="517320"/>
          </a:xfrm>
          <a:custGeom>
            <a:avLst/>
            <a:gdLst/>
            <a:ahLst/>
            <a:rect l="l" t="t" r="r" b="b"/>
            <a:pathLst>
              <a:path w="3176" h="1440">
                <a:moveTo>
                  <a:pt x="12774" y="4862"/>
                </a:moveTo>
                <a:cubicBezTo>
                  <a:pt x="12855" y="4805"/>
                  <a:pt x="12899" y="4776"/>
                  <a:pt x="12998" y="4762"/>
                </a:cubicBezTo>
                <a:cubicBezTo>
                  <a:pt x="13124" y="4744"/>
                  <a:pt x="13215" y="4759"/>
                  <a:pt x="13320" y="4812"/>
                </a:cubicBezTo>
                <a:cubicBezTo>
                  <a:pt x="13393" y="4849"/>
                  <a:pt x="13415" y="4907"/>
                  <a:pt x="13419" y="4986"/>
                </a:cubicBezTo>
                <a:cubicBezTo>
                  <a:pt x="13423" y="5060"/>
                  <a:pt x="13381" y="5118"/>
                  <a:pt x="13320" y="5159"/>
                </a:cubicBezTo>
                <a:cubicBezTo>
                  <a:pt x="13266" y="5195"/>
                  <a:pt x="13222" y="5207"/>
                  <a:pt x="13171" y="5234"/>
                </a:cubicBezTo>
                <a:cubicBezTo>
                  <a:pt x="13133" y="5254"/>
                  <a:pt x="13114" y="5290"/>
                  <a:pt x="13072" y="5283"/>
                </a:cubicBezTo>
                <a:cubicBezTo>
                  <a:pt x="13072" y="5275"/>
                  <a:pt x="13072" y="5267"/>
                  <a:pt x="13072" y="5259"/>
                </a:cubicBezTo>
                <a:cubicBezTo>
                  <a:pt x="13143" y="5252"/>
                  <a:pt x="13183" y="5252"/>
                  <a:pt x="13246" y="5259"/>
                </a:cubicBezTo>
                <a:cubicBezTo>
                  <a:pt x="13340" y="5270"/>
                  <a:pt x="13372" y="5299"/>
                  <a:pt x="13419" y="5383"/>
                </a:cubicBezTo>
                <a:cubicBezTo>
                  <a:pt x="13461" y="5459"/>
                  <a:pt x="13438" y="5580"/>
                  <a:pt x="13395" y="5655"/>
                </a:cubicBezTo>
                <a:cubicBezTo>
                  <a:pt x="13355" y="5724"/>
                  <a:pt x="13291" y="5790"/>
                  <a:pt x="13221" y="5829"/>
                </a:cubicBezTo>
                <a:cubicBezTo>
                  <a:pt x="13165" y="5860"/>
                  <a:pt x="13084" y="5870"/>
                  <a:pt x="13022" y="5879"/>
                </a:cubicBezTo>
                <a:cubicBezTo>
                  <a:pt x="12956" y="5888"/>
                  <a:pt x="12907" y="5879"/>
                  <a:pt x="12849" y="5854"/>
                </a:cubicBezTo>
                <a:cubicBezTo>
                  <a:pt x="12778" y="5824"/>
                  <a:pt x="12806" y="5827"/>
                  <a:pt x="12824" y="5755"/>
                </a:cubicBezTo>
              </a:path>
              <a:path w="3176" h="1440">
                <a:moveTo>
                  <a:pt x="13742" y="5358"/>
                </a:moveTo>
                <a:cubicBezTo>
                  <a:pt x="13797" y="5421"/>
                  <a:pt x="13838" y="5492"/>
                  <a:pt x="13891" y="5556"/>
                </a:cubicBezTo>
                <a:cubicBezTo>
                  <a:pt x="13962" y="5642"/>
                  <a:pt x="14016" y="5699"/>
                  <a:pt x="14114" y="5755"/>
                </a:cubicBezTo>
                <a:cubicBezTo>
                  <a:pt x="14166" y="5784"/>
                  <a:pt x="14223" y="5830"/>
                  <a:pt x="14288" y="5804"/>
                </a:cubicBezTo>
                <a:cubicBezTo>
                  <a:pt x="14317" y="5774"/>
                  <a:pt x="14328" y="5760"/>
                  <a:pt x="14337" y="5730"/>
                </a:cubicBezTo>
              </a:path>
              <a:path w="3176" h="1440">
                <a:moveTo>
                  <a:pt x="14288" y="5383"/>
                </a:moveTo>
                <a:cubicBezTo>
                  <a:pt x="14185" y="5464"/>
                  <a:pt x="14085" y="5541"/>
                  <a:pt x="13990" y="5631"/>
                </a:cubicBezTo>
                <a:cubicBezTo>
                  <a:pt x="13932" y="5686"/>
                  <a:pt x="13821" y="5759"/>
                  <a:pt x="13742" y="5779"/>
                </a:cubicBezTo>
                <a:cubicBezTo>
                  <a:pt x="13681" y="5795"/>
                  <a:pt x="13633" y="5829"/>
                  <a:pt x="13568" y="5829"/>
                </a:cubicBezTo>
                <a:cubicBezTo>
                  <a:pt x="13543" y="5829"/>
                  <a:pt x="13535" y="5829"/>
                  <a:pt x="13519" y="5829"/>
                </a:cubicBezTo>
                <a:cubicBezTo>
                  <a:pt x="13564" y="5829"/>
                  <a:pt x="13580" y="5842"/>
                  <a:pt x="13593" y="5804"/>
                </a:cubicBezTo>
              </a:path>
              <a:path w="3176" h="1440">
                <a:moveTo>
                  <a:pt x="14709" y="5383"/>
                </a:moveTo>
                <a:cubicBezTo>
                  <a:pt x="14751" y="5383"/>
                  <a:pt x="14767" y="5391"/>
                  <a:pt x="14759" y="5358"/>
                </a:cubicBezTo>
              </a:path>
              <a:path w="3176" h="1440">
                <a:moveTo>
                  <a:pt x="14808" y="4986"/>
                </a:moveTo>
                <a:cubicBezTo>
                  <a:pt x="14867" y="4943"/>
                  <a:pt x="14932" y="4867"/>
                  <a:pt x="15007" y="4862"/>
                </a:cubicBezTo>
                <a:cubicBezTo>
                  <a:pt x="15081" y="4857"/>
                  <a:pt x="15142" y="4868"/>
                  <a:pt x="15205" y="4911"/>
                </a:cubicBezTo>
                <a:cubicBezTo>
                  <a:pt x="15251" y="4943"/>
                  <a:pt x="15241" y="5083"/>
                  <a:pt x="15230" y="5135"/>
                </a:cubicBezTo>
                <a:cubicBezTo>
                  <a:pt x="15209" y="5234"/>
                  <a:pt x="15172" y="5334"/>
                  <a:pt x="15106" y="5407"/>
                </a:cubicBezTo>
                <a:cubicBezTo>
                  <a:pt x="15062" y="5455"/>
                  <a:pt x="15003" y="5517"/>
                  <a:pt x="14982" y="5581"/>
                </a:cubicBezTo>
                <a:cubicBezTo>
                  <a:pt x="14968" y="5622"/>
                  <a:pt x="14957" y="5660"/>
                  <a:pt x="14957" y="5705"/>
                </a:cubicBezTo>
                <a:cubicBezTo>
                  <a:pt x="14957" y="5758"/>
                  <a:pt x="14990" y="5755"/>
                  <a:pt x="15032" y="5755"/>
                </a:cubicBezTo>
                <a:cubicBezTo>
                  <a:pt x="15124" y="5755"/>
                  <a:pt x="15149" y="5727"/>
                  <a:pt x="15230" y="5680"/>
                </a:cubicBezTo>
                <a:cubicBezTo>
                  <a:pt x="15247" y="5672"/>
                  <a:pt x="15263" y="5663"/>
                  <a:pt x="15280" y="5655"/>
                </a:cubicBezTo>
              </a:path>
              <a:path w="3176" h="1440">
                <a:moveTo>
                  <a:pt x="15602" y="4490"/>
                </a:moveTo>
                <a:cubicBezTo>
                  <a:pt x="15692" y="4454"/>
                  <a:pt x="15697" y="4437"/>
                  <a:pt x="15751" y="4440"/>
                </a:cubicBezTo>
                <a:cubicBezTo>
                  <a:pt x="15751" y="4542"/>
                  <a:pt x="15737" y="4557"/>
                  <a:pt x="15677" y="4638"/>
                </a:cubicBezTo>
                <a:cubicBezTo>
                  <a:pt x="15636" y="4693"/>
                  <a:pt x="15584" y="4768"/>
                  <a:pt x="15577" y="4837"/>
                </a:cubicBezTo>
                <a:cubicBezTo>
                  <a:pt x="15570" y="4908"/>
                  <a:pt x="15656" y="4887"/>
                  <a:pt x="15701" y="4887"/>
                </a:cubicBezTo>
                <a:cubicBezTo>
                  <a:pt x="15784" y="4887"/>
                  <a:pt x="15866" y="4887"/>
                  <a:pt x="15949" y="48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48240" y="1562040"/>
            <a:ext cx="696960" cy="492120"/>
          </a:xfrm>
          <a:custGeom>
            <a:avLst/>
            <a:gdLst/>
            <a:ahLst/>
            <a:rect l="l" t="t" r="r" b="b"/>
            <a:pathLst>
              <a:path w="1936" h="1365">
                <a:moveTo>
                  <a:pt x="17636" y="4663"/>
                </a:moveTo>
                <a:cubicBezTo>
                  <a:pt x="17671" y="4710"/>
                  <a:pt x="17661" y="4750"/>
                  <a:pt x="17661" y="4812"/>
                </a:cubicBezTo>
                <a:cubicBezTo>
                  <a:pt x="17661" y="5013"/>
                  <a:pt x="17656" y="5216"/>
                  <a:pt x="17686" y="5407"/>
                </a:cubicBezTo>
                <a:cubicBezTo>
                  <a:pt x="17699" y="5489"/>
                  <a:pt x="17686" y="5558"/>
                  <a:pt x="17711" y="5631"/>
                </a:cubicBezTo>
                <a:cubicBezTo>
                  <a:pt x="17711" y="5639"/>
                  <a:pt x="17711" y="5647"/>
                  <a:pt x="17711" y="5655"/>
                </a:cubicBezTo>
              </a:path>
              <a:path w="1936" h="1365">
                <a:moveTo>
                  <a:pt x="18107" y="5184"/>
                </a:moveTo>
                <a:cubicBezTo>
                  <a:pt x="18135" y="5184"/>
                  <a:pt x="18146" y="5182"/>
                  <a:pt x="18157" y="5159"/>
                </a:cubicBezTo>
              </a:path>
              <a:path w="1936" h="1365">
                <a:moveTo>
                  <a:pt x="18529" y="4837"/>
                </a:moveTo>
                <a:cubicBezTo>
                  <a:pt x="18585" y="4800"/>
                  <a:pt x="18694" y="4713"/>
                  <a:pt x="18777" y="4738"/>
                </a:cubicBezTo>
                <a:cubicBezTo>
                  <a:pt x="18818" y="4750"/>
                  <a:pt x="18873" y="4768"/>
                  <a:pt x="18901" y="4812"/>
                </a:cubicBezTo>
                <a:cubicBezTo>
                  <a:pt x="18958" y="4901"/>
                  <a:pt x="18884" y="5054"/>
                  <a:pt x="18852" y="5135"/>
                </a:cubicBezTo>
                <a:cubicBezTo>
                  <a:pt x="18809" y="5244"/>
                  <a:pt x="18727" y="5366"/>
                  <a:pt x="18653" y="5457"/>
                </a:cubicBezTo>
                <a:cubicBezTo>
                  <a:pt x="18590" y="5534"/>
                  <a:pt x="18454" y="5609"/>
                  <a:pt x="18430" y="5705"/>
                </a:cubicBezTo>
                <a:cubicBezTo>
                  <a:pt x="18485" y="5705"/>
                  <a:pt x="18523" y="5682"/>
                  <a:pt x="18579" y="5680"/>
                </a:cubicBezTo>
                <a:cubicBezTo>
                  <a:pt x="18666" y="5676"/>
                  <a:pt x="18804" y="5659"/>
                  <a:pt x="18876" y="5606"/>
                </a:cubicBezTo>
                <a:cubicBezTo>
                  <a:pt x="18910" y="5581"/>
                  <a:pt x="18944" y="5538"/>
                  <a:pt x="18976" y="5507"/>
                </a:cubicBezTo>
              </a:path>
              <a:path w="1936" h="1365">
                <a:moveTo>
                  <a:pt x="19348" y="4390"/>
                </a:moveTo>
                <a:cubicBezTo>
                  <a:pt x="19382" y="4377"/>
                  <a:pt x="19506" y="4307"/>
                  <a:pt x="19546" y="4366"/>
                </a:cubicBezTo>
                <a:cubicBezTo>
                  <a:pt x="19568" y="4398"/>
                  <a:pt x="19516" y="4495"/>
                  <a:pt x="19496" y="4514"/>
                </a:cubicBezTo>
                <a:cubicBezTo>
                  <a:pt x="19452" y="4555"/>
                  <a:pt x="19417" y="4580"/>
                  <a:pt x="19372" y="4614"/>
                </a:cubicBezTo>
                <a:cubicBezTo>
                  <a:pt x="19413" y="4644"/>
                  <a:pt x="19452" y="4639"/>
                  <a:pt x="19496" y="4663"/>
                </a:cubicBezTo>
                <a:cubicBezTo>
                  <a:pt x="19571" y="4703"/>
                  <a:pt x="19571" y="4734"/>
                  <a:pt x="19571" y="4812"/>
                </a:cubicBezTo>
                <a:cubicBezTo>
                  <a:pt x="19571" y="4855"/>
                  <a:pt x="19485" y="4891"/>
                  <a:pt x="19447" y="4911"/>
                </a:cubicBezTo>
                <a:cubicBezTo>
                  <a:pt x="19376" y="4948"/>
                  <a:pt x="19303" y="4936"/>
                  <a:pt x="19224" y="4936"/>
                </a:cubicBezTo>
                <a:cubicBezTo>
                  <a:pt x="19191" y="4936"/>
                  <a:pt x="19157" y="4936"/>
                  <a:pt x="19124" y="49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24040" y="2509920"/>
            <a:ext cx="222120" cy="384120"/>
          </a:xfrm>
          <a:custGeom>
            <a:avLst/>
            <a:gdLst/>
            <a:ahLst/>
            <a:rect l="l" t="t" r="r" b="b"/>
            <a:pathLst>
              <a:path w="621" h="1068">
                <a:moveTo>
                  <a:pt x="4911" y="6970"/>
                </a:moveTo>
                <a:cubicBezTo>
                  <a:pt x="4841" y="7072"/>
                  <a:pt x="4838" y="7151"/>
                  <a:pt x="4812" y="7268"/>
                </a:cubicBezTo>
                <a:cubicBezTo>
                  <a:pt x="4784" y="7391"/>
                  <a:pt x="4793" y="7467"/>
                  <a:pt x="4837" y="7590"/>
                </a:cubicBezTo>
                <a:cubicBezTo>
                  <a:pt x="4864" y="7665"/>
                  <a:pt x="4905" y="7757"/>
                  <a:pt x="4986" y="7789"/>
                </a:cubicBezTo>
                <a:cubicBezTo>
                  <a:pt x="5049" y="7814"/>
                  <a:pt x="5144" y="7808"/>
                  <a:pt x="5209" y="7789"/>
                </a:cubicBezTo>
                <a:cubicBezTo>
                  <a:pt x="5274" y="7770"/>
                  <a:pt x="5365" y="7680"/>
                  <a:pt x="5383" y="7615"/>
                </a:cubicBezTo>
                <a:cubicBezTo>
                  <a:pt x="5394" y="7575"/>
                  <a:pt x="5426" y="7480"/>
                  <a:pt x="5358" y="7466"/>
                </a:cubicBezTo>
                <a:cubicBezTo>
                  <a:pt x="5275" y="7448"/>
                  <a:pt x="5216" y="7488"/>
                  <a:pt x="5159" y="7541"/>
                </a:cubicBezTo>
                <a:cubicBezTo>
                  <a:pt x="5093" y="7602"/>
                  <a:pt x="5007" y="7694"/>
                  <a:pt x="4986" y="7789"/>
                </a:cubicBezTo>
                <a:cubicBezTo>
                  <a:pt x="4969" y="7863"/>
                  <a:pt x="4986" y="7962"/>
                  <a:pt x="4986" y="80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60720" y="2357280"/>
            <a:ext cx="3340080" cy="652680"/>
          </a:xfrm>
          <a:custGeom>
            <a:avLst/>
            <a:gdLst/>
            <a:ahLst/>
            <a:rect l="l" t="t" r="r" b="b"/>
            <a:pathLst>
              <a:path w="9278" h="1812">
                <a:moveTo>
                  <a:pt x="6722" y="7169"/>
                </a:moveTo>
                <a:cubicBezTo>
                  <a:pt x="6752" y="7207"/>
                  <a:pt x="6763" y="7253"/>
                  <a:pt x="6796" y="7293"/>
                </a:cubicBezTo>
                <a:cubicBezTo>
                  <a:pt x="6856" y="7366"/>
                  <a:pt x="6909" y="7442"/>
                  <a:pt x="6970" y="7516"/>
                </a:cubicBezTo>
                <a:cubicBezTo>
                  <a:pt x="7061" y="7627"/>
                  <a:pt x="7134" y="7701"/>
                  <a:pt x="7243" y="7789"/>
                </a:cubicBezTo>
                <a:cubicBezTo>
                  <a:pt x="7279" y="7818"/>
                  <a:pt x="7280" y="7828"/>
                  <a:pt x="7293" y="7789"/>
                </a:cubicBezTo>
              </a:path>
              <a:path w="9278" h="1812">
                <a:moveTo>
                  <a:pt x="7020" y="7094"/>
                </a:moveTo>
                <a:cubicBezTo>
                  <a:pt x="6998" y="7202"/>
                  <a:pt x="6934" y="7274"/>
                  <a:pt x="6896" y="7367"/>
                </a:cubicBezTo>
                <a:cubicBezTo>
                  <a:pt x="6859" y="7457"/>
                  <a:pt x="6838" y="7551"/>
                  <a:pt x="6796" y="7640"/>
                </a:cubicBezTo>
                <a:cubicBezTo>
                  <a:pt x="6775" y="7685"/>
                  <a:pt x="6711" y="7740"/>
                  <a:pt x="6697" y="7764"/>
                </a:cubicBezTo>
                <a:cubicBezTo>
                  <a:pt x="6697" y="7789"/>
                  <a:pt x="6697" y="7797"/>
                  <a:pt x="6672" y="7789"/>
                </a:cubicBezTo>
                <a:cubicBezTo>
                  <a:pt x="6681" y="7743"/>
                  <a:pt x="6700" y="7708"/>
                  <a:pt x="6722" y="7665"/>
                </a:cubicBezTo>
              </a:path>
              <a:path w="9278" h="1812">
                <a:moveTo>
                  <a:pt x="7342" y="6772"/>
                </a:moveTo>
                <a:cubicBezTo>
                  <a:pt x="7443" y="6740"/>
                  <a:pt x="7492" y="6690"/>
                  <a:pt x="7565" y="6747"/>
                </a:cubicBezTo>
                <a:cubicBezTo>
                  <a:pt x="7524" y="6789"/>
                  <a:pt x="7482" y="6829"/>
                  <a:pt x="7441" y="6871"/>
                </a:cubicBezTo>
                <a:cubicBezTo>
                  <a:pt x="7412" y="6901"/>
                  <a:pt x="7404" y="6912"/>
                  <a:pt x="7367" y="6921"/>
                </a:cubicBezTo>
                <a:cubicBezTo>
                  <a:pt x="7398" y="6961"/>
                  <a:pt x="7417" y="6990"/>
                  <a:pt x="7466" y="7020"/>
                </a:cubicBezTo>
                <a:cubicBezTo>
                  <a:pt x="7546" y="7068"/>
                  <a:pt x="7623" y="7115"/>
                  <a:pt x="7565" y="7218"/>
                </a:cubicBezTo>
                <a:cubicBezTo>
                  <a:pt x="7529" y="7282"/>
                  <a:pt x="7474" y="7294"/>
                  <a:pt x="7417" y="7317"/>
                </a:cubicBezTo>
                <a:cubicBezTo>
                  <a:pt x="7376" y="7337"/>
                  <a:pt x="7349" y="7346"/>
                  <a:pt x="7392" y="7342"/>
                </a:cubicBezTo>
              </a:path>
              <a:path w="9278" h="1812">
                <a:moveTo>
                  <a:pt x="7913" y="7367"/>
                </a:moveTo>
                <a:cubicBezTo>
                  <a:pt x="7913" y="7460"/>
                  <a:pt x="7898" y="7601"/>
                  <a:pt x="7938" y="7689"/>
                </a:cubicBezTo>
                <a:cubicBezTo>
                  <a:pt x="7957" y="7731"/>
                  <a:pt x="7998" y="7746"/>
                  <a:pt x="7962" y="7764"/>
                </a:cubicBezTo>
              </a:path>
              <a:path w="9278" h="1812">
                <a:moveTo>
                  <a:pt x="7714" y="7466"/>
                </a:moveTo>
                <a:cubicBezTo>
                  <a:pt x="7793" y="7466"/>
                  <a:pt x="7889" y="7503"/>
                  <a:pt x="7962" y="7491"/>
                </a:cubicBezTo>
                <a:cubicBezTo>
                  <a:pt x="8045" y="7477"/>
                  <a:pt x="8133" y="7467"/>
                  <a:pt x="8210" y="7441"/>
                </a:cubicBezTo>
              </a:path>
              <a:path w="9278" h="1812">
                <a:moveTo>
                  <a:pt x="8657" y="7020"/>
                </a:moveTo>
                <a:cubicBezTo>
                  <a:pt x="8628" y="7121"/>
                  <a:pt x="8591" y="7217"/>
                  <a:pt x="8558" y="7317"/>
                </a:cubicBezTo>
                <a:cubicBezTo>
                  <a:pt x="8525" y="7416"/>
                  <a:pt x="8533" y="7511"/>
                  <a:pt x="8533" y="7615"/>
                </a:cubicBezTo>
                <a:cubicBezTo>
                  <a:pt x="8533" y="7674"/>
                  <a:pt x="8544" y="7779"/>
                  <a:pt x="8607" y="7813"/>
                </a:cubicBezTo>
                <a:cubicBezTo>
                  <a:pt x="8655" y="7839"/>
                  <a:pt x="8707" y="7830"/>
                  <a:pt x="8756" y="7813"/>
                </a:cubicBezTo>
                <a:cubicBezTo>
                  <a:pt x="8834" y="7786"/>
                  <a:pt x="8911" y="7673"/>
                  <a:pt x="8930" y="7590"/>
                </a:cubicBezTo>
                <a:cubicBezTo>
                  <a:pt x="8941" y="7540"/>
                  <a:pt x="8932" y="7502"/>
                  <a:pt x="8905" y="7466"/>
                </a:cubicBezTo>
                <a:cubicBezTo>
                  <a:pt x="8833" y="7466"/>
                  <a:pt x="8848" y="7485"/>
                  <a:pt x="8806" y="7541"/>
                </a:cubicBezTo>
                <a:cubicBezTo>
                  <a:pt x="8768" y="7591"/>
                  <a:pt x="8781" y="7649"/>
                  <a:pt x="8781" y="7714"/>
                </a:cubicBezTo>
                <a:cubicBezTo>
                  <a:pt x="8781" y="7774"/>
                  <a:pt x="8808" y="7815"/>
                  <a:pt x="8855" y="7838"/>
                </a:cubicBezTo>
                <a:cubicBezTo>
                  <a:pt x="8927" y="7874"/>
                  <a:pt x="8956" y="7866"/>
                  <a:pt x="9029" y="7838"/>
                </a:cubicBezTo>
              </a:path>
              <a:path w="9278" h="1812">
                <a:moveTo>
                  <a:pt x="9327" y="7441"/>
                </a:moveTo>
                <a:cubicBezTo>
                  <a:pt x="9385" y="7509"/>
                  <a:pt x="9408" y="7569"/>
                  <a:pt x="9451" y="7640"/>
                </a:cubicBezTo>
                <a:cubicBezTo>
                  <a:pt x="9499" y="7720"/>
                  <a:pt x="9552" y="7758"/>
                  <a:pt x="9624" y="7813"/>
                </a:cubicBezTo>
                <a:cubicBezTo>
                  <a:pt x="9652" y="7835"/>
                  <a:pt x="9705" y="7887"/>
                  <a:pt x="9748" y="7863"/>
                </a:cubicBezTo>
                <a:cubicBezTo>
                  <a:pt x="9787" y="7841"/>
                  <a:pt x="9793" y="7776"/>
                  <a:pt x="9798" y="7739"/>
                </a:cubicBezTo>
              </a:path>
              <a:path w="9278" h="1812">
                <a:moveTo>
                  <a:pt x="9599" y="7392"/>
                </a:moveTo>
                <a:cubicBezTo>
                  <a:pt x="9529" y="7522"/>
                  <a:pt x="9462" y="7637"/>
                  <a:pt x="9401" y="7764"/>
                </a:cubicBezTo>
                <a:cubicBezTo>
                  <a:pt x="9380" y="7808"/>
                  <a:pt x="9352" y="7891"/>
                  <a:pt x="9302" y="7913"/>
                </a:cubicBezTo>
                <a:cubicBezTo>
                  <a:pt x="9277" y="7913"/>
                  <a:pt x="9269" y="7913"/>
                  <a:pt x="9277" y="7938"/>
                </a:cubicBezTo>
                <a:cubicBezTo>
                  <a:pt x="9277" y="7884"/>
                  <a:pt x="9283" y="7864"/>
                  <a:pt x="9302" y="7813"/>
                </a:cubicBezTo>
              </a:path>
              <a:path w="9278" h="1812">
                <a:moveTo>
                  <a:pt x="9847" y="6896"/>
                </a:moveTo>
                <a:cubicBezTo>
                  <a:pt x="9917" y="6877"/>
                  <a:pt x="10037" y="6800"/>
                  <a:pt x="10046" y="6921"/>
                </a:cubicBezTo>
                <a:cubicBezTo>
                  <a:pt x="10050" y="6982"/>
                  <a:pt x="9984" y="7045"/>
                  <a:pt x="9947" y="7094"/>
                </a:cubicBezTo>
                <a:cubicBezTo>
                  <a:pt x="9909" y="7145"/>
                  <a:pt x="9907" y="7125"/>
                  <a:pt x="9897" y="7193"/>
                </a:cubicBezTo>
                <a:cubicBezTo>
                  <a:pt x="10002" y="7193"/>
                  <a:pt x="10094" y="7196"/>
                  <a:pt x="10195" y="7169"/>
                </a:cubicBezTo>
              </a:path>
              <a:path w="9278" h="1812">
                <a:moveTo>
                  <a:pt x="10492" y="7218"/>
                </a:moveTo>
                <a:cubicBezTo>
                  <a:pt x="10477" y="7341"/>
                  <a:pt x="10454" y="7450"/>
                  <a:pt x="10492" y="7565"/>
                </a:cubicBezTo>
                <a:cubicBezTo>
                  <a:pt x="10508" y="7613"/>
                  <a:pt x="10531" y="7645"/>
                  <a:pt x="10542" y="7689"/>
                </a:cubicBezTo>
              </a:path>
              <a:path w="9278" h="1812">
                <a:moveTo>
                  <a:pt x="10344" y="7491"/>
                </a:moveTo>
                <a:cubicBezTo>
                  <a:pt x="10506" y="7491"/>
                  <a:pt x="10688" y="7512"/>
                  <a:pt x="10840" y="7466"/>
                </a:cubicBezTo>
              </a:path>
              <a:path w="9278" h="1812">
                <a:moveTo>
                  <a:pt x="11261" y="7193"/>
                </a:moveTo>
                <a:cubicBezTo>
                  <a:pt x="11238" y="7280"/>
                  <a:pt x="11254" y="7355"/>
                  <a:pt x="11237" y="7441"/>
                </a:cubicBezTo>
                <a:cubicBezTo>
                  <a:pt x="11217" y="7544"/>
                  <a:pt x="11212" y="7632"/>
                  <a:pt x="11212" y="7739"/>
                </a:cubicBezTo>
                <a:cubicBezTo>
                  <a:pt x="11212" y="7775"/>
                  <a:pt x="11220" y="7856"/>
                  <a:pt x="11237" y="7888"/>
                </a:cubicBezTo>
                <a:cubicBezTo>
                  <a:pt x="11271" y="7953"/>
                  <a:pt x="11292" y="7891"/>
                  <a:pt x="11311" y="7863"/>
                </a:cubicBezTo>
              </a:path>
              <a:path w="9278" h="1812">
                <a:moveTo>
                  <a:pt x="11534" y="7243"/>
                </a:moveTo>
                <a:cubicBezTo>
                  <a:pt x="11671" y="7146"/>
                  <a:pt x="11671" y="7129"/>
                  <a:pt x="11807" y="7144"/>
                </a:cubicBezTo>
                <a:cubicBezTo>
                  <a:pt x="11903" y="7155"/>
                  <a:pt x="11929" y="7220"/>
                  <a:pt x="11906" y="7317"/>
                </a:cubicBezTo>
                <a:cubicBezTo>
                  <a:pt x="11883" y="7411"/>
                  <a:pt x="11822" y="7486"/>
                  <a:pt x="11782" y="7565"/>
                </a:cubicBezTo>
                <a:cubicBezTo>
                  <a:pt x="11739" y="7651"/>
                  <a:pt x="11700" y="7717"/>
                  <a:pt x="11633" y="7789"/>
                </a:cubicBezTo>
                <a:cubicBezTo>
                  <a:pt x="11603" y="7821"/>
                  <a:pt x="11594" y="7872"/>
                  <a:pt x="11584" y="7913"/>
                </a:cubicBezTo>
                <a:cubicBezTo>
                  <a:pt x="11638" y="7927"/>
                  <a:pt x="11645" y="7958"/>
                  <a:pt x="11708" y="7962"/>
                </a:cubicBezTo>
                <a:cubicBezTo>
                  <a:pt x="11777" y="7966"/>
                  <a:pt x="11868" y="7940"/>
                  <a:pt x="11931" y="7913"/>
                </a:cubicBezTo>
                <a:cubicBezTo>
                  <a:pt x="11948" y="7905"/>
                  <a:pt x="11964" y="7896"/>
                  <a:pt x="11981" y="7888"/>
                </a:cubicBezTo>
              </a:path>
              <a:path w="9278" h="1812">
                <a:moveTo>
                  <a:pt x="12204" y="7491"/>
                </a:moveTo>
                <a:cubicBezTo>
                  <a:pt x="12239" y="7613"/>
                  <a:pt x="12265" y="7650"/>
                  <a:pt x="12353" y="7739"/>
                </a:cubicBezTo>
                <a:cubicBezTo>
                  <a:pt x="12416" y="7803"/>
                  <a:pt x="12473" y="7869"/>
                  <a:pt x="12551" y="7913"/>
                </a:cubicBezTo>
                <a:cubicBezTo>
                  <a:pt x="12623" y="7953"/>
                  <a:pt x="12680" y="7949"/>
                  <a:pt x="12750" y="7938"/>
                </a:cubicBezTo>
                <a:cubicBezTo>
                  <a:pt x="12818" y="7928"/>
                  <a:pt x="12817" y="7871"/>
                  <a:pt x="12824" y="7813"/>
                </a:cubicBezTo>
              </a:path>
              <a:path w="9278" h="1812">
                <a:moveTo>
                  <a:pt x="12576" y="7516"/>
                </a:moveTo>
                <a:cubicBezTo>
                  <a:pt x="12481" y="7622"/>
                  <a:pt x="12358" y="7721"/>
                  <a:pt x="12278" y="7838"/>
                </a:cubicBezTo>
                <a:cubicBezTo>
                  <a:pt x="12246" y="7885"/>
                  <a:pt x="12122" y="7968"/>
                  <a:pt x="12179" y="7962"/>
                </a:cubicBezTo>
                <a:cubicBezTo>
                  <a:pt x="12196" y="7954"/>
                  <a:pt x="12212" y="7946"/>
                  <a:pt x="12229" y="7938"/>
                </a:cubicBezTo>
              </a:path>
              <a:path w="9278" h="1812">
                <a:moveTo>
                  <a:pt x="13295" y="7268"/>
                </a:moveTo>
                <a:cubicBezTo>
                  <a:pt x="13295" y="7390"/>
                  <a:pt x="13275" y="7497"/>
                  <a:pt x="13271" y="7615"/>
                </a:cubicBezTo>
                <a:cubicBezTo>
                  <a:pt x="13269" y="7666"/>
                  <a:pt x="13276" y="7790"/>
                  <a:pt x="13295" y="7838"/>
                </a:cubicBezTo>
                <a:cubicBezTo>
                  <a:pt x="13305" y="7863"/>
                  <a:pt x="13328" y="7891"/>
                  <a:pt x="13345" y="7913"/>
                </a:cubicBezTo>
              </a:path>
              <a:path w="9278" h="1812">
                <a:moveTo>
                  <a:pt x="13047" y="7615"/>
                </a:moveTo>
                <a:cubicBezTo>
                  <a:pt x="13144" y="7615"/>
                  <a:pt x="13227" y="7600"/>
                  <a:pt x="13320" y="7590"/>
                </a:cubicBezTo>
                <a:cubicBezTo>
                  <a:pt x="13396" y="7590"/>
                  <a:pt x="13422" y="7590"/>
                  <a:pt x="13469" y="7565"/>
                </a:cubicBezTo>
              </a:path>
              <a:path w="9278" h="1812">
                <a:moveTo>
                  <a:pt x="13891" y="7144"/>
                </a:moveTo>
                <a:cubicBezTo>
                  <a:pt x="13839" y="7207"/>
                  <a:pt x="13779" y="7271"/>
                  <a:pt x="13816" y="7367"/>
                </a:cubicBezTo>
                <a:cubicBezTo>
                  <a:pt x="13836" y="7418"/>
                  <a:pt x="13938" y="7479"/>
                  <a:pt x="13990" y="7491"/>
                </a:cubicBezTo>
                <a:cubicBezTo>
                  <a:pt x="14076" y="7510"/>
                  <a:pt x="14140" y="7477"/>
                  <a:pt x="14213" y="7441"/>
                </a:cubicBezTo>
                <a:cubicBezTo>
                  <a:pt x="14296" y="7400"/>
                  <a:pt x="14332" y="7391"/>
                  <a:pt x="14337" y="7293"/>
                </a:cubicBezTo>
                <a:cubicBezTo>
                  <a:pt x="14340" y="7237"/>
                  <a:pt x="14340" y="7133"/>
                  <a:pt x="14288" y="7094"/>
                </a:cubicBezTo>
                <a:cubicBezTo>
                  <a:pt x="14221" y="7044"/>
                  <a:pt x="14099" y="7026"/>
                  <a:pt x="14015" y="7045"/>
                </a:cubicBezTo>
                <a:cubicBezTo>
                  <a:pt x="13942" y="7062"/>
                  <a:pt x="13920" y="7158"/>
                  <a:pt x="13891" y="7218"/>
                </a:cubicBezTo>
              </a:path>
              <a:path w="9278" h="1812">
                <a:moveTo>
                  <a:pt x="13990" y="7516"/>
                </a:moveTo>
                <a:cubicBezTo>
                  <a:pt x="13921" y="7584"/>
                  <a:pt x="13846" y="7642"/>
                  <a:pt x="13816" y="7739"/>
                </a:cubicBezTo>
                <a:cubicBezTo>
                  <a:pt x="13793" y="7815"/>
                  <a:pt x="13861" y="7859"/>
                  <a:pt x="13915" y="7888"/>
                </a:cubicBezTo>
                <a:cubicBezTo>
                  <a:pt x="13990" y="7928"/>
                  <a:pt x="14077" y="7956"/>
                  <a:pt x="14163" y="7938"/>
                </a:cubicBezTo>
                <a:cubicBezTo>
                  <a:pt x="14281" y="7913"/>
                  <a:pt x="14317" y="7874"/>
                  <a:pt x="14387" y="7789"/>
                </a:cubicBezTo>
                <a:cubicBezTo>
                  <a:pt x="14428" y="7739"/>
                  <a:pt x="14476" y="7654"/>
                  <a:pt x="14412" y="7590"/>
                </a:cubicBezTo>
                <a:cubicBezTo>
                  <a:pt x="14390" y="7568"/>
                  <a:pt x="14294" y="7505"/>
                  <a:pt x="14263" y="7491"/>
                </a:cubicBezTo>
                <a:cubicBezTo>
                  <a:pt x="14231" y="7477"/>
                  <a:pt x="14223" y="7479"/>
                  <a:pt x="14263" y="7466"/>
                </a:cubicBezTo>
              </a:path>
              <a:path w="9278" h="1812">
                <a:moveTo>
                  <a:pt x="14461" y="6821"/>
                </a:moveTo>
                <a:cubicBezTo>
                  <a:pt x="14543" y="6852"/>
                  <a:pt x="14623" y="6855"/>
                  <a:pt x="14709" y="6871"/>
                </a:cubicBezTo>
                <a:cubicBezTo>
                  <a:pt x="14827" y="6893"/>
                  <a:pt x="14939" y="6949"/>
                  <a:pt x="15056" y="6970"/>
                </a:cubicBezTo>
                <a:cubicBezTo>
                  <a:pt x="15108" y="6979"/>
                  <a:pt x="15164" y="6992"/>
                  <a:pt x="15205" y="7020"/>
                </a:cubicBezTo>
                <a:cubicBezTo>
                  <a:pt x="15213" y="7028"/>
                  <a:pt x="15222" y="7037"/>
                  <a:pt x="15230" y="7045"/>
                </a:cubicBezTo>
                <a:cubicBezTo>
                  <a:pt x="15196" y="7112"/>
                  <a:pt x="15175" y="7171"/>
                  <a:pt x="15156" y="7243"/>
                </a:cubicBezTo>
                <a:cubicBezTo>
                  <a:pt x="15122" y="7374"/>
                  <a:pt x="15119" y="7433"/>
                  <a:pt x="15131" y="7565"/>
                </a:cubicBezTo>
                <a:cubicBezTo>
                  <a:pt x="15142" y="7683"/>
                  <a:pt x="15146" y="7799"/>
                  <a:pt x="15180" y="7913"/>
                </a:cubicBezTo>
                <a:cubicBezTo>
                  <a:pt x="15204" y="7996"/>
                  <a:pt x="15262" y="8079"/>
                  <a:pt x="15280" y="8161"/>
                </a:cubicBezTo>
                <a:cubicBezTo>
                  <a:pt x="15291" y="8209"/>
                  <a:pt x="15277" y="8218"/>
                  <a:pt x="15255" y="8235"/>
                </a:cubicBezTo>
                <a:cubicBezTo>
                  <a:pt x="15231" y="8254"/>
                  <a:pt x="15208" y="8260"/>
                  <a:pt x="15156" y="8260"/>
                </a:cubicBezTo>
                <a:cubicBezTo>
                  <a:pt x="15078" y="8260"/>
                  <a:pt x="15007" y="8272"/>
                  <a:pt x="14932" y="8285"/>
                </a:cubicBezTo>
                <a:cubicBezTo>
                  <a:pt x="14815" y="8306"/>
                  <a:pt x="14700" y="8346"/>
                  <a:pt x="14585" y="8359"/>
                </a:cubicBezTo>
                <a:cubicBezTo>
                  <a:pt x="14403" y="8379"/>
                  <a:pt x="14192" y="8370"/>
                  <a:pt x="14015" y="8334"/>
                </a:cubicBezTo>
              </a:path>
              <a:path w="9278" h="1812">
                <a:moveTo>
                  <a:pt x="6648" y="6548"/>
                </a:moveTo>
                <a:cubicBezTo>
                  <a:pt x="6594" y="6602"/>
                  <a:pt x="6533" y="6624"/>
                  <a:pt x="6474" y="6672"/>
                </a:cubicBezTo>
                <a:cubicBezTo>
                  <a:pt x="6388" y="6742"/>
                  <a:pt x="6303" y="6800"/>
                  <a:pt x="6201" y="6846"/>
                </a:cubicBezTo>
                <a:cubicBezTo>
                  <a:pt x="6128" y="6879"/>
                  <a:pt x="6088" y="6915"/>
                  <a:pt x="6028" y="6970"/>
                </a:cubicBezTo>
                <a:cubicBezTo>
                  <a:pt x="5977" y="7016"/>
                  <a:pt x="6007" y="7067"/>
                  <a:pt x="6028" y="7119"/>
                </a:cubicBezTo>
                <a:cubicBezTo>
                  <a:pt x="6058" y="7191"/>
                  <a:pt x="6058" y="7267"/>
                  <a:pt x="6077" y="7342"/>
                </a:cubicBezTo>
                <a:cubicBezTo>
                  <a:pt x="6103" y="7447"/>
                  <a:pt x="6099" y="7534"/>
                  <a:pt x="6077" y="7640"/>
                </a:cubicBezTo>
                <a:cubicBezTo>
                  <a:pt x="6056" y="7740"/>
                  <a:pt x="6020" y="7841"/>
                  <a:pt x="6003" y="7938"/>
                </a:cubicBezTo>
                <a:cubicBezTo>
                  <a:pt x="5998" y="7967"/>
                  <a:pt x="6016" y="8007"/>
                  <a:pt x="6028" y="8012"/>
                </a:cubicBezTo>
                <a:cubicBezTo>
                  <a:pt x="6074" y="8030"/>
                  <a:pt x="6149" y="8053"/>
                  <a:pt x="6201" y="8062"/>
                </a:cubicBezTo>
                <a:cubicBezTo>
                  <a:pt x="6252" y="8071"/>
                  <a:pt x="6367" y="8082"/>
                  <a:pt x="6400" y="8037"/>
                </a:cubicBezTo>
                <a:cubicBezTo>
                  <a:pt x="6428" y="8037"/>
                  <a:pt x="6433" y="8034"/>
                  <a:pt x="6400" y="80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63800" y="3170160"/>
            <a:ext cx="3554280" cy="500040"/>
          </a:xfrm>
          <a:custGeom>
            <a:avLst/>
            <a:gdLst/>
            <a:ahLst/>
            <a:rect l="l" t="t" r="r" b="b"/>
            <a:pathLst>
              <a:path w="9873" h="1390">
                <a:moveTo>
                  <a:pt x="5655" y="8880"/>
                </a:moveTo>
                <a:cubicBezTo>
                  <a:pt x="5647" y="8953"/>
                  <a:pt x="5631" y="9011"/>
                  <a:pt x="5606" y="9079"/>
                </a:cubicBezTo>
                <a:cubicBezTo>
                  <a:pt x="5567" y="9185"/>
                  <a:pt x="5539" y="9293"/>
                  <a:pt x="5507" y="9401"/>
                </a:cubicBezTo>
                <a:cubicBezTo>
                  <a:pt x="5480" y="9490"/>
                  <a:pt x="5437" y="9577"/>
                  <a:pt x="5457" y="9674"/>
                </a:cubicBezTo>
                <a:cubicBezTo>
                  <a:pt x="5473" y="9750"/>
                  <a:pt x="5510" y="9815"/>
                  <a:pt x="5581" y="9823"/>
                </a:cubicBezTo>
                <a:cubicBezTo>
                  <a:pt x="5679" y="9835"/>
                  <a:pt x="5720" y="9817"/>
                  <a:pt x="5804" y="9773"/>
                </a:cubicBezTo>
                <a:cubicBezTo>
                  <a:pt x="5895" y="9725"/>
                  <a:pt x="5935" y="9684"/>
                  <a:pt x="5978" y="9599"/>
                </a:cubicBezTo>
                <a:cubicBezTo>
                  <a:pt x="6012" y="9532"/>
                  <a:pt x="6022" y="9466"/>
                  <a:pt x="5978" y="9401"/>
                </a:cubicBezTo>
                <a:cubicBezTo>
                  <a:pt x="5963" y="9378"/>
                  <a:pt x="5907" y="9361"/>
                  <a:pt x="5879" y="9376"/>
                </a:cubicBezTo>
                <a:cubicBezTo>
                  <a:pt x="5816" y="9411"/>
                  <a:pt x="5804" y="9492"/>
                  <a:pt x="5779" y="9550"/>
                </a:cubicBezTo>
                <a:cubicBezTo>
                  <a:pt x="5751" y="9616"/>
                  <a:pt x="5737" y="9684"/>
                  <a:pt x="5779" y="9748"/>
                </a:cubicBezTo>
                <a:cubicBezTo>
                  <a:pt x="5821" y="9811"/>
                  <a:pt x="5858" y="9823"/>
                  <a:pt x="5928" y="9823"/>
                </a:cubicBezTo>
                <a:cubicBezTo>
                  <a:pt x="5970" y="9823"/>
                  <a:pt x="5978" y="9823"/>
                  <a:pt x="6003" y="9823"/>
                </a:cubicBezTo>
              </a:path>
              <a:path w="9873" h="1390">
                <a:moveTo>
                  <a:pt x="6276" y="9376"/>
                </a:moveTo>
                <a:cubicBezTo>
                  <a:pt x="6334" y="9457"/>
                  <a:pt x="6388" y="9605"/>
                  <a:pt x="6449" y="9674"/>
                </a:cubicBezTo>
                <a:cubicBezTo>
                  <a:pt x="6495" y="9726"/>
                  <a:pt x="6612" y="9793"/>
                  <a:pt x="6672" y="9823"/>
                </a:cubicBezTo>
                <a:cubicBezTo>
                  <a:pt x="6696" y="9835"/>
                  <a:pt x="6744" y="9823"/>
                  <a:pt x="6772" y="9823"/>
                </a:cubicBezTo>
              </a:path>
              <a:path w="9873" h="1390">
                <a:moveTo>
                  <a:pt x="6648" y="9327"/>
                </a:moveTo>
                <a:cubicBezTo>
                  <a:pt x="6554" y="9401"/>
                  <a:pt x="6540" y="9459"/>
                  <a:pt x="6474" y="9550"/>
                </a:cubicBezTo>
                <a:cubicBezTo>
                  <a:pt x="6422" y="9622"/>
                  <a:pt x="6393" y="9696"/>
                  <a:pt x="6350" y="9773"/>
                </a:cubicBezTo>
                <a:cubicBezTo>
                  <a:pt x="6338" y="9795"/>
                  <a:pt x="6325" y="9876"/>
                  <a:pt x="6325" y="9823"/>
                </a:cubicBezTo>
              </a:path>
              <a:path w="9873" h="1390">
                <a:moveTo>
                  <a:pt x="6871" y="8830"/>
                </a:moveTo>
                <a:cubicBezTo>
                  <a:pt x="6946" y="8814"/>
                  <a:pt x="7030" y="8779"/>
                  <a:pt x="7094" y="8830"/>
                </a:cubicBezTo>
                <a:cubicBezTo>
                  <a:pt x="7140" y="8867"/>
                  <a:pt x="7119" y="8909"/>
                  <a:pt x="7094" y="8930"/>
                </a:cubicBezTo>
                <a:cubicBezTo>
                  <a:pt x="7065" y="8958"/>
                  <a:pt x="7057" y="8971"/>
                  <a:pt x="7069" y="9004"/>
                </a:cubicBezTo>
                <a:cubicBezTo>
                  <a:pt x="7034" y="9004"/>
                  <a:pt x="6978" y="9021"/>
                  <a:pt x="7020" y="9079"/>
                </a:cubicBezTo>
                <a:cubicBezTo>
                  <a:pt x="7043" y="9112"/>
                  <a:pt x="7128" y="9078"/>
                  <a:pt x="7169" y="9153"/>
                </a:cubicBezTo>
                <a:cubicBezTo>
                  <a:pt x="7198" y="9206"/>
                  <a:pt x="7188" y="9292"/>
                  <a:pt x="7119" y="9302"/>
                </a:cubicBezTo>
                <a:cubicBezTo>
                  <a:pt x="7077" y="9308"/>
                  <a:pt x="6835" y="9328"/>
                  <a:pt x="6921" y="9252"/>
                </a:cubicBezTo>
                <a:cubicBezTo>
                  <a:pt x="6929" y="9252"/>
                  <a:pt x="6937" y="9252"/>
                  <a:pt x="6945" y="9252"/>
                </a:cubicBezTo>
              </a:path>
              <a:path w="9873" h="1390">
                <a:moveTo>
                  <a:pt x="7615" y="9227"/>
                </a:moveTo>
                <a:cubicBezTo>
                  <a:pt x="7615" y="9320"/>
                  <a:pt x="7593" y="9507"/>
                  <a:pt x="7640" y="9599"/>
                </a:cubicBezTo>
                <a:cubicBezTo>
                  <a:pt x="7653" y="9624"/>
                  <a:pt x="7688" y="9695"/>
                  <a:pt x="7689" y="9699"/>
                </a:cubicBezTo>
                <a:cubicBezTo>
                  <a:pt x="7689" y="9715"/>
                  <a:pt x="7689" y="9732"/>
                  <a:pt x="7689" y="9748"/>
                </a:cubicBezTo>
              </a:path>
              <a:path w="9873" h="1390">
                <a:moveTo>
                  <a:pt x="7417" y="9475"/>
                </a:moveTo>
                <a:cubicBezTo>
                  <a:pt x="7522" y="9447"/>
                  <a:pt x="7636" y="9454"/>
                  <a:pt x="7739" y="9426"/>
                </a:cubicBezTo>
                <a:cubicBezTo>
                  <a:pt x="7756" y="9418"/>
                  <a:pt x="7772" y="9409"/>
                  <a:pt x="7789" y="9401"/>
                </a:cubicBezTo>
              </a:path>
              <a:path w="9873" h="1390">
                <a:moveTo>
                  <a:pt x="8086" y="9079"/>
                </a:moveTo>
                <a:cubicBezTo>
                  <a:pt x="8267" y="9079"/>
                  <a:pt x="8243" y="9074"/>
                  <a:pt x="8384" y="9153"/>
                </a:cubicBezTo>
                <a:cubicBezTo>
                  <a:pt x="8421" y="9174"/>
                  <a:pt x="8423" y="9208"/>
                  <a:pt x="8384" y="9252"/>
                </a:cubicBezTo>
                <a:cubicBezTo>
                  <a:pt x="8329" y="9316"/>
                  <a:pt x="8259" y="9286"/>
                  <a:pt x="8210" y="9327"/>
                </a:cubicBezTo>
                <a:cubicBezTo>
                  <a:pt x="8188" y="9346"/>
                  <a:pt x="8141" y="9385"/>
                  <a:pt x="8136" y="9401"/>
                </a:cubicBezTo>
                <a:cubicBezTo>
                  <a:pt x="8182" y="9413"/>
                  <a:pt x="8239" y="9424"/>
                  <a:pt x="8285" y="9451"/>
                </a:cubicBezTo>
                <a:cubicBezTo>
                  <a:pt x="8335" y="9481"/>
                  <a:pt x="8411" y="9548"/>
                  <a:pt x="8434" y="9599"/>
                </a:cubicBezTo>
                <a:cubicBezTo>
                  <a:pt x="8476" y="9692"/>
                  <a:pt x="8454" y="9698"/>
                  <a:pt x="8409" y="9773"/>
                </a:cubicBezTo>
                <a:cubicBezTo>
                  <a:pt x="8377" y="9827"/>
                  <a:pt x="8328" y="9843"/>
                  <a:pt x="8260" y="9847"/>
                </a:cubicBezTo>
                <a:cubicBezTo>
                  <a:pt x="8221" y="9849"/>
                  <a:pt x="8135" y="9852"/>
                  <a:pt x="8111" y="9823"/>
                </a:cubicBezTo>
                <a:cubicBezTo>
                  <a:pt x="8064" y="9766"/>
                  <a:pt x="8099" y="9733"/>
                  <a:pt x="8111" y="9674"/>
                </a:cubicBezTo>
              </a:path>
              <a:path w="9873" h="1390">
                <a:moveTo>
                  <a:pt x="8632" y="9302"/>
                </a:moveTo>
                <a:cubicBezTo>
                  <a:pt x="8665" y="9313"/>
                  <a:pt x="8657" y="9338"/>
                  <a:pt x="8657" y="9302"/>
                </a:cubicBezTo>
                <a:cubicBezTo>
                  <a:pt x="8657" y="9360"/>
                  <a:pt x="8648" y="9367"/>
                  <a:pt x="8632" y="9401"/>
                </a:cubicBezTo>
                <a:cubicBezTo>
                  <a:pt x="8601" y="9468"/>
                  <a:pt x="8607" y="9527"/>
                  <a:pt x="8607" y="9599"/>
                </a:cubicBezTo>
                <a:cubicBezTo>
                  <a:pt x="8607" y="9677"/>
                  <a:pt x="8658" y="9728"/>
                  <a:pt x="8706" y="9773"/>
                </a:cubicBezTo>
                <a:cubicBezTo>
                  <a:pt x="8765" y="9829"/>
                  <a:pt x="8828" y="9888"/>
                  <a:pt x="8905" y="9897"/>
                </a:cubicBezTo>
                <a:cubicBezTo>
                  <a:pt x="8989" y="9906"/>
                  <a:pt x="9142" y="9925"/>
                  <a:pt x="9178" y="9847"/>
                </a:cubicBezTo>
                <a:cubicBezTo>
                  <a:pt x="9209" y="9781"/>
                  <a:pt x="9206" y="9745"/>
                  <a:pt x="9178" y="9674"/>
                </a:cubicBezTo>
                <a:cubicBezTo>
                  <a:pt x="9162" y="9635"/>
                  <a:pt x="9107" y="9570"/>
                  <a:pt x="9054" y="9599"/>
                </a:cubicBezTo>
                <a:cubicBezTo>
                  <a:pt x="8994" y="9632"/>
                  <a:pt x="8959" y="9687"/>
                  <a:pt x="8954" y="9748"/>
                </a:cubicBezTo>
                <a:cubicBezTo>
                  <a:pt x="8947" y="9831"/>
                  <a:pt x="8969" y="9797"/>
                  <a:pt x="9004" y="9847"/>
                </a:cubicBezTo>
                <a:cubicBezTo>
                  <a:pt x="9046" y="9907"/>
                  <a:pt x="9056" y="9895"/>
                  <a:pt x="9128" y="9922"/>
                </a:cubicBezTo>
              </a:path>
              <a:path w="9873" h="1390">
                <a:moveTo>
                  <a:pt x="9351" y="9327"/>
                </a:moveTo>
                <a:cubicBezTo>
                  <a:pt x="9403" y="9429"/>
                  <a:pt x="9453" y="9511"/>
                  <a:pt x="9525" y="9599"/>
                </a:cubicBezTo>
                <a:cubicBezTo>
                  <a:pt x="9571" y="9656"/>
                  <a:pt x="9652" y="9790"/>
                  <a:pt x="9699" y="9823"/>
                </a:cubicBezTo>
                <a:cubicBezTo>
                  <a:pt x="9731" y="9845"/>
                  <a:pt x="9860" y="9885"/>
                  <a:pt x="9897" y="9897"/>
                </a:cubicBezTo>
              </a:path>
              <a:path w="9873" h="1390">
                <a:moveTo>
                  <a:pt x="9723" y="9376"/>
                </a:moveTo>
                <a:cubicBezTo>
                  <a:pt x="9637" y="9486"/>
                  <a:pt x="9611" y="9556"/>
                  <a:pt x="9550" y="9674"/>
                </a:cubicBezTo>
                <a:cubicBezTo>
                  <a:pt x="9512" y="9748"/>
                  <a:pt x="9445" y="9844"/>
                  <a:pt x="9426" y="9922"/>
                </a:cubicBezTo>
                <a:cubicBezTo>
                  <a:pt x="9414" y="9971"/>
                  <a:pt x="9455" y="9943"/>
                  <a:pt x="9475" y="9897"/>
                </a:cubicBezTo>
              </a:path>
              <a:path w="9873" h="1390">
                <a:moveTo>
                  <a:pt x="9971" y="9004"/>
                </a:moveTo>
                <a:cubicBezTo>
                  <a:pt x="10098" y="9012"/>
                  <a:pt x="10196" y="8998"/>
                  <a:pt x="10120" y="9153"/>
                </a:cubicBezTo>
                <a:cubicBezTo>
                  <a:pt x="10094" y="9205"/>
                  <a:pt x="10040" y="9245"/>
                  <a:pt x="10021" y="9302"/>
                </a:cubicBezTo>
                <a:cubicBezTo>
                  <a:pt x="10021" y="9310"/>
                  <a:pt x="10021" y="9319"/>
                  <a:pt x="10021" y="9327"/>
                </a:cubicBezTo>
                <a:cubicBezTo>
                  <a:pt x="10117" y="9327"/>
                  <a:pt x="10204" y="9332"/>
                  <a:pt x="10294" y="9302"/>
                </a:cubicBezTo>
              </a:path>
              <a:path w="9873" h="1390">
                <a:moveTo>
                  <a:pt x="10716" y="9302"/>
                </a:moveTo>
                <a:cubicBezTo>
                  <a:pt x="10729" y="9412"/>
                  <a:pt x="10727" y="9495"/>
                  <a:pt x="10740" y="9599"/>
                </a:cubicBezTo>
                <a:cubicBezTo>
                  <a:pt x="10750" y="9682"/>
                  <a:pt x="10770" y="9745"/>
                  <a:pt x="10790" y="9823"/>
                </a:cubicBezTo>
                <a:cubicBezTo>
                  <a:pt x="10790" y="9831"/>
                  <a:pt x="10790" y="9839"/>
                  <a:pt x="10790" y="9847"/>
                </a:cubicBezTo>
              </a:path>
              <a:path w="9873" h="1390">
                <a:moveTo>
                  <a:pt x="10492" y="9525"/>
                </a:moveTo>
                <a:cubicBezTo>
                  <a:pt x="10640" y="9525"/>
                  <a:pt x="10796" y="9554"/>
                  <a:pt x="10914" y="9475"/>
                </a:cubicBezTo>
              </a:path>
              <a:path w="9873" h="1390">
                <a:moveTo>
                  <a:pt x="11137" y="9079"/>
                </a:moveTo>
                <a:cubicBezTo>
                  <a:pt x="11336" y="9079"/>
                  <a:pt x="11534" y="9079"/>
                  <a:pt x="11733" y="9079"/>
                </a:cubicBezTo>
                <a:cubicBezTo>
                  <a:pt x="11712" y="9130"/>
                  <a:pt x="11697" y="9176"/>
                  <a:pt x="11683" y="9227"/>
                </a:cubicBezTo>
                <a:cubicBezTo>
                  <a:pt x="11655" y="9328"/>
                  <a:pt x="11619" y="9420"/>
                  <a:pt x="11609" y="9525"/>
                </a:cubicBezTo>
                <a:cubicBezTo>
                  <a:pt x="11598" y="9630"/>
                  <a:pt x="11622" y="9723"/>
                  <a:pt x="11633" y="9823"/>
                </a:cubicBezTo>
                <a:cubicBezTo>
                  <a:pt x="11641" y="9899"/>
                  <a:pt x="11651" y="9974"/>
                  <a:pt x="11658" y="10046"/>
                </a:cubicBezTo>
                <a:cubicBezTo>
                  <a:pt x="11665" y="10121"/>
                  <a:pt x="11678" y="10080"/>
                  <a:pt x="11708" y="10046"/>
                </a:cubicBezTo>
                <a:cubicBezTo>
                  <a:pt x="11716" y="10038"/>
                  <a:pt x="11725" y="10029"/>
                  <a:pt x="11733" y="10021"/>
                </a:cubicBezTo>
              </a:path>
              <a:path w="9873" h="1390">
                <a:moveTo>
                  <a:pt x="12005" y="9252"/>
                </a:moveTo>
                <a:cubicBezTo>
                  <a:pt x="12079" y="9239"/>
                  <a:pt x="12190" y="9196"/>
                  <a:pt x="12254" y="9252"/>
                </a:cubicBezTo>
                <a:cubicBezTo>
                  <a:pt x="12358" y="9343"/>
                  <a:pt x="12336" y="9483"/>
                  <a:pt x="12328" y="9599"/>
                </a:cubicBezTo>
                <a:cubicBezTo>
                  <a:pt x="12319" y="9725"/>
                  <a:pt x="12274" y="9726"/>
                  <a:pt x="12229" y="9823"/>
                </a:cubicBezTo>
                <a:cubicBezTo>
                  <a:pt x="12179" y="9932"/>
                  <a:pt x="12176" y="9867"/>
                  <a:pt x="12105" y="9922"/>
                </a:cubicBezTo>
                <a:cubicBezTo>
                  <a:pt x="12088" y="9938"/>
                  <a:pt x="12072" y="9955"/>
                  <a:pt x="12055" y="9971"/>
                </a:cubicBezTo>
                <a:cubicBezTo>
                  <a:pt x="12016" y="9913"/>
                  <a:pt x="11963" y="9914"/>
                  <a:pt x="11981" y="9823"/>
                </a:cubicBezTo>
                <a:cubicBezTo>
                  <a:pt x="11992" y="9767"/>
                  <a:pt x="12054" y="9751"/>
                  <a:pt x="12105" y="9748"/>
                </a:cubicBezTo>
                <a:cubicBezTo>
                  <a:pt x="12186" y="9743"/>
                  <a:pt x="12219" y="9799"/>
                  <a:pt x="12278" y="9823"/>
                </a:cubicBezTo>
                <a:cubicBezTo>
                  <a:pt x="12317" y="9839"/>
                  <a:pt x="12424" y="9892"/>
                  <a:pt x="12452" y="9922"/>
                </a:cubicBezTo>
                <a:cubicBezTo>
                  <a:pt x="12524" y="9999"/>
                  <a:pt x="12540" y="9987"/>
                  <a:pt x="12576" y="9922"/>
                </a:cubicBezTo>
                <a:cubicBezTo>
                  <a:pt x="12584" y="9914"/>
                  <a:pt x="12593" y="9905"/>
                  <a:pt x="12601" y="9897"/>
                </a:cubicBezTo>
              </a:path>
              <a:path w="9873" h="1390">
                <a:moveTo>
                  <a:pt x="12750" y="9451"/>
                </a:moveTo>
                <a:cubicBezTo>
                  <a:pt x="12799" y="9535"/>
                  <a:pt x="12837" y="9679"/>
                  <a:pt x="12898" y="9748"/>
                </a:cubicBezTo>
                <a:cubicBezTo>
                  <a:pt x="12961" y="9820"/>
                  <a:pt x="13050" y="9898"/>
                  <a:pt x="13122" y="9971"/>
                </a:cubicBezTo>
                <a:cubicBezTo>
                  <a:pt x="13214" y="10063"/>
                  <a:pt x="13229" y="10096"/>
                  <a:pt x="13345" y="10096"/>
                </a:cubicBezTo>
              </a:path>
              <a:path w="9873" h="1390">
                <a:moveTo>
                  <a:pt x="13097" y="9525"/>
                </a:moveTo>
                <a:cubicBezTo>
                  <a:pt x="13008" y="9627"/>
                  <a:pt x="12941" y="9749"/>
                  <a:pt x="12849" y="9847"/>
                </a:cubicBezTo>
                <a:cubicBezTo>
                  <a:pt x="12790" y="9909"/>
                  <a:pt x="12772" y="9963"/>
                  <a:pt x="12725" y="10021"/>
                </a:cubicBezTo>
                <a:cubicBezTo>
                  <a:pt x="12661" y="10100"/>
                  <a:pt x="12711" y="10010"/>
                  <a:pt x="12750" y="9971"/>
                </a:cubicBezTo>
              </a:path>
              <a:path w="9873" h="1390">
                <a:moveTo>
                  <a:pt x="13593" y="9302"/>
                </a:moveTo>
                <a:cubicBezTo>
                  <a:pt x="13593" y="9437"/>
                  <a:pt x="13573" y="9565"/>
                  <a:pt x="13568" y="9699"/>
                </a:cubicBezTo>
                <a:cubicBezTo>
                  <a:pt x="13565" y="9799"/>
                  <a:pt x="13579" y="9876"/>
                  <a:pt x="13593" y="9971"/>
                </a:cubicBezTo>
                <a:cubicBezTo>
                  <a:pt x="13593" y="10016"/>
                  <a:pt x="13590" y="10029"/>
                  <a:pt x="13618" y="10046"/>
                </a:cubicBezTo>
              </a:path>
              <a:path w="9873" h="1390">
                <a:moveTo>
                  <a:pt x="13444" y="9748"/>
                </a:moveTo>
                <a:cubicBezTo>
                  <a:pt x="13521" y="9672"/>
                  <a:pt x="13560" y="9720"/>
                  <a:pt x="13667" y="9699"/>
                </a:cubicBezTo>
                <a:cubicBezTo>
                  <a:pt x="13740" y="9685"/>
                  <a:pt x="13875" y="9701"/>
                  <a:pt x="13940" y="9674"/>
                </a:cubicBezTo>
                <a:cubicBezTo>
                  <a:pt x="13965" y="9657"/>
                  <a:pt x="13990" y="9641"/>
                  <a:pt x="14015" y="9624"/>
                </a:cubicBezTo>
              </a:path>
              <a:path w="9873" h="1390">
                <a:moveTo>
                  <a:pt x="14139" y="9525"/>
                </a:moveTo>
                <a:cubicBezTo>
                  <a:pt x="14112" y="9587"/>
                  <a:pt x="14033" y="9702"/>
                  <a:pt x="14139" y="9748"/>
                </a:cubicBezTo>
                <a:cubicBezTo>
                  <a:pt x="14161" y="9757"/>
                  <a:pt x="14290" y="9778"/>
                  <a:pt x="14312" y="9773"/>
                </a:cubicBezTo>
                <a:cubicBezTo>
                  <a:pt x="14393" y="9754"/>
                  <a:pt x="14440" y="9718"/>
                  <a:pt x="14511" y="9674"/>
                </a:cubicBezTo>
              </a:path>
              <a:path w="9873" h="1390">
                <a:moveTo>
                  <a:pt x="14511" y="9227"/>
                </a:moveTo>
                <a:cubicBezTo>
                  <a:pt x="14485" y="9331"/>
                  <a:pt x="14486" y="9417"/>
                  <a:pt x="14486" y="9525"/>
                </a:cubicBezTo>
                <a:cubicBezTo>
                  <a:pt x="14486" y="9630"/>
                  <a:pt x="14500" y="9722"/>
                  <a:pt x="14511" y="9823"/>
                </a:cubicBezTo>
                <a:cubicBezTo>
                  <a:pt x="14521" y="9909"/>
                  <a:pt x="14522" y="9990"/>
                  <a:pt x="14536" y="10071"/>
                </a:cubicBezTo>
                <a:cubicBezTo>
                  <a:pt x="14538" y="10081"/>
                  <a:pt x="14543" y="10198"/>
                  <a:pt x="14560" y="10195"/>
                </a:cubicBezTo>
                <a:cubicBezTo>
                  <a:pt x="14583" y="10172"/>
                  <a:pt x="14587" y="10164"/>
                  <a:pt x="14610" y="10170"/>
                </a:cubicBezTo>
              </a:path>
              <a:path w="9873" h="1390">
                <a:moveTo>
                  <a:pt x="15156" y="9302"/>
                </a:moveTo>
                <a:cubicBezTo>
                  <a:pt x="15112" y="9264"/>
                  <a:pt x="15052" y="9198"/>
                  <a:pt x="14982" y="9227"/>
                </a:cubicBezTo>
                <a:cubicBezTo>
                  <a:pt x="14939" y="9245"/>
                  <a:pt x="14881" y="9255"/>
                  <a:pt x="14883" y="9302"/>
                </a:cubicBezTo>
                <a:cubicBezTo>
                  <a:pt x="14888" y="9412"/>
                  <a:pt x="14955" y="9464"/>
                  <a:pt x="15007" y="9550"/>
                </a:cubicBezTo>
                <a:cubicBezTo>
                  <a:pt x="15080" y="9670"/>
                  <a:pt x="15173" y="9769"/>
                  <a:pt x="15230" y="9897"/>
                </a:cubicBezTo>
                <a:cubicBezTo>
                  <a:pt x="15269" y="9983"/>
                  <a:pt x="15252" y="10004"/>
                  <a:pt x="15230" y="10071"/>
                </a:cubicBezTo>
                <a:cubicBezTo>
                  <a:pt x="15211" y="10127"/>
                  <a:pt x="15191" y="10136"/>
                  <a:pt x="15131" y="10096"/>
                </a:cubicBezTo>
                <a:cubicBezTo>
                  <a:pt x="15077" y="10060"/>
                  <a:pt x="15033" y="10035"/>
                  <a:pt x="15007" y="9971"/>
                </a:cubicBezTo>
                <a:cubicBezTo>
                  <a:pt x="14969" y="9878"/>
                  <a:pt x="14986" y="9857"/>
                  <a:pt x="15007" y="9773"/>
                </a:cubicBezTo>
                <a:cubicBezTo>
                  <a:pt x="15028" y="9691"/>
                  <a:pt x="15045" y="9659"/>
                  <a:pt x="15106" y="9599"/>
                </a:cubicBezTo>
                <a:cubicBezTo>
                  <a:pt x="15162" y="9543"/>
                  <a:pt x="15216" y="9495"/>
                  <a:pt x="15255" y="9426"/>
                </a:cubicBezTo>
                <a:cubicBezTo>
                  <a:pt x="15299" y="9347"/>
                  <a:pt x="15352" y="9306"/>
                  <a:pt x="15304" y="92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0040" y="3537000"/>
            <a:ext cx="750960" cy="338040"/>
          </a:xfrm>
          <a:custGeom>
            <a:avLst/>
            <a:gdLst/>
            <a:ahLst/>
            <a:rect l="l" t="t" r="r" b="b"/>
            <a:pathLst>
              <a:path w="2085" h="943">
                <a:moveTo>
                  <a:pt x="4638" y="10319"/>
                </a:moveTo>
                <a:cubicBezTo>
                  <a:pt x="4787" y="10319"/>
                  <a:pt x="4936" y="10319"/>
                  <a:pt x="5085" y="10319"/>
                </a:cubicBezTo>
              </a:path>
              <a:path w="2085" h="943">
                <a:moveTo>
                  <a:pt x="5333" y="10120"/>
                </a:moveTo>
                <a:cubicBezTo>
                  <a:pt x="5412" y="10102"/>
                  <a:pt x="5454" y="10096"/>
                  <a:pt x="5531" y="10096"/>
                </a:cubicBezTo>
                <a:cubicBezTo>
                  <a:pt x="5574" y="10096"/>
                  <a:pt x="5602" y="10131"/>
                  <a:pt x="5606" y="10170"/>
                </a:cubicBezTo>
                <a:cubicBezTo>
                  <a:pt x="5613" y="10229"/>
                  <a:pt x="5575" y="10248"/>
                  <a:pt x="5556" y="10294"/>
                </a:cubicBezTo>
                <a:cubicBezTo>
                  <a:pt x="5537" y="10341"/>
                  <a:pt x="5523" y="10430"/>
                  <a:pt x="5482" y="10468"/>
                </a:cubicBezTo>
                <a:cubicBezTo>
                  <a:pt x="5427" y="10518"/>
                  <a:pt x="5383" y="10560"/>
                  <a:pt x="5358" y="10641"/>
                </a:cubicBezTo>
                <a:cubicBezTo>
                  <a:pt x="5347" y="10678"/>
                  <a:pt x="5320" y="10705"/>
                  <a:pt x="5308" y="10740"/>
                </a:cubicBezTo>
                <a:cubicBezTo>
                  <a:pt x="5308" y="10748"/>
                  <a:pt x="5308" y="10757"/>
                  <a:pt x="5308" y="10765"/>
                </a:cubicBezTo>
                <a:cubicBezTo>
                  <a:pt x="5358" y="10765"/>
                  <a:pt x="5367" y="10754"/>
                  <a:pt x="5407" y="10740"/>
                </a:cubicBezTo>
                <a:cubicBezTo>
                  <a:pt x="5445" y="10727"/>
                  <a:pt x="5490" y="10718"/>
                  <a:pt x="5531" y="10716"/>
                </a:cubicBezTo>
                <a:cubicBezTo>
                  <a:pt x="5595" y="10712"/>
                  <a:pt x="5639" y="10691"/>
                  <a:pt x="5705" y="10691"/>
                </a:cubicBezTo>
              </a:path>
              <a:path w="2085" h="943">
                <a:moveTo>
                  <a:pt x="6003" y="10319"/>
                </a:moveTo>
                <a:cubicBezTo>
                  <a:pt x="6062" y="10429"/>
                  <a:pt x="6104" y="10433"/>
                  <a:pt x="6176" y="10517"/>
                </a:cubicBezTo>
                <a:cubicBezTo>
                  <a:pt x="6241" y="10592"/>
                  <a:pt x="6345" y="10713"/>
                  <a:pt x="6449" y="10740"/>
                </a:cubicBezTo>
                <a:cubicBezTo>
                  <a:pt x="6466" y="10740"/>
                  <a:pt x="6482" y="10740"/>
                  <a:pt x="6499" y="10740"/>
                </a:cubicBezTo>
              </a:path>
              <a:path w="2085" h="943">
                <a:moveTo>
                  <a:pt x="6276" y="10269"/>
                </a:moveTo>
                <a:cubicBezTo>
                  <a:pt x="6242" y="10328"/>
                  <a:pt x="6207" y="10381"/>
                  <a:pt x="6176" y="10443"/>
                </a:cubicBezTo>
                <a:cubicBezTo>
                  <a:pt x="6150" y="10494"/>
                  <a:pt x="6129" y="10571"/>
                  <a:pt x="6102" y="10616"/>
                </a:cubicBezTo>
                <a:cubicBezTo>
                  <a:pt x="6081" y="10651"/>
                  <a:pt x="6071" y="10703"/>
                  <a:pt x="6052" y="10666"/>
                </a:cubicBezTo>
              </a:path>
              <a:path w="2085" h="943">
                <a:moveTo>
                  <a:pt x="6449" y="9897"/>
                </a:moveTo>
                <a:cubicBezTo>
                  <a:pt x="6548" y="9823"/>
                  <a:pt x="6552" y="9823"/>
                  <a:pt x="6672" y="9823"/>
                </a:cubicBezTo>
                <a:cubicBezTo>
                  <a:pt x="6697" y="9823"/>
                  <a:pt x="6705" y="9823"/>
                  <a:pt x="6722" y="9823"/>
                </a:cubicBezTo>
                <a:cubicBezTo>
                  <a:pt x="6714" y="9862"/>
                  <a:pt x="6666" y="9903"/>
                  <a:pt x="6672" y="9922"/>
                </a:cubicBezTo>
                <a:cubicBezTo>
                  <a:pt x="6695" y="9996"/>
                  <a:pt x="6722" y="9958"/>
                  <a:pt x="6722" y="10046"/>
                </a:cubicBezTo>
                <a:cubicBezTo>
                  <a:pt x="6722" y="10098"/>
                  <a:pt x="6690" y="10096"/>
                  <a:pt x="6648" y="10096"/>
                </a:cubicBezTo>
                <a:cubicBezTo>
                  <a:pt x="6582" y="10096"/>
                  <a:pt x="6515" y="10096"/>
                  <a:pt x="6449" y="100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68760" y="3643200"/>
            <a:ext cx="839520" cy="322200"/>
          </a:xfrm>
          <a:custGeom>
            <a:avLst/>
            <a:gdLst/>
            <a:ahLst/>
            <a:rect l="l" t="t" r="r" b="b"/>
            <a:pathLst>
              <a:path w="2333" h="894">
                <a:moveTo>
                  <a:pt x="7913" y="10220"/>
                </a:moveTo>
                <a:cubicBezTo>
                  <a:pt x="7905" y="10278"/>
                  <a:pt x="7901" y="10333"/>
                  <a:pt x="7888" y="10393"/>
                </a:cubicBezTo>
                <a:cubicBezTo>
                  <a:pt x="7867" y="10490"/>
                  <a:pt x="7860" y="10570"/>
                  <a:pt x="7888" y="10666"/>
                </a:cubicBezTo>
                <a:cubicBezTo>
                  <a:pt x="7907" y="10733"/>
                  <a:pt x="7920" y="10805"/>
                  <a:pt x="7938" y="10864"/>
                </a:cubicBezTo>
                <a:cubicBezTo>
                  <a:pt x="7938" y="10889"/>
                  <a:pt x="7938" y="10897"/>
                  <a:pt x="7938" y="10914"/>
                </a:cubicBezTo>
              </a:path>
              <a:path w="2333" h="894">
                <a:moveTo>
                  <a:pt x="7689" y="10542"/>
                </a:moveTo>
                <a:cubicBezTo>
                  <a:pt x="7803" y="10542"/>
                  <a:pt x="7902" y="10555"/>
                  <a:pt x="8012" y="10567"/>
                </a:cubicBezTo>
                <a:cubicBezTo>
                  <a:pt x="8037" y="10567"/>
                  <a:pt x="8061" y="10567"/>
                  <a:pt x="8086" y="10567"/>
                </a:cubicBezTo>
              </a:path>
              <a:path w="2333" h="894">
                <a:moveTo>
                  <a:pt x="8458" y="10393"/>
                </a:moveTo>
                <a:cubicBezTo>
                  <a:pt x="8439" y="10483"/>
                  <a:pt x="8434" y="10551"/>
                  <a:pt x="8434" y="10641"/>
                </a:cubicBezTo>
                <a:cubicBezTo>
                  <a:pt x="8434" y="10681"/>
                  <a:pt x="8432" y="10810"/>
                  <a:pt x="8458" y="10840"/>
                </a:cubicBezTo>
                <a:cubicBezTo>
                  <a:pt x="8484" y="10870"/>
                  <a:pt x="8569" y="10911"/>
                  <a:pt x="8607" y="10914"/>
                </a:cubicBezTo>
                <a:cubicBezTo>
                  <a:pt x="8656" y="10917"/>
                  <a:pt x="8725" y="10883"/>
                  <a:pt x="8756" y="10840"/>
                </a:cubicBezTo>
                <a:cubicBezTo>
                  <a:pt x="8771" y="10819"/>
                  <a:pt x="8816" y="10715"/>
                  <a:pt x="8806" y="10691"/>
                </a:cubicBezTo>
                <a:cubicBezTo>
                  <a:pt x="8795" y="10664"/>
                  <a:pt x="8769" y="10620"/>
                  <a:pt x="8731" y="10641"/>
                </a:cubicBezTo>
                <a:cubicBezTo>
                  <a:pt x="8676" y="10671"/>
                  <a:pt x="8690" y="10745"/>
                  <a:pt x="8706" y="10790"/>
                </a:cubicBezTo>
                <a:cubicBezTo>
                  <a:pt x="8727" y="10851"/>
                  <a:pt x="8801" y="10929"/>
                  <a:pt x="8855" y="10964"/>
                </a:cubicBezTo>
                <a:cubicBezTo>
                  <a:pt x="8911" y="11001"/>
                  <a:pt x="8931" y="10992"/>
                  <a:pt x="8979" y="10964"/>
                </a:cubicBezTo>
              </a:path>
              <a:path w="2333" h="894">
                <a:moveTo>
                  <a:pt x="9128" y="10666"/>
                </a:moveTo>
                <a:cubicBezTo>
                  <a:pt x="9236" y="10774"/>
                  <a:pt x="9319" y="10860"/>
                  <a:pt x="9451" y="10939"/>
                </a:cubicBezTo>
                <a:cubicBezTo>
                  <a:pt x="9509" y="10973"/>
                  <a:pt x="9524" y="10984"/>
                  <a:pt x="9575" y="10964"/>
                </a:cubicBezTo>
              </a:path>
              <a:path w="2333" h="894">
                <a:moveTo>
                  <a:pt x="9277" y="10542"/>
                </a:moveTo>
                <a:cubicBezTo>
                  <a:pt x="9232" y="10632"/>
                  <a:pt x="9188" y="10721"/>
                  <a:pt x="9153" y="10815"/>
                </a:cubicBezTo>
                <a:cubicBezTo>
                  <a:pt x="9129" y="10877"/>
                  <a:pt x="9114" y="10948"/>
                  <a:pt x="9103" y="11013"/>
                </a:cubicBezTo>
              </a:path>
              <a:path w="2333" h="894">
                <a:moveTo>
                  <a:pt x="9575" y="10120"/>
                </a:moveTo>
                <a:cubicBezTo>
                  <a:pt x="9747" y="10146"/>
                  <a:pt x="9787" y="10125"/>
                  <a:pt x="9748" y="10294"/>
                </a:cubicBezTo>
                <a:cubicBezTo>
                  <a:pt x="9736" y="10348"/>
                  <a:pt x="9711" y="10343"/>
                  <a:pt x="9674" y="10368"/>
                </a:cubicBezTo>
                <a:cubicBezTo>
                  <a:pt x="9638" y="10392"/>
                  <a:pt x="9634" y="10387"/>
                  <a:pt x="9624" y="10418"/>
                </a:cubicBezTo>
                <a:cubicBezTo>
                  <a:pt x="9691" y="10418"/>
                  <a:pt x="9737" y="10432"/>
                  <a:pt x="9798" y="10443"/>
                </a:cubicBezTo>
                <a:cubicBezTo>
                  <a:pt x="9867" y="10455"/>
                  <a:pt x="9936" y="10475"/>
                  <a:pt x="9996" y="10492"/>
                </a:cubicBezTo>
                <a:cubicBezTo>
                  <a:pt x="10021" y="10492"/>
                  <a:pt x="10029" y="10492"/>
                  <a:pt x="9996" y="104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9040" y="3759120"/>
            <a:ext cx="679320" cy="304920"/>
          </a:xfrm>
          <a:custGeom>
            <a:avLst/>
            <a:gdLst/>
            <a:ahLst/>
            <a:rect l="l" t="t" r="r" b="b"/>
            <a:pathLst>
              <a:path w="1886" h="844">
                <a:moveTo>
                  <a:pt x="10914" y="10666"/>
                </a:moveTo>
                <a:cubicBezTo>
                  <a:pt x="11008" y="10674"/>
                  <a:pt x="11116" y="10713"/>
                  <a:pt x="11212" y="10691"/>
                </a:cubicBezTo>
                <a:cubicBezTo>
                  <a:pt x="11279" y="10676"/>
                  <a:pt x="11325" y="10651"/>
                  <a:pt x="11385" y="10616"/>
                </a:cubicBezTo>
              </a:path>
              <a:path w="1886" h="844">
                <a:moveTo>
                  <a:pt x="11708" y="10443"/>
                </a:moveTo>
                <a:cubicBezTo>
                  <a:pt x="11724" y="10522"/>
                  <a:pt x="11710" y="10587"/>
                  <a:pt x="11658" y="10666"/>
                </a:cubicBezTo>
                <a:cubicBezTo>
                  <a:pt x="11604" y="10747"/>
                  <a:pt x="11565" y="10783"/>
                  <a:pt x="11559" y="10889"/>
                </a:cubicBezTo>
                <a:cubicBezTo>
                  <a:pt x="11554" y="10978"/>
                  <a:pt x="11600" y="11012"/>
                  <a:pt x="11658" y="11063"/>
                </a:cubicBezTo>
                <a:cubicBezTo>
                  <a:pt x="11705" y="11104"/>
                  <a:pt x="11790" y="11169"/>
                  <a:pt x="11857" y="11162"/>
                </a:cubicBezTo>
                <a:cubicBezTo>
                  <a:pt x="11903" y="11157"/>
                  <a:pt x="12021" y="11125"/>
                  <a:pt x="12055" y="11088"/>
                </a:cubicBezTo>
                <a:cubicBezTo>
                  <a:pt x="12098" y="11041"/>
                  <a:pt x="12126" y="10976"/>
                  <a:pt x="12129" y="10914"/>
                </a:cubicBezTo>
                <a:cubicBezTo>
                  <a:pt x="12132" y="10849"/>
                  <a:pt x="12098" y="10833"/>
                  <a:pt x="12055" y="10790"/>
                </a:cubicBezTo>
                <a:cubicBezTo>
                  <a:pt x="12020" y="10755"/>
                  <a:pt x="11932" y="10764"/>
                  <a:pt x="11906" y="10815"/>
                </a:cubicBezTo>
                <a:cubicBezTo>
                  <a:pt x="11886" y="10854"/>
                  <a:pt x="11909" y="10958"/>
                  <a:pt x="11931" y="10988"/>
                </a:cubicBezTo>
                <a:cubicBezTo>
                  <a:pt x="11964" y="11034"/>
                  <a:pt x="12013" y="11054"/>
                  <a:pt x="12055" y="11088"/>
                </a:cubicBezTo>
              </a:path>
              <a:path w="1886" h="844">
                <a:moveTo>
                  <a:pt x="12378" y="10666"/>
                </a:moveTo>
                <a:cubicBezTo>
                  <a:pt x="12454" y="10812"/>
                  <a:pt x="12530" y="10904"/>
                  <a:pt x="12650" y="11013"/>
                </a:cubicBezTo>
                <a:cubicBezTo>
                  <a:pt x="12704" y="11062"/>
                  <a:pt x="12727" y="11088"/>
                  <a:pt x="12799" y="11088"/>
                </a:cubicBezTo>
              </a:path>
              <a:path w="1886" h="844">
                <a:moveTo>
                  <a:pt x="12650" y="10765"/>
                </a:moveTo>
                <a:cubicBezTo>
                  <a:pt x="12519" y="10852"/>
                  <a:pt x="12413" y="10927"/>
                  <a:pt x="12303" y="11038"/>
                </a:cubicBezTo>
                <a:cubicBezTo>
                  <a:pt x="12243" y="11098"/>
                  <a:pt x="12176" y="11198"/>
                  <a:pt x="12129" y="11261"/>
                </a:cubicBezTo>
                <a:cubicBezTo>
                  <a:pt x="12129" y="11269"/>
                  <a:pt x="12129" y="11278"/>
                  <a:pt x="12129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40200" y="3759120"/>
            <a:ext cx="428760" cy="285840"/>
          </a:xfrm>
          <a:custGeom>
            <a:avLst/>
            <a:gdLst/>
            <a:ahLst/>
            <a:rect l="l" t="t" r="r" b="b"/>
            <a:pathLst>
              <a:path w="1192" h="795">
                <a:moveTo>
                  <a:pt x="13593" y="10666"/>
                </a:moveTo>
                <a:cubicBezTo>
                  <a:pt x="13593" y="10763"/>
                  <a:pt x="13589" y="10846"/>
                  <a:pt x="13618" y="10939"/>
                </a:cubicBezTo>
                <a:cubicBezTo>
                  <a:pt x="13635" y="10995"/>
                  <a:pt x="13663" y="11090"/>
                  <a:pt x="13692" y="11137"/>
                </a:cubicBezTo>
                <a:cubicBezTo>
                  <a:pt x="13725" y="11192"/>
                  <a:pt x="13692" y="11155"/>
                  <a:pt x="13692" y="11112"/>
                </a:cubicBezTo>
              </a:path>
              <a:path w="1192" h="795">
                <a:moveTo>
                  <a:pt x="13444" y="10840"/>
                </a:moveTo>
                <a:cubicBezTo>
                  <a:pt x="13545" y="10812"/>
                  <a:pt x="13571" y="10835"/>
                  <a:pt x="13667" y="10840"/>
                </a:cubicBezTo>
                <a:cubicBezTo>
                  <a:pt x="13684" y="10840"/>
                  <a:pt x="13700" y="10840"/>
                  <a:pt x="13717" y="10840"/>
                </a:cubicBezTo>
              </a:path>
              <a:path w="1192" h="795">
                <a:moveTo>
                  <a:pt x="14039" y="10492"/>
                </a:moveTo>
                <a:cubicBezTo>
                  <a:pt x="14200" y="10444"/>
                  <a:pt x="14218" y="10431"/>
                  <a:pt x="14362" y="10492"/>
                </a:cubicBezTo>
                <a:cubicBezTo>
                  <a:pt x="14392" y="10505"/>
                  <a:pt x="14474" y="10546"/>
                  <a:pt x="14461" y="10592"/>
                </a:cubicBezTo>
                <a:cubicBezTo>
                  <a:pt x="14436" y="10678"/>
                  <a:pt x="14336" y="10743"/>
                  <a:pt x="14288" y="10815"/>
                </a:cubicBezTo>
                <a:cubicBezTo>
                  <a:pt x="14268" y="10844"/>
                  <a:pt x="14210" y="10951"/>
                  <a:pt x="14213" y="10988"/>
                </a:cubicBezTo>
                <a:cubicBezTo>
                  <a:pt x="14218" y="11040"/>
                  <a:pt x="14267" y="11155"/>
                  <a:pt x="14312" y="11187"/>
                </a:cubicBezTo>
                <a:cubicBezTo>
                  <a:pt x="14377" y="11234"/>
                  <a:pt x="14435" y="11237"/>
                  <a:pt x="14511" y="11237"/>
                </a:cubicBezTo>
                <a:cubicBezTo>
                  <a:pt x="14579" y="11237"/>
                  <a:pt x="14598" y="11240"/>
                  <a:pt x="14635" y="112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27160" y="4062240"/>
            <a:ext cx="527040" cy="366840"/>
          </a:xfrm>
          <a:custGeom>
            <a:avLst/>
            <a:gdLst/>
            <a:ahLst/>
            <a:rect l="l" t="t" r="r" b="b"/>
            <a:pathLst>
              <a:path w="1464" h="1018">
                <a:moveTo>
                  <a:pt x="5705" y="11460"/>
                </a:moveTo>
                <a:cubicBezTo>
                  <a:pt x="5699" y="11484"/>
                  <a:pt x="5692" y="11537"/>
                  <a:pt x="5680" y="11559"/>
                </a:cubicBezTo>
                <a:cubicBezTo>
                  <a:pt x="5660" y="11594"/>
                  <a:pt x="5636" y="11616"/>
                  <a:pt x="5631" y="11658"/>
                </a:cubicBezTo>
                <a:cubicBezTo>
                  <a:pt x="5627" y="11692"/>
                  <a:pt x="5677" y="11727"/>
                  <a:pt x="5705" y="11733"/>
                </a:cubicBezTo>
                <a:cubicBezTo>
                  <a:pt x="5748" y="11742"/>
                  <a:pt x="5812" y="11754"/>
                  <a:pt x="5854" y="11757"/>
                </a:cubicBezTo>
                <a:cubicBezTo>
                  <a:pt x="5907" y="11760"/>
                  <a:pt x="5957" y="11763"/>
                  <a:pt x="6003" y="11733"/>
                </a:cubicBezTo>
                <a:cubicBezTo>
                  <a:pt x="6011" y="11725"/>
                  <a:pt x="6020" y="11716"/>
                  <a:pt x="6028" y="11708"/>
                </a:cubicBezTo>
              </a:path>
              <a:path w="1464" h="1018">
                <a:moveTo>
                  <a:pt x="6077" y="11286"/>
                </a:moveTo>
                <a:cubicBezTo>
                  <a:pt x="6048" y="11363"/>
                  <a:pt x="6052" y="11424"/>
                  <a:pt x="6052" y="11509"/>
                </a:cubicBezTo>
                <a:cubicBezTo>
                  <a:pt x="6052" y="11597"/>
                  <a:pt x="6073" y="11672"/>
                  <a:pt x="6077" y="11757"/>
                </a:cubicBezTo>
                <a:cubicBezTo>
                  <a:pt x="6081" y="11845"/>
                  <a:pt x="6098" y="11922"/>
                  <a:pt x="6102" y="12005"/>
                </a:cubicBezTo>
                <a:cubicBezTo>
                  <a:pt x="6104" y="12041"/>
                  <a:pt x="6108" y="12120"/>
                  <a:pt x="6127" y="12154"/>
                </a:cubicBezTo>
                <a:cubicBezTo>
                  <a:pt x="6150" y="12177"/>
                  <a:pt x="6158" y="12188"/>
                  <a:pt x="6152" y="12154"/>
                </a:cubicBezTo>
              </a:path>
              <a:path w="1464" h="1018">
                <a:moveTo>
                  <a:pt x="6375" y="11708"/>
                </a:moveTo>
                <a:cubicBezTo>
                  <a:pt x="6446" y="11756"/>
                  <a:pt x="6422" y="11777"/>
                  <a:pt x="6449" y="11857"/>
                </a:cubicBezTo>
                <a:cubicBezTo>
                  <a:pt x="6474" y="11931"/>
                  <a:pt x="6521" y="11999"/>
                  <a:pt x="6573" y="12055"/>
                </a:cubicBezTo>
                <a:cubicBezTo>
                  <a:pt x="6653" y="12140"/>
                  <a:pt x="6732" y="12200"/>
                  <a:pt x="6821" y="12278"/>
                </a:cubicBezTo>
                <a:cubicBezTo>
                  <a:pt x="6860" y="12312"/>
                  <a:pt x="6895" y="12303"/>
                  <a:pt x="6945" y="12303"/>
                </a:cubicBezTo>
              </a:path>
              <a:path w="1464" h="1018">
                <a:moveTo>
                  <a:pt x="6697" y="11683"/>
                </a:moveTo>
                <a:cubicBezTo>
                  <a:pt x="6657" y="11764"/>
                  <a:pt x="6592" y="11867"/>
                  <a:pt x="6573" y="11956"/>
                </a:cubicBezTo>
                <a:cubicBezTo>
                  <a:pt x="6554" y="12045"/>
                  <a:pt x="6500" y="12126"/>
                  <a:pt x="6474" y="12204"/>
                </a:cubicBezTo>
                <a:cubicBezTo>
                  <a:pt x="6465" y="12230"/>
                  <a:pt x="6422" y="12281"/>
                  <a:pt x="6474" y="12229"/>
                </a:cubicBezTo>
              </a:path>
              <a:path w="1464" h="1018">
                <a:moveTo>
                  <a:pt x="6995" y="11385"/>
                </a:moveTo>
                <a:cubicBezTo>
                  <a:pt x="7044" y="11392"/>
                  <a:pt x="7052" y="11399"/>
                  <a:pt x="7094" y="11410"/>
                </a:cubicBezTo>
                <a:cubicBezTo>
                  <a:pt x="7094" y="11447"/>
                  <a:pt x="7087" y="11482"/>
                  <a:pt x="7069" y="11509"/>
                </a:cubicBezTo>
                <a:cubicBezTo>
                  <a:pt x="7039" y="11555"/>
                  <a:pt x="7020" y="11551"/>
                  <a:pt x="7020" y="11609"/>
                </a:cubicBezTo>
                <a:cubicBezTo>
                  <a:pt x="7020" y="11648"/>
                  <a:pt x="7045" y="11663"/>
                  <a:pt x="7045" y="11708"/>
                </a:cubicBezTo>
                <a:cubicBezTo>
                  <a:pt x="7045" y="11742"/>
                  <a:pt x="7058" y="11788"/>
                  <a:pt x="7020" y="11807"/>
                </a:cubicBezTo>
                <a:cubicBezTo>
                  <a:pt x="7000" y="11817"/>
                  <a:pt x="6952" y="11782"/>
                  <a:pt x="6921" y="11782"/>
                </a:cubicBezTo>
                <a:cubicBezTo>
                  <a:pt x="6876" y="11782"/>
                  <a:pt x="6860" y="11767"/>
                  <a:pt x="6821" y="117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59040" y="4179960"/>
            <a:ext cx="1071720" cy="303120"/>
          </a:xfrm>
          <a:custGeom>
            <a:avLst/>
            <a:gdLst/>
            <a:ahLst/>
            <a:rect l="l" t="t" r="r" b="b"/>
            <a:pathLst>
              <a:path w="2977" h="844">
                <a:moveTo>
                  <a:pt x="7764" y="11708"/>
                </a:moveTo>
                <a:cubicBezTo>
                  <a:pt x="7772" y="11763"/>
                  <a:pt x="7774" y="11825"/>
                  <a:pt x="7789" y="11881"/>
                </a:cubicBezTo>
                <a:cubicBezTo>
                  <a:pt x="7805" y="11940"/>
                  <a:pt x="7822" y="12003"/>
                  <a:pt x="7838" y="12055"/>
                </a:cubicBezTo>
                <a:cubicBezTo>
                  <a:pt x="7846" y="12082"/>
                  <a:pt x="7838" y="12126"/>
                  <a:pt x="7838" y="12154"/>
                </a:cubicBezTo>
              </a:path>
              <a:path w="2977" h="844">
                <a:moveTo>
                  <a:pt x="7665" y="11956"/>
                </a:moveTo>
                <a:cubicBezTo>
                  <a:pt x="7665" y="11931"/>
                  <a:pt x="7665" y="11923"/>
                  <a:pt x="7665" y="11906"/>
                </a:cubicBezTo>
                <a:cubicBezTo>
                  <a:pt x="7724" y="11906"/>
                  <a:pt x="7752" y="11922"/>
                  <a:pt x="7813" y="11931"/>
                </a:cubicBezTo>
                <a:cubicBezTo>
                  <a:pt x="7863" y="11931"/>
                  <a:pt x="7880" y="11931"/>
                  <a:pt x="7913" y="11931"/>
                </a:cubicBezTo>
              </a:path>
              <a:path w="2977" h="844">
                <a:moveTo>
                  <a:pt x="8310" y="11807"/>
                </a:moveTo>
                <a:cubicBezTo>
                  <a:pt x="8276" y="11863"/>
                  <a:pt x="8267" y="11888"/>
                  <a:pt x="8235" y="11931"/>
                </a:cubicBezTo>
                <a:cubicBezTo>
                  <a:pt x="8246" y="11965"/>
                  <a:pt x="8254" y="11967"/>
                  <a:pt x="8285" y="11981"/>
                </a:cubicBezTo>
                <a:cubicBezTo>
                  <a:pt x="8338" y="12005"/>
                  <a:pt x="8376" y="12045"/>
                  <a:pt x="8434" y="12055"/>
                </a:cubicBezTo>
                <a:cubicBezTo>
                  <a:pt x="8490" y="12065"/>
                  <a:pt x="8522" y="12080"/>
                  <a:pt x="8582" y="12080"/>
                </a:cubicBezTo>
              </a:path>
              <a:path w="2977" h="844">
                <a:moveTo>
                  <a:pt x="8558" y="11658"/>
                </a:moveTo>
                <a:cubicBezTo>
                  <a:pt x="8531" y="11746"/>
                  <a:pt x="8533" y="11813"/>
                  <a:pt x="8533" y="11906"/>
                </a:cubicBezTo>
                <a:cubicBezTo>
                  <a:pt x="8533" y="12015"/>
                  <a:pt x="8524" y="12098"/>
                  <a:pt x="8533" y="12204"/>
                </a:cubicBezTo>
                <a:cubicBezTo>
                  <a:pt x="8540" y="12286"/>
                  <a:pt x="8509" y="12387"/>
                  <a:pt x="8558" y="12452"/>
                </a:cubicBezTo>
              </a:path>
              <a:path w="2977" h="844">
                <a:moveTo>
                  <a:pt x="8806" y="11757"/>
                </a:moveTo>
                <a:cubicBezTo>
                  <a:pt x="8871" y="11740"/>
                  <a:pt x="8914" y="11733"/>
                  <a:pt x="8979" y="11733"/>
                </a:cubicBezTo>
                <a:cubicBezTo>
                  <a:pt x="9005" y="11733"/>
                  <a:pt x="9050" y="11774"/>
                  <a:pt x="9054" y="11782"/>
                </a:cubicBezTo>
                <a:cubicBezTo>
                  <a:pt x="9079" y="11833"/>
                  <a:pt x="9037" y="11871"/>
                  <a:pt x="9029" y="11906"/>
                </a:cubicBezTo>
                <a:cubicBezTo>
                  <a:pt x="9019" y="11954"/>
                  <a:pt x="8997" y="12018"/>
                  <a:pt x="8954" y="12055"/>
                </a:cubicBezTo>
                <a:cubicBezTo>
                  <a:pt x="8914" y="12090"/>
                  <a:pt x="8869" y="12114"/>
                  <a:pt x="8830" y="12154"/>
                </a:cubicBezTo>
                <a:cubicBezTo>
                  <a:pt x="8800" y="12185"/>
                  <a:pt x="8791" y="12239"/>
                  <a:pt x="8781" y="12278"/>
                </a:cubicBezTo>
                <a:cubicBezTo>
                  <a:pt x="8837" y="12323"/>
                  <a:pt x="8882" y="12347"/>
                  <a:pt x="8954" y="12353"/>
                </a:cubicBezTo>
                <a:cubicBezTo>
                  <a:pt x="9002" y="12357"/>
                  <a:pt x="9017" y="12350"/>
                  <a:pt x="9054" y="12328"/>
                </a:cubicBezTo>
              </a:path>
              <a:path w="2977" h="844">
                <a:moveTo>
                  <a:pt x="9227" y="11956"/>
                </a:moveTo>
                <a:cubicBezTo>
                  <a:pt x="9282" y="12042"/>
                  <a:pt x="9329" y="12107"/>
                  <a:pt x="9401" y="12179"/>
                </a:cubicBezTo>
                <a:cubicBezTo>
                  <a:pt x="9508" y="12286"/>
                  <a:pt x="9579" y="12383"/>
                  <a:pt x="9723" y="12427"/>
                </a:cubicBezTo>
              </a:path>
              <a:path w="2977" h="844">
                <a:moveTo>
                  <a:pt x="9575" y="11931"/>
                </a:moveTo>
                <a:cubicBezTo>
                  <a:pt x="9520" y="11994"/>
                  <a:pt x="9500" y="12065"/>
                  <a:pt x="9451" y="12129"/>
                </a:cubicBezTo>
                <a:cubicBezTo>
                  <a:pt x="9396" y="12200"/>
                  <a:pt x="9352" y="12263"/>
                  <a:pt x="9327" y="12353"/>
                </a:cubicBezTo>
                <a:cubicBezTo>
                  <a:pt x="9315" y="12395"/>
                  <a:pt x="9238" y="12433"/>
                  <a:pt x="9277" y="12452"/>
                </a:cubicBezTo>
                <a:cubicBezTo>
                  <a:pt x="9285" y="12452"/>
                  <a:pt x="9294" y="12452"/>
                  <a:pt x="9302" y="12452"/>
                </a:cubicBezTo>
              </a:path>
              <a:path w="2977" h="844">
                <a:moveTo>
                  <a:pt x="9773" y="11609"/>
                </a:moveTo>
                <a:cubicBezTo>
                  <a:pt x="9867" y="11609"/>
                  <a:pt x="9887" y="11588"/>
                  <a:pt x="9922" y="11633"/>
                </a:cubicBezTo>
                <a:cubicBezTo>
                  <a:pt x="9922" y="11699"/>
                  <a:pt x="9918" y="11732"/>
                  <a:pt x="9872" y="11782"/>
                </a:cubicBezTo>
                <a:cubicBezTo>
                  <a:pt x="9841" y="11816"/>
                  <a:pt x="9806" y="11849"/>
                  <a:pt x="9773" y="11881"/>
                </a:cubicBezTo>
                <a:cubicBezTo>
                  <a:pt x="9782" y="11909"/>
                  <a:pt x="9807" y="11926"/>
                  <a:pt x="9847" y="11931"/>
                </a:cubicBezTo>
                <a:cubicBezTo>
                  <a:pt x="9920" y="11939"/>
                  <a:pt x="9998" y="11931"/>
                  <a:pt x="10071" y="11931"/>
                </a:cubicBezTo>
              </a:path>
              <a:path w="2977" h="844">
                <a:moveTo>
                  <a:pt x="10443" y="11857"/>
                </a:moveTo>
                <a:cubicBezTo>
                  <a:pt x="10435" y="11909"/>
                  <a:pt x="10395" y="12061"/>
                  <a:pt x="10418" y="12129"/>
                </a:cubicBezTo>
                <a:cubicBezTo>
                  <a:pt x="10435" y="12181"/>
                  <a:pt x="10443" y="12180"/>
                  <a:pt x="10443" y="12229"/>
                </a:cubicBezTo>
              </a:path>
              <a:path w="2977" h="844">
                <a:moveTo>
                  <a:pt x="10344" y="12005"/>
                </a:moveTo>
                <a:cubicBezTo>
                  <a:pt x="10426" y="11971"/>
                  <a:pt x="10435" y="11998"/>
                  <a:pt x="10517" y="12005"/>
                </a:cubicBezTo>
                <a:cubicBezTo>
                  <a:pt x="10558" y="12005"/>
                  <a:pt x="10600" y="12005"/>
                  <a:pt x="10641" y="120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6040" y="4232160"/>
            <a:ext cx="1330200" cy="304920"/>
          </a:xfrm>
          <a:custGeom>
            <a:avLst/>
            <a:gdLst/>
            <a:ahLst/>
            <a:rect l="l" t="t" r="r" b="b"/>
            <a:pathLst>
              <a:path w="3697" h="845">
                <a:moveTo>
                  <a:pt x="11112" y="11757"/>
                </a:moveTo>
                <a:cubicBezTo>
                  <a:pt x="11078" y="11826"/>
                  <a:pt x="11065" y="11887"/>
                  <a:pt x="11038" y="11956"/>
                </a:cubicBezTo>
                <a:cubicBezTo>
                  <a:pt x="10980" y="12101"/>
                  <a:pt x="10969" y="12191"/>
                  <a:pt x="11038" y="12328"/>
                </a:cubicBezTo>
                <a:cubicBezTo>
                  <a:pt x="11072" y="12395"/>
                  <a:pt x="11132" y="12431"/>
                  <a:pt x="11187" y="12477"/>
                </a:cubicBezTo>
                <a:cubicBezTo>
                  <a:pt x="11216" y="12502"/>
                  <a:pt x="11270" y="12517"/>
                  <a:pt x="11311" y="12502"/>
                </a:cubicBezTo>
                <a:cubicBezTo>
                  <a:pt x="11366" y="12482"/>
                  <a:pt x="11416" y="12434"/>
                  <a:pt x="11435" y="12378"/>
                </a:cubicBezTo>
                <a:cubicBezTo>
                  <a:pt x="11452" y="12327"/>
                  <a:pt x="11443" y="12216"/>
                  <a:pt x="11410" y="12179"/>
                </a:cubicBezTo>
                <a:cubicBezTo>
                  <a:pt x="11382" y="12148"/>
                  <a:pt x="11374" y="12154"/>
                  <a:pt x="11336" y="12154"/>
                </a:cubicBezTo>
                <a:cubicBezTo>
                  <a:pt x="11320" y="12218"/>
                  <a:pt x="11286" y="12226"/>
                  <a:pt x="11286" y="12303"/>
                </a:cubicBezTo>
                <a:cubicBezTo>
                  <a:pt x="11286" y="12368"/>
                  <a:pt x="11318" y="12431"/>
                  <a:pt x="11361" y="12477"/>
                </a:cubicBezTo>
                <a:cubicBezTo>
                  <a:pt x="11377" y="12493"/>
                  <a:pt x="11394" y="12510"/>
                  <a:pt x="11410" y="12526"/>
                </a:cubicBezTo>
              </a:path>
              <a:path w="3697" h="845">
                <a:moveTo>
                  <a:pt x="11757" y="11807"/>
                </a:moveTo>
                <a:cubicBezTo>
                  <a:pt x="11732" y="11867"/>
                  <a:pt x="11713" y="11922"/>
                  <a:pt x="11683" y="11981"/>
                </a:cubicBezTo>
                <a:cubicBezTo>
                  <a:pt x="11650" y="12047"/>
                  <a:pt x="11658" y="12106"/>
                  <a:pt x="11658" y="12179"/>
                </a:cubicBezTo>
                <a:cubicBezTo>
                  <a:pt x="11658" y="12255"/>
                  <a:pt x="11699" y="12289"/>
                  <a:pt x="11733" y="12353"/>
                </a:cubicBezTo>
                <a:cubicBezTo>
                  <a:pt x="11781" y="12444"/>
                  <a:pt x="11859" y="12446"/>
                  <a:pt x="11956" y="12452"/>
                </a:cubicBezTo>
                <a:cubicBezTo>
                  <a:pt x="11994" y="12454"/>
                  <a:pt x="12068" y="12387"/>
                  <a:pt x="12080" y="12353"/>
                </a:cubicBezTo>
                <a:cubicBezTo>
                  <a:pt x="12104" y="12281"/>
                  <a:pt x="12072" y="12195"/>
                  <a:pt x="12055" y="12129"/>
                </a:cubicBezTo>
                <a:cubicBezTo>
                  <a:pt x="12046" y="12093"/>
                  <a:pt x="12018" y="12067"/>
                  <a:pt x="11981" y="12055"/>
                </a:cubicBezTo>
                <a:cubicBezTo>
                  <a:pt x="11934" y="12039"/>
                  <a:pt x="11910" y="12076"/>
                  <a:pt x="11881" y="12105"/>
                </a:cubicBezTo>
                <a:cubicBezTo>
                  <a:pt x="11830" y="12156"/>
                  <a:pt x="11871" y="12195"/>
                  <a:pt x="11881" y="12254"/>
                </a:cubicBezTo>
                <a:cubicBezTo>
                  <a:pt x="11895" y="12343"/>
                  <a:pt x="11920" y="12383"/>
                  <a:pt x="11981" y="12452"/>
                </a:cubicBezTo>
              </a:path>
              <a:path w="3697" h="845">
                <a:moveTo>
                  <a:pt x="12353" y="11981"/>
                </a:moveTo>
                <a:cubicBezTo>
                  <a:pt x="12412" y="12030"/>
                  <a:pt x="12427" y="12102"/>
                  <a:pt x="12477" y="12179"/>
                </a:cubicBezTo>
                <a:cubicBezTo>
                  <a:pt x="12527" y="12256"/>
                  <a:pt x="12592" y="12333"/>
                  <a:pt x="12650" y="12402"/>
                </a:cubicBezTo>
                <a:cubicBezTo>
                  <a:pt x="12681" y="12440"/>
                  <a:pt x="12742" y="12498"/>
                  <a:pt x="12799" y="12477"/>
                </a:cubicBezTo>
                <a:cubicBezTo>
                  <a:pt x="12816" y="12469"/>
                  <a:pt x="12832" y="12460"/>
                  <a:pt x="12849" y="12452"/>
                </a:cubicBezTo>
              </a:path>
              <a:path w="3697" h="845">
                <a:moveTo>
                  <a:pt x="12750" y="11981"/>
                </a:moveTo>
                <a:cubicBezTo>
                  <a:pt x="12671" y="12081"/>
                  <a:pt x="12625" y="12141"/>
                  <a:pt x="12576" y="12254"/>
                </a:cubicBezTo>
                <a:cubicBezTo>
                  <a:pt x="12536" y="12347"/>
                  <a:pt x="12479" y="12426"/>
                  <a:pt x="12452" y="12526"/>
                </a:cubicBezTo>
                <a:cubicBezTo>
                  <a:pt x="12452" y="12561"/>
                  <a:pt x="12447" y="12579"/>
                  <a:pt x="12427" y="12601"/>
                </a:cubicBezTo>
              </a:path>
              <a:path w="3697" h="845">
                <a:moveTo>
                  <a:pt x="13171" y="11782"/>
                </a:moveTo>
                <a:cubicBezTo>
                  <a:pt x="13171" y="11944"/>
                  <a:pt x="13173" y="12097"/>
                  <a:pt x="13196" y="12254"/>
                </a:cubicBezTo>
                <a:cubicBezTo>
                  <a:pt x="13207" y="12329"/>
                  <a:pt x="13183" y="12389"/>
                  <a:pt x="13221" y="12452"/>
                </a:cubicBezTo>
              </a:path>
              <a:path w="3697" h="845">
                <a:moveTo>
                  <a:pt x="13072" y="12154"/>
                </a:moveTo>
                <a:cubicBezTo>
                  <a:pt x="13176" y="12125"/>
                  <a:pt x="13220" y="12138"/>
                  <a:pt x="13320" y="12154"/>
                </a:cubicBezTo>
                <a:cubicBezTo>
                  <a:pt x="13337" y="12154"/>
                  <a:pt x="13353" y="12154"/>
                  <a:pt x="13370" y="12154"/>
                </a:cubicBezTo>
              </a:path>
              <a:path w="3697" h="845">
                <a:moveTo>
                  <a:pt x="13866" y="11782"/>
                </a:moveTo>
                <a:cubicBezTo>
                  <a:pt x="13987" y="11782"/>
                  <a:pt x="13998" y="11807"/>
                  <a:pt x="14064" y="11757"/>
                </a:cubicBezTo>
              </a:path>
              <a:path w="3697" h="845">
                <a:moveTo>
                  <a:pt x="13816" y="11757"/>
                </a:moveTo>
                <a:cubicBezTo>
                  <a:pt x="13698" y="11886"/>
                  <a:pt x="13756" y="11849"/>
                  <a:pt x="13692" y="11956"/>
                </a:cubicBezTo>
                <a:cubicBezTo>
                  <a:pt x="13667" y="11997"/>
                  <a:pt x="13667" y="12004"/>
                  <a:pt x="13667" y="12055"/>
                </a:cubicBezTo>
                <a:cubicBezTo>
                  <a:pt x="13667" y="12113"/>
                  <a:pt x="13704" y="12087"/>
                  <a:pt x="13742" y="12080"/>
                </a:cubicBezTo>
                <a:cubicBezTo>
                  <a:pt x="13788" y="12072"/>
                  <a:pt x="13826" y="12067"/>
                  <a:pt x="13866" y="12055"/>
                </a:cubicBezTo>
                <a:cubicBezTo>
                  <a:pt x="13904" y="12044"/>
                  <a:pt x="13991" y="12045"/>
                  <a:pt x="14015" y="12080"/>
                </a:cubicBezTo>
                <a:cubicBezTo>
                  <a:pt x="14051" y="12133"/>
                  <a:pt x="14039" y="12193"/>
                  <a:pt x="14039" y="12254"/>
                </a:cubicBezTo>
                <a:cubicBezTo>
                  <a:pt x="14039" y="12329"/>
                  <a:pt x="13998" y="12386"/>
                  <a:pt x="13965" y="12452"/>
                </a:cubicBezTo>
                <a:cubicBezTo>
                  <a:pt x="13942" y="12498"/>
                  <a:pt x="13912" y="12557"/>
                  <a:pt x="13891" y="12576"/>
                </a:cubicBezTo>
                <a:cubicBezTo>
                  <a:pt x="13862" y="12602"/>
                  <a:pt x="13816" y="12608"/>
                  <a:pt x="13791" y="12576"/>
                </a:cubicBezTo>
                <a:cubicBezTo>
                  <a:pt x="13748" y="12522"/>
                  <a:pt x="13725" y="12468"/>
                  <a:pt x="13717" y="12402"/>
                </a:cubicBezTo>
              </a:path>
              <a:path w="3697" h="845">
                <a:moveTo>
                  <a:pt x="14312" y="11931"/>
                </a:moveTo>
                <a:cubicBezTo>
                  <a:pt x="14271" y="12068"/>
                  <a:pt x="14238" y="12144"/>
                  <a:pt x="14238" y="12278"/>
                </a:cubicBezTo>
                <a:cubicBezTo>
                  <a:pt x="14238" y="12341"/>
                  <a:pt x="14272" y="12426"/>
                  <a:pt x="14312" y="12477"/>
                </a:cubicBezTo>
                <a:cubicBezTo>
                  <a:pt x="14355" y="12532"/>
                  <a:pt x="14434" y="12602"/>
                  <a:pt x="14511" y="12576"/>
                </a:cubicBezTo>
                <a:cubicBezTo>
                  <a:pt x="14573" y="12555"/>
                  <a:pt x="14630" y="12505"/>
                  <a:pt x="14660" y="12452"/>
                </a:cubicBezTo>
                <a:cubicBezTo>
                  <a:pt x="14694" y="12394"/>
                  <a:pt x="14699" y="12271"/>
                  <a:pt x="14684" y="12204"/>
                </a:cubicBezTo>
                <a:cubicBezTo>
                  <a:pt x="14663" y="12114"/>
                  <a:pt x="14633" y="12057"/>
                  <a:pt x="14585" y="11981"/>
                </a:cubicBezTo>
                <a:cubicBezTo>
                  <a:pt x="14561" y="11944"/>
                  <a:pt x="14532" y="11877"/>
                  <a:pt x="14486" y="11857"/>
                </a:cubicBezTo>
                <a:cubicBezTo>
                  <a:pt x="14461" y="11857"/>
                  <a:pt x="14453" y="11857"/>
                  <a:pt x="14461" y="118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00120" y="4660920"/>
            <a:ext cx="384120" cy="393840"/>
          </a:xfrm>
          <a:custGeom>
            <a:avLst/>
            <a:gdLst/>
            <a:ahLst/>
            <a:rect l="l" t="t" r="r" b="b"/>
            <a:pathLst>
              <a:path w="1068" h="1092">
                <a:moveTo>
                  <a:pt x="4167" y="13047"/>
                </a:moveTo>
                <a:cubicBezTo>
                  <a:pt x="4167" y="13307"/>
                  <a:pt x="4135" y="13593"/>
                  <a:pt x="4192" y="13841"/>
                </a:cubicBezTo>
                <a:cubicBezTo>
                  <a:pt x="4204" y="13893"/>
                  <a:pt x="4169" y="13924"/>
                  <a:pt x="4217" y="13940"/>
                </a:cubicBezTo>
              </a:path>
              <a:path w="1068" h="1092">
                <a:moveTo>
                  <a:pt x="4564" y="13543"/>
                </a:moveTo>
                <a:cubicBezTo>
                  <a:pt x="4589" y="13670"/>
                  <a:pt x="4596" y="13715"/>
                  <a:pt x="4663" y="13816"/>
                </a:cubicBezTo>
                <a:cubicBezTo>
                  <a:pt x="4710" y="13887"/>
                  <a:pt x="4750" y="13938"/>
                  <a:pt x="4812" y="13990"/>
                </a:cubicBezTo>
                <a:cubicBezTo>
                  <a:pt x="4842" y="14020"/>
                  <a:pt x="4856" y="14031"/>
                  <a:pt x="4887" y="14039"/>
                </a:cubicBezTo>
              </a:path>
              <a:path w="1068" h="1092">
                <a:moveTo>
                  <a:pt x="4837" y="13419"/>
                </a:moveTo>
                <a:cubicBezTo>
                  <a:pt x="4777" y="13521"/>
                  <a:pt x="4738" y="13612"/>
                  <a:pt x="4688" y="13717"/>
                </a:cubicBezTo>
                <a:cubicBezTo>
                  <a:pt x="4659" y="13778"/>
                  <a:pt x="4643" y="13848"/>
                  <a:pt x="4638" y="13915"/>
                </a:cubicBezTo>
                <a:cubicBezTo>
                  <a:pt x="4638" y="13940"/>
                  <a:pt x="4638" y="13948"/>
                  <a:pt x="4663" y="13940"/>
                </a:cubicBezTo>
              </a:path>
              <a:path w="1068" h="1092">
                <a:moveTo>
                  <a:pt x="5011" y="12998"/>
                </a:moveTo>
                <a:cubicBezTo>
                  <a:pt x="5045" y="12979"/>
                  <a:pt x="5147" y="12899"/>
                  <a:pt x="5184" y="12973"/>
                </a:cubicBezTo>
                <a:cubicBezTo>
                  <a:pt x="5211" y="13028"/>
                  <a:pt x="5201" y="13021"/>
                  <a:pt x="5184" y="13072"/>
                </a:cubicBezTo>
                <a:cubicBezTo>
                  <a:pt x="5168" y="13120"/>
                  <a:pt x="5145" y="13127"/>
                  <a:pt x="5184" y="13171"/>
                </a:cubicBezTo>
                <a:cubicBezTo>
                  <a:pt x="5209" y="13199"/>
                  <a:pt x="5230" y="13234"/>
                  <a:pt x="5234" y="13271"/>
                </a:cubicBezTo>
                <a:cubicBezTo>
                  <a:pt x="5237" y="13301"/>
                  <a:pt x="5187" y="13357"/>
                  <a:pt x="5159" y="13370"/>
                </a:cubicBezTo>
                <a:cubicBezTo>
                  <a:pt x="5123" y="13386"/>
                  <a:pt x="5085" y="13363"/>
                  <a:pt x="5060" y="133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920" y="4714920"/>
            <a:ext cx="1089000" cy="492120"/>
          </a:xfrm>
          <a:custGeom>
            <a:avLst/>
            <a:gdLst/>
            <a:ahLst/>
            <a:rect l="l" t="t" r="r" b="b"/>
            <a:pathLst>
              <a:path w="3027" h="1365">
                <a:moveTo>
                  <a:pt x="6970" y="13494"/>
                </a:moveTo>
                <a:cubicBezTo>
                  <a:pt x="6982" y="13433"/>
                  <a:pt x="6984" y="13419"/>
                  <a:pt x="7045" y="13419"/>
                </a:cubicBezTo>
                <a:cubicBezTo>
                  <a:pt x="7054" y="13419"/>
                  <a:pt x="7168" y="13482"/>
                  <a:pt x="7193" y="13494"/>
                </a:cubicBezTo>
                <a:cubicBezTo>
                  <a:pt x="7246" y="13519"/>
                  <a:pt x="7329" y="13585"/>
                  <a:pt x="7342" y="13643"/>
                </a:cubicBezTo>
                <a:cubicBezTo>
                  <a:pt x="7353" y="13692"/>
                  <a:pt x="7309" y="13741"/>
                  <a:pt x="7268" y="13767"/>
                </a:cubicBezTo>
                <a:cubicBezTo>
                  <a:pt x="7230" y="13791"/>
                  <a:pt x="7162" y="13812"/>
                  <a:pt x="7119" y="13816"/>
                </a:cubicBezTo>
                <a:cubicBezTo>
                  <a:pt x="7063" y="13822"/>
                  <a:pt x="7179" y="13839"/>
                  <a:pt x="7193" y="13841"/>
                </a:cubicBezTo>
                <a:cubicBezTo>
                  <a:pt x="7272" y="13852"/>
                  <a:pt x="7349" y="13862"/>
                  <a:pt x="7417" y="13915"/>
                </a:cubicBezTo>
                <a:cubicBezTo>
                  <a:pt x="7481" y="13965"/>
                  <a:pt x="7510" y="14037"/>
                  <a:pt x="7516" y="14114"/>
                </a:cubicBezTo>
                <a:cubicBezTo>
                  <a:pt x="7521" y="14183"/>
                  <a:pt x="7492" y="14174"/>
                  <a:pt x="7441" y="14213"/>
                </a:cubicBezTo>
                <a:cubicBezTo>
                  <a:pt x="7375" y="14264"/>
                  <a:pt x="7339" y="14222"/>
                  <a:pt x="7268" y="14213"/>
                </a:cubicBezTo>
                <a:cubicBezTo>
                  <a:pt x="7207" y="14205"/>
                  <a:pt x="7134" y="14216"/>
                  <a:pt x="7169" y="14163"/>
                </a:cubicBezTo>
              </a:path>
              <a:path w="3027" h="1365">
                <a:moveTo>
                  <a:pt x="7615" y="13717"/>
                </a:moveTo>
                <a:cubicBezTo>
                  <a:pt x="7713" y="13850"/>
                  <a:pt x="7810" y="13962"/>
                  <a:pt x="7913" y="14089"/>
                </a:cubicBezTo>
                <a:cubicBezTo>
                  <a:pt x="7979" y="14169"/>
                  <a:pt x="8023" y="14232"/>
                  <a:pt x="8111" y="14288"/>
                </a:cubicBezTo>
              </a:path>
              <a:path w="3027" h="1365">
                <a:moveTo>
                  <a:pt x="8012" y="13717"/>
                </a:moveTo>
                <a:cubicBezTo>
                  <a:pt x="7910" y="13772"/>
                  <a:pt x="7812" y="13821"/>
                  <a:pt x="7739" y="13915"/>
                </a:cubicBezTo>
                <a:cubicBezTo>
                  <a:pt x="7686" y="13983"/>
                  <a:pt x="7647" y="14055"/>
                  <a:pt x="7640" y="14139"/>
                </a:cubicBezTo>
                <a:cubicBezTo>
                  <a:pt x="7640" y="14147"/>
                  <a:pt x="7640" y="14155"/>
                  <a:pt x="7640" y="14163"/>
                </a:cubicBezTo>
              </a:path>
              <a:path w="3027" h="1365">
                <a:moveTo>
                  <a:pt x="8111" y="13097"/>
                </a:moveTo>
                <a:cubicBezTo>
                  <a:pt x="8160" y="13112"/>
                  <a:pt x="8318" y="13145"/>
                  <a:pt x="8310" y="13246"/>
                </a:cubicBezTo>
                <a:cubicBezTo>
                  <a:pt x="8307" y="13286"/>
                  <a:pt x="8268" y="13337"/>
                  <a:pt x="8235" y="13370"/>
                </a:cubicBezTo>
                <a:cubicBezTo>
                  <a:pt x="8192" y="13413"/>
                  <a:pt x="8200" y="13471"/>
                  <a:pt x="8235" y="13519"/>
                </a:cubicBezTo>
                <a:cubicBezTo>
                  <a:pt x="8279" y="13578"/>
                  <a:pt x="8392" y="13599"/>
                  <a:pt x="8458" y="13618"/>
                </a:cubicBezTo>
                <a:cubicBezTo>
                  <a:pt x="8589" y="13651"/>
                  <a:pt x="8654" y="13659"/>
                  <a:pt x="8756" y="13643"/>
                </a:cubicBezTo>
              </a:path>
              <a:path w="3027" h="1365">
                <a:moveTo>
                  <a:pt x="9128" y="13320"/>
                </a:moveTo>
                <a:cubicBezTo>
                  <a:pt x="9080" y="13417"/>
                  <a:pt x="9043" y="13518"/>
                  <a:pt x="9004" y="13618"/>
                </a:cubicBezTo>
                <a:cubicBezTo>
                  <a:pt x="8964" y="13720"/>
                  <a:pt x="8916" y="13854"/>
                  <a:pt x="8930" y="13965"/>
                </a:cubicBezTo>
                <a:cubicBezTo>
                  <a:pt x="8939" y="14032"/>
                  <a:pt x="9003" y="14148"/>
                  <a:pt x="9054" y="14188"/>
                </a:cubicBezTo>
                <a:cubicBezTo>
                  <a:pt x="9087" y="14188"/>
                  <a:pt x="9103" y="14188"/>
                  <a:pt x="9128" y="14188"/>
                </a:cubicBezTo>
              </a:path>
              <a:path w="3027" h="1365">
                <a:moveTo>
                  <a:pt x="9203" y="13990"/>
                </a:moveTo>
                <a:cubicBezTo>
                  <a:pt x="9326" y="14009"/>
                  <a:pt x="9391" y="14031"/>
                  <a:pt x="9500" y="13990"/>
                </a:cubicBezTo>
              </a:path>
              <a:path w="3027" h="1365">
                <a:moveTo>
                  <a:pt x="9550" y="13891"/>
                </a:moveTo>
                <a:cubicBezTo>
                  <a:pt x="9567" y="14016"/>
                  <a:pt x="9532" y="14156"/>
                  <a:pt x="9599" y="14263"/>
                </a:cubicBezTo>
                <a:cubicBezTo>
                  <a:pt x="9607" y="14263"/>
                  <a:pt x="9616" y="14263"/>
                  <a:pt x="9624" y="14263"/>
                </a:cubicBezTo>
              </a:path>
              <a:path w="3027" h="1365">
                <a:moveTo>
                  <a:pt x="9723" y="13345"/>
                </a:moveTo>
                <a:cubicBezTo>
                  <a:pt x="9808" y="13513"/>
                  <a:pt x="9911" y="13686"/>
                  <a:pt x="9971" y="13866"/>
                </a:cubicBezTo>
                <a:cubicBezTo>
                  <a:pt x="10012" y="13989"/>
                  <a:pt x="10005" y="14117"/>
                  <a:pt x="9971" y="14238"/>
                </a:cubicBezTo>
                <a:cubicBezTo>
                  <a:pt x="9935" y="14365"/>
                  <a:pt x="9922" y="14370"/>
                  <a:pt x="9823" y="144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10040" y="4786200"/>
            <a:ext cx="884160" cy="517680"/>
          </a:xfrm>
          <a:custGeom>
            <a:avLst/>
            <a:gdLst/>
            <a:ahLst/>
            <a:rect l="l" t="t" r="r" b="b"/>
            <a:pathLst>
              <a:path w="2457" h="1440">
                <a:moveTo>
                  <a:pt x="11137" y="13841"/>
                </a:moveTo>
                <a:cubicBezTo>
                  <a:pt x="11189" y="13796"/>
                  <a:pt x="11218" y="13783"/>
                  <a:pt x="11286" y="13767"/>
                </a:cubicBezTo>
                <a:cubicBezTo>
                  <a:pt x="11335" y="13755"/>
                  <a:pt x="11439" y="13795"/>
                  <a:pt x="11485" y="13816"/>
                </a:cubicBezTo>
                <a:cubicBezTo>
                  <a:pt x="11564" y="13851"/>
                  <a:pt x="11584" y="13854"/>
                  <a:pt x="11584" y="13940"/>
                </a:cubicBezTo>
                <a:cubicBezTo>
                  <a:pt x="11584" y="13984"/>
                  <a:pt x="11522" y="14024"/>
                  <a:pt x="11485" y="14039"/>
                </a:cubicBezTo>
                <a:cubicBezTo>
                  <a:pt x="11439" y="14057"/>
                  <a:pt x="11398" y="14049"/>
                  <a:pt x="11385" y="14089"/>
                </a:cubicBezTo>
                <a:cubicBezTo>
                  <a:pt x="11430" y="14134"/>
                  <a:pt x="11464" y="14173"/>
                  <a:pt x="11509" y="14213"/>
                </a:cubicBezTo>
                <a:cubicBezTo>
                  <a:pt x="11589" y="14284"/>
                  <a:pt x="11649" y="14361"/>
                  <a:pt x="11658" y="14461"/>
                </a:cubicBezTo>
                <a:cubicBezTo>
                  <a:pt x="11667" y="14559"/>
                  <a:pt x="11653" y="14557"/>
                  <a:pt x="11584" y="14610"/>
                </a:cubicBezTo>
                <a:cubicBezTo>
                  <a:pt x="11512" y="14664"/>
                  <a:pt x="11386" y="14650"/>
                  <a:pt x="11311" y="14610"/>
                </a:cubicBezTo>
                <a:cubicBezTo>
                  <a:pt x="11248" y="14576"/>
                  <a:pt x="11248" y="14576"/>
                  <a:pt x="11311" y="14536"/>
                </a:cubicBezTo>
              </a:path>
              <a:path w="2457" h="1440">
                <a:moveTo>
                  <a:pt x="11807" y="14114"/>
                </a:moveTo>
                <a:cubicBezTo>
                  <a:pt x="11889" y="14216"/>
                  <a:pt x="11949" y="14335"/>
                  <a:pt x="12030" y="14436"/>
                </a:cubicBezTo>
                <a:cubicBezTo>
                  <a:pt x="12083" y="14502"/>
                  <a:pt x="12191" y="14636"/>
                  <a:pt x="12278" y="14660"/>
                </a:cubicBezTo>
                <a:cubicBezTo>
                  <a:pt x="12295" y="14660"/>
                  <a:pt x="12311" y="14660"/>
                  <a:pt x="12328" y="14660"/>
                </a:cubicBezTo>
              </a:path>
              <a:path w="2457" h="1440">
                <a:moveTo>
                  <a:pt x="12278" y="14039"/>
                </a:moveTo>
                <a:cubicBezTo>
                  <a:pt x="12126" y="14153"/>
                  <a:pt x="12056" y="14230"/>
                  <a:pt x="11956" y="14387"/>
                </a:cubicBezTo>
                <a:cubicBezTo>
                  <a:pt x="11900" y="14474"/>
                  <a:pt x="11851" y="14580"/>
                  <a:pt x="11832" y="14684"/>
                </a:cubicBezTo>
                <a:cubicBezTo>
                  <a:pt x="11832" y="14701"/>
                  <a:pt x="11832" y="14717"/>
                  <a:pt x="11832" y="14734"/>
                </a:cubicBezTo>
              </a:path>
              <a:path w="2457" h="1440">
                <a:moveTo>
                  <a:pt x="12675" y="13618"/>
                </a:moveTo>
                <a:cubicBezTo>
                  <a:pt x="12633" y="13702"/>
                  <a:pt x="12596" y="13784"/>
                  <a:pt x="12551" y="13866"/>
                </a:cubicBezTo>
                <a:cubicBezTo>
                  <a:pt x="12503" y="13954"/>
                  <a:pt x="12442" y="14062"/>
                  <a:pt x="12427" y="14163"/>
                </a:cubicBezTo>
                <a:cubicBezTo>
                  <a:pt x="12415" y="14245"/>
                  <a:pt x="12427" y="14367"/>
                  <a:pt x="12477" y="14436"/>
                </a:cubicBezTo>
                <a:cubicBezTo>
                  <a:pt x="12537" y="14519"/>
                  <a:pt x="12575" y="14532"/>
                  <a:pt x="12650" y="14486"/>
                </a:cubicBezTo>
              </a:path>
              <a:path w="2457" h="1440">
                <a:moveTo>
                  <a:pt x="12725" y="14114"/>
                </a:moveTo>
                <a:cubicBezTo>
                  <a:pt x="12939" y="14075"/>
                  <a:pt x="12885" y="14127"/>
                  <a:pt x="12973" y="13965"/>
                </a:cubicBezTo>
              </a:path>
              <a:path w="2457" h="1440">
                <a:moveTo>
                  <a:pt x="12998" y="13990"/>
                </a:moveTo>
                <a:cubicBezTo>
                  <a:pt x="12980" y="14168"/>
                  <a:pt x="12990" y="14237"/>
                  <a:pt x="12998" y="14387"/>
                </a:cubicBezTo>
                <a:cubicBezTo>
                  <a:pt x="12998" y="14431"/>
                  <a:pt x="12995" y="14444"/>
                  <a:pt x="13022" y="14461"/>
                </a:cubicBezTo>
              </a:path>
              <a:path w="2457" h="1440">
                <a:moveTo>
                  <a:pt x="13047" y="13519"/>
                </a:moveTo>
                <a:cubicBezTo>
                  <a:pt x="13172" y="13703"/>
                  <a:pt x="13259" y="13816"/>
                  <a:pt x="13271" y="14039"/>
                </a:cubicBezTo>
                <a:cubicBezTo>
                  <a:pt x="13278" y="14170"/>
                  <a:pt x="13270" y="14289"/>
                  <a:pt x="13221" y="14412"/>
                </a:cubicBezTo>
                <a:cubicBezTo>
                  <a:pt x="13210" y="14441"/>
                  <a:pt x="13135" y="14624"/>
                  <a:pt x="13097" y="14585"/>
                </a:cubicBezTo>
                <a:cubicBezTo>
                  <a:pt x="13097" y="14577"/>
                  <a:pt x="13097" y="14568"/>
                  <a:pt x="13097" y="14560"/>
                </a:cubicBezTo>
              </a:path>
              <a:path w="2457" h="1440">
                <a:moveTo>
                  <a:pt x="13320" y="13320"/>
                </a:moveTo>
                <a:cubicBezTo>
                  <a:pt x="13417" y="13311"/>
                  <a:pt x="13491" y="13337"/>
                  <a:pt x="13444" y="13469"/>
                </a:cubicBezTo>
                <a:cubicBezTo>
                  <a:pt x="13428" y="13513"/>
                  <a:pt x="13376" y="13517"/>
                  <a:pt x="13370" y="13568"/>
                </a:cubicBezTo>
                <a:cubicBezTo>
                  <a:pt x="13365" y="13612"/>
                  <a:pt x="13380" y="13642"/>
                  <a:pt x="13419" y="13667"/>
                </a:cubicBezTo>
                <a:cubicBezTo>
                  <a:pt x="13477" y="13704"/>
                  <a:pt x="13531" y="13733"/>
                  <a:pt x="13593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62680" y="4653000"/>
            <a:ext cx="893520" cy="615960"/>
          </a:xfrm>
          <a:custGeom>
            <a:avLst/>
            <a:gdLst/>
            <a:ahLst/>
            <a:rect l="l" t="t" r="r" b="b"/>
            <a:pathLst>
              <a:path w="2482" h="1713">
                <a:moveTo>
                  <a:pt x="14064" y="13593"/>
                </a:moveTo>
                <a:cubicBezTo>
                  <a:pt x="14076" y="13711"/>
                  <a:pt x="14117" y="13830"/>
                  <a:pt x="14163" y="13940"/>
                </a:cubicBezTo>
                <a:cubicBezTo>
                  <a:pt x="14226" y="14092"/>
                  <a:pt x="14273" y="14226"/>
                  <a:pt x="14312" y="14387"/>
                </a:cubicBezTo>
                <a:cubicBezTo>
                  <a:pt x="14320" y="14420"/>
                  <a:pt x="14329" y="14453"/>
                  <a:pt x="14337" y="14486"/>
                </a:cubicBezTo>
              </a:path>
              <a:path w="2482" h="1713">
                <a:moveTo>
                  <a:pt x="14908" y="13519"/>
                </a:moveTo>
                <a:cubicBezTo>
                  <a:pt x="14838" y="13588"/>
                  <a:pt x="14789" y="13660"/>
                  <a:pt x="14734" y="13742"/>
                </a:cubicBezTo>
                <a:cubicBezTo>
                  <a:pt x="14657" y="13856"/>
                  <a:pt x="14661" y="13937"/>
                  <a:pt x="14635" y="14064"/>
                </a:cubicBezTo>
                <a:cubicBezTo>
                  <a:pt x="14611" y="14184"/>
                  <a:pt x="14613" y="14244"/>
                  <a:pt x="14660" y="14362"/>
                </a:cubicBezTo>
                <a:cubicBezTo>
                  <a:pt x="14681" y="14414"/>
                  <a:pt x="14719" y="14477"/>
                  <a:pt x="14784" y="14461"/>
                </a:cubicBezTo>
                <a:cubicBezTo>
                  <a:pt x="14800" y="14453"/>
                  <a:pt x="14817" y="14444"/>
                  <a:pt x="14833" y="14436"/>
                </a:cubicBezTo>
              </a:path>
              <a:path w="2482" h="1713">
                <a:moveTo>
                  <a:pt x="15056" y="14039"/>
                </a:moveTo>
                <a:cubicBezTo>
                  <a:pt x="15132" y="14052"/>
                  <a:pt x="15277" y="14102"/>
                  <a:pt x="15354" y="14089"/>
                </a:cubicBezTo>
                <a:cubicBezTo>
                  <a:pt x="15379" y="14081"/>
                  <a:pt x="15404" y="14072"/>
                  <a:pt x="15429" y="14064"/>
                </a:cubicBezTo>
              </a:path>
              <a:path w="2482" h="1713">
                <a:moveTo>
                  <a:pt x="15577" y="13915"/>
                </a:moveTo>
                <a:cubicBezTo>
                  <a:pt x="15577" y="14048"/>
                  <a:pt x="15567" y="14208"/>
                  <a:pt x="15602" y="14337"/>
                </a:cubicBezTo>
                <a:cubicBezTo>
                  <a:pt x="15619" y="14397"/>
                  <a:pt x="15616" y="14435"/>
                  <a:pt x="15652" y="14412"/>
                </a:cubicBezTo>
              </a:path>
              <a:path w="2482" h="1713">
                <a:moveTo>
                  <a:pt x="15875" y="13469"/>
                </a:moveTo>
                <a:cubicBezTo>
                  <a:pt x="15960" y="13640"/>
                  <a:pt x="16016" y="13776"/>
                  <a:pt x="16049" y="13965"/>
                </a:cubicBezTo>
                <a:cubicBezTo>
                  <a:pt x="16073" y="14101"/>
                  <a:pt x="16091" y="14231"/>
                  <a:pt x="16049" y="14362"/>
                </a:cubicBezTo>
                <a:cubicBezTo>
                  <a:pt x="16031" y="14420"/>
                  <a:pt x="15996" y="14541"/>
                  <a:pt x="15949" y="14585"/>
                </a:cubicBezTo>
                <a:cubicBezTo>
                  <a:pt x="15875" y="14654"/>
                  <a:pt x="15853" y="14660"/>
                  <a:pt x="15875" y="14560"/>
                </a:cubicBezTo>
              </a:path>
              <a:path w="2482" h="1713">
                <a:moveTo>
                  <a:pt x="16297" y="12948"/>
                </a:moveTo>
                <a:cubicBezTo>
                  <a:pt x="16376" y="12918"/>
                  <a:pt x="16401" y="12920"/>
                  <a:pt x="16470" y="12973"/>
                </a:cubicBezTo>
                <a:cubicBezTo>
                  <a:pt x="16500" y="12996"/>
                  <a:pt x="16562" y="13054"/>
                  <a:pt x="16545" y="13097"/>
                </a:cubicBezTo>
                <a:cubicBezTo>
                  <a:pt x="16525" y="13148"/>
                  <a:pt x="16481" y="13164"/>
                  <a:pt x="16446" y="13196"/>
                </a:cubicBezTo>
                <a:cubicBezTo>
                  <a:pt x="16414" y="13225"/>
                  <a:pt x="16412" y="13221"/>
                  <a:pt x="16371" y="13221"/>
                </a:cubicBezTo>
                <a:cubicBezTo>
                  <a:pt x="16371" y="13262"/>
                  <a:pt x="16361" y="13313"/>
                  <a:pt x="16396" y="13345"/>
                </a:cubicBezTo>
                <a:cubicBezTo>
                  <a:pt x="16458" y="13402"/>
                  <a:pt x="16494" y="13452"/>
                  <a:pt x="16520" y="13543"/>
                </a:cubicBezTo>
                <a:cubicBezTo>
                  <a:pt x="16545" y="13628"/>
                  <a:pt x="16422" y="13596"/>
                  <a:pt x="16396" y="13593"/>
                </a:cubicBezTo>
                <a:cubicBezTo>
                  <a:pt x="16306" y="13583"/>
                  <a:pt x="16236" y="13532"/>
                  <a:pt x="16148" y="13519"/>
                </a:cubicBezTo>
                <a:cubicBezTo>
                  <a:pt x="16123" y="13519"/>
                  <a:pt x="16098" y="13519"/>
                  <a:pt x="16073" y="135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5438880"/>
            <a:ext cx="366480" cy="249120"/>
          </a:xfrm>
          <a:custGeom>
            <a:avLst/>
            <a:gdLst/>
            <a:ahLst/>
            <a:rect l="l" t="t" r="r" b="b"/>
            <a:pathLst>
              <a:path w="1018" h="696">
                <a:moveTo>
                  <a:pt x="2753" y="15404"/>
                </a:moveTo>
                <a:cubicBezTo>
                  <a:pt x="2835" y="15404"/>
                  <a:pt x="2900" y="15396"/>
                  <a:pt x="2977" y="15379"/>
                </a:cubicBezTo>
                <a:cubicBezTo>
                  <a:pt x="3042" y="15365"/>
                  <a:pt x="3051" y="15379"/>
                  <a:pt x="3101" y="15329"/>
                </a:cubicBezTo>
              </a:path>
              <a:path w="1018" h="696">
                <a:moveTo>
                  <a:pt x="3249" y="15106"/>
                </a:moveTo>
                <a:cubicBezTo>
                  <a:pt x="3355" y="15106"/>
                  <a:pt x="3474" y="15087"/>
                  <a:pt x="3572" y="15131"/>
                </a:cubicBezTo>
                <a:cubicBezTo>
                  <a:pt x="3616" y="15151"/>
                  <a:pt x="3689" y="15156"/>
                  <a:pt x="3696" y="15205"/>
                </a:cubicBezTo>
                <a:cubicBezTo>
                  <a:pt x="3705" y="15268"/>
                  <a:pt x="3621" y="15283"/>
                  <a:pt x="3572" y="15329"/>
                </a:cubicBezTo>
                <a:cubicBezTo>
                  <a:pt x="3518" y="15379"/>
                  <a:pt x="3451" y="15400"/>
                  <a:pt x="3398" y="15453"/>
                </a:cubicBezTo>
                <a:cubicBezTo>
                  <a:pt x="3370" y="15480"/>
                  <a:pt x="3353" y="15540"/>
                  <a:pt x="3349" y="15577"/>
                </a:cubicBezTo>
                <a:cubicBezTo>
                  <a:pt x="3343" y="15632"/>
                  <a:pt x="3359" y="15657"/>
                  <a:pt x="3373" y="15701"/>
                </a:cubicBezTo>
                <a:cubicBezTo>
                  <a:pt x="3384" y="15736"/>
                  <a:pt x="3469" y="15790"/>
                  <a:pt x="3522" y="15801"/>
                </a:cubicBezTo>
                <a:cubicBezTo>
                  <a:pt x="3604" y="15818"/>
                  <a:pt x="3692" y="15792"/>
                  <a:pt x="3770" y="157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04960" y="5268960"/>
            <a:ext cx="2778120" cy="1044360"/>
          </a:xfrm>
          <a:custGeom>
            <a:avLst/>
            <a:gdLst/>
            <a:ahLst/>
            <a:rect l="l" t="t" r="r" b="b"/>
            <a:pathLst>
              <a:path w="7715" h="2903">
                <a:moveTo>
                  <a:pt x="5234" y="15553"/>
                </a:moveTo>
                <a:cubicBezTo>
                  <a:pt x="5274" y="15697"/>
                  <a:pt x="5335" y="15793"/>
                  <a:pt x="5407" y="15925"/>
                </a:cubicBezTo>
                <a:cubicBezTo>
                  <a:pt x="5473" y="16045"/>
                  <a:pt x="5546" y="16184"/>
                  <a:pt x="5655" y="16272"/>
                </a:cubicBezTo>
                <a:cubicBezTo>
                  <a:pt x="5692" y="16302"/>
                  <a:pt x="5741" y="16315"/>
                  <a:pt x="5779" y="16346"/>
                </a:cubicBezTo>
              </a:path>
              <a:path w="7715" h="2903">
                <a:moveTo>
                  <a:pt x="5655" y="15503"/>
                </a:moveTo>
                <a:cubicBezTo>
                  <a:pt x="5580" y="15660"/>
                  <a:pt x="5543" y="15792"/>
                  <a:pt x="5482" y="15949"/>
                </a:cubicBezTo>
                <a:cubicBezTo>
                  <a:pt x="5459" y="16009"/>
                  <a:pt x="5437" y="16096"/>
                  <a:pt x="5407" y="16148"/>
                </a:cubicBezTo>
                <a:cubicBezTo>
                  <a:pt x="5370" y="16211"/>
                  <a:pt x="5383" y="16192"/>
                  <a:pt x="5383" y="16123"/>
                </a:cubicBezTo>
              </a:path>
              <a:path w="7715" h="2903">
                <a:moveTo>
                  <a:pt x="5904" y="14858"/>
                </a:moveTo>
                <a:cubicBezTo>
                  <a:pt x="6067" y="14866"/>
                  <a:pt x="6073" y="14854"/>
                  <a:pt x="6176" y="14957"/>
                </a:cubicBezTo>
                <a:cubicBezTo>
                  <a:pt x="6226" y="15007"/>
                  <a:pt x="6189" y="15048"/>
                  <a:pt x="6152" y="15081"/>
                </a:cubicBezTo>
                <a:cubicBezTo>
                  <a:pt x="6122" y="15108"/>
                  <a:pt x="6109" y="15107"/>
                  <a:pt x="6077" y="15131"/>
                </a:cubicBezTo>
                <a:cubicBezTo>
                  <a:pt x="6091" y="15188"/>
                  <a:pt x="6144" y="15200"/>
                  <a:pt x="6176" y="15255"/>
                </a:cubicBezTo>
                <a:cubicBezTo>
                  <a:pt x="6195" y="15288"/>
                  <a:pt x="6226" y="15391"/>
                  <a:pt x="6201" y="15429"/>
                </a:cubicBezTo>
                <a:cubicBezTo>
                  <a:pt x="6159" y="15493"/>
                  <a:pt x="6074" y="15522"/>
                  <a:pt x="6003" y="15528"/>
                </a:cubicBezTo>
                <a:cubicBezTo>
                  <a:pt x="5979" y="15530"/>
                  <a:pt x="5953" y="15528"/>
                  <a:pt x="5928" y="15528"/>
                </a:cubicBezTo>
              </a:path>
              <a:path w="7715" h="2903">
                <a:moveTo>
                  <a:pt x="6449" y="15949"/>
                </a:moveTo>
                <a:cubicBezTo>
                  <a:pt x="6555" y="15949"/>
                  <a:pt x="6653" y="15960"/>
                  <a:pt x="6747" y="15900"/>
                </a:cubicBezTo>
                <a:cubicBezTo>
                  <a:pt x="6755" y="15892"/>
                  <a:pt x="6764" y="15883"/>
                  <a:pt x="6772" y="15875"/>
                </a:cubicBezTo>
              </a:path>
              <a:path w="7715" h="2903">
                <a:moveTo>
                  <a:pt x="6995" y="15602"/>
                </a:moveTo>
                <a:cubicBezTo>
                  <a:pt x="7052" y="15568"/>
                  <a:pt x="7119" y="15525"/>
                  <a:pt x="7193" y="15553"/>
                </a:cubicBezTo>
                <a:cubicBezTo>
                  <a:pt x="7233" y="15568"/>
                  <a:pt x="7372" y="15641"/>
                  <a:pt x="7367" y="15701"/>
                </a:cubicBezTo>
                <a:cubicBezTo>
                  <a:pt x="7364" y="15733"/>
                  <a:pt x="7293" y="15808"/>
                  <a:pt x="7268" y="15825"/>
                </a:cubicBezTo>
                <a:cubicBezTo>
                  <a:pt x="7227" y="15854"/>
                  <a:pt x="7141" y="15864"/>
                  <a:pt x="7119" y="15900"/>
                </a:cubicBezTo>
                <a:cubicBezTo>
                  <a:pt x="7119" y="15925"/>
                  <a:pt x="7119" y="15933"/>
                  <a:pt x="7094" y="15925"/>
                </a:cubicBezTo>
                <a:cubicBezTo>
                  <a:pt x="7107" y="15963"/>
                  <a:pt x="7135" y="15951"/>
                  <a:pt x="7169" y="15974"/>
                </a:cubicBezTo>
                <a:cubicBezTo>
                  <a:pt x="7241" y="16023"/>
                  <a:pt x="7299" y="16072"/>
                  <a:pt x="7342" y="16148"/>
                </a:cubicBezTo>
                <a:cubicBezTo>
                  <a:pt x="7370" y="16198"/>
                  <a:pt x="7392" y="16279"/>
                  <a:pt x="7342" y="16321"/>
                </a:cubicBezTo>
                <a:cubicBezTo>
                  <a:pt x="7288" y="16366"/>
                  <a:pt x="7216" y="16391"/>
                  <a:pt x="7144" y="16371"/>
                </a:cubicBezTo>
                <a:cubicBezTo>
                  <a:pt x="7090" y="16356"/>
                  <a:pt x="7031" y="16307"/>
                  <a:pt x="7045" y="16247"/>
                </a:cubicBezTo>
                <a:cubicBezTo>
                  <a:pt x="7053" y="16230"/>
                  <a:pt x="7061" y="16214"/>
                  <a:pt x="7069" y="16197"/>
                </a:cubicBezTo>
              </a:path>
              <a:path w="7715" h="2903">
                <a:moveTo>
                  <a:pt x="7665" y="15925"/>
                </a:moveTo>
                <a:cubicBezTo>
                  <a:pt x="7746" y="16013"/>
                  <a:pt x="7798" y="16098"/>
                  <a:pt x="7863" y="16197"/>
                </a:cubicBezTo>
                <a:cubicBezTo>
                  <a:pt x="7927" y="16294"/>
                  <a:pt x="7985" y="16317"/>
                  <a:pt x="8086" y="16371"/>
                </a:cubicBezTo>
              </a:path>
              <a:path w="7715" h="2903">
                <a:moveTo>
                  <a:pt x="7987" y="15850"/>
                </a:moveTo>
                <a:cubicBezTo>
                  <a:pt x="7922" y="15975"/>
                  <a:pt x="7870" y="16095"/>
                  <a:pt x="7813" y="16222"/>
                </a:cubicBezTo>
                <a:cubicBezTo>
                  <a:pt x="7788" y="16277"/>
                  <a:pt x="7776" y="16338"/>
                  <a:pt x="7764" y="16396"/>
                </a:cubicBezTo>
              </a:path>
              <a:path w="7715" h="2903">
                <a:moveTo>
                  <a:pt x="8161" y="15528"/>
                </a:moveTo>
                <a:cubicBezTo>
                  <a:pt x="8237" y="15470"/>
                  <a:pt x="8267" y="15462"/>
                  <a:pt x="8359" y="15503"/>
                </a:cubicBezTo>
                <a:cubicBezTo>
                  <a:pt x="8431" y="15535"/>
                  <a:pt x="8420" y="15571"/>
                  <a:pt x="8409" y="15627"/>
                </a:cubicBezTo>
                <a:cubicBezTo>
                  <a:pt x="8397" y="15686"/>
                  <a:pt x="8340" y="15721"/>
                  <a:pt x="8334" y="15776"/>
                </a:cubicBezTo>
                <a:cubicBezTo>
                  <a:pt x="8329" y="15824"/>
                  <a:pt x="8356" y="15862"/>
                  <a:pt x="8384" y="15900"/>
                </a:cubicBezTo>
                <a:cubicBezTo>
                  <a:pt x="8412" y="15938"/>
                  <a:pt x="8535" y="15958"/>
                  <a:pt x="8582" y="15949"/>
                </a:cubicBezTo>
                <a:cubicBezTo>
                  <a:pt x="8599" y="15941"/>
                  <a:pt x="8615" y="15933"/>
                  <a:pt x="8632" y="15925"/>
                </a:cubicBezTo>
              </a:path>
              <a:path w="7715" h="2903">
                <a:moveTo>
                  <a:pt x="9004" y="15850"/>
                </a:moveTo>
                <a:cubicBezTo>
                  <a:pt x="8982" y="15997"/>
                  <a:pt x="8954" y="16125"/>
                  <a:pt x="8954" y="16272"/>
                </a:cubicBezTo>
                <a:cubicBezTo>
                  <a:pt x="8954" y="16321"/>
                  <a:pt x="8954" y="16338"/>
                  <a:pt x="8954" y="16371"/>
                </a:cubicBezTo>
              </a:path>
              <a:path w="7715" h="2903">
                <a:moveTo>
                  <a:pt x="8855" y="16222"/>
                </a:moveTo>
                <a:cubicBezTo>
                  <a:pt x="8924" y="16222"/>
                  <a:pt x="8984" y="16244"/>
                  <a:pt x="9054" y="16247"/>
                </a:cubicBezTo>
                <a:cubicBezTo>
                  <a:pt x="9129" y="16247"/>
                  <a:pt x="9170" y="16242"/>
                  <a:pt x="9227" y="16222"/>
                </a:cubicBezTo>
              </a:path>
              <a:path w="7715" h="2903">
                <a:moveTo>
                  <a:pt x="9475" y="15776"/>
                </a:moveTo>
                <a:cubicBezTo>
                  <a:pt x="9550" y="15776"/>
                  <a:pt x="9628" y="15754"/>
                  <a:pt x="9674" y="15825"/>
                </a:cubicBezTo>
                <a:cubicBezTo>
                  <a:pt x="9710" y="15881"/>
                  <a:pt x="9744" y="15917"/>
                  <a:pt x="9699" y="15974"/>
                </a:cubicBezTo>
                <a:cubicBezTo>
                  <a:pt x="9650" y="16036"/>
                  <a:pt x="9565" y="16061"/>
                  <a:pt x="9525" y="16098"/>
                </a:cubicBezTo>
                <a:cubicBezTo>
                  <a:pt x="9505" y="16139"/>
                  <a:pt x="9496" y="16145"/>
                  <a:pt x="9500" y="16173"/>
                </a:cubicBezTo>
                <a:cubicBezTo>
                  <a:pt x="9524" y="16179"/>
                  <a:pt x="9578" y="16185"/>
                  <a:pt x="9599" y="16197"/>
                </a:cubicBezTo>
                <a:cubicBezTo>
                  <a:pt x="9639" y="16219"/>
                  <a:pt x="9697" y="16256"/>
                  <a:pt x="9723" y="16297"/>
                </a:cubicBezTo>
                <a:cubicBezTo>
                  <a:pt x="9765" y="16362"/>
                  <a:pt x="9794" y="16396"/>
                  <a:pt x="9748" y="16470"/>
                </a:cubicBezTo>
                <a:cubicBezTo>
                  <a:pt x="9714" y="16525"/>
                  <a:pt x="9654" y="16520"/>
                  <a:pt x="9599" y="16520"/>
                </a:cubicBezTo>
                <a:cubicBezTo>
                  <a:pt x="9549" y="16520"/>
                  <a:pt x="9478" y="16489"/>
                  <a:pt x="9451" y="16446"/>
                </a:cubicBezTo>
                <a:cubicBezTo>
                  <a:pt x="9433" y="16417"/>
                  <a:pt x="9431" y="16383"/>
                  <a:pt x="9426" y="16346"/>
                </a:cubicBezTo>
              </a:path>
              <a:path w="7715" h="2903">
                <a:moveTo>
                  <a:pt x="9996" y="16073"/>
                </a:moveTo>
                <a:cubicBezTo>
                  <a:pt x="10049" y="16187"/>
                  <a:pt x="10090" y="16312"/>
                  <a:pt x="10145" y="16421"/>
                </a:cubicBezTo>
                <a:cubicBezTo>
                  <a:pt x="10174" y="16478"/>
                  <a:pt x="10270" y="16666"/>
                  <a:pt x="10344" y="16669"/>
                </a:cubicBezTo>
                <a:cubicBezTo>
                  <a:pt x="10369" y="16661"/>
                  <a:pt x="10393" y="16652"/>
                  <a:pt x="10418" y="16644"/>
                </a:cubicBezTo>
              </a:path>
              <a:path w="7715" h="2903">
                <a:moveTo>
                  <a:pt x="10319" y="16197"/>
                </a:moveTo>
                <a:cubicBezTo>
                  <a:pt x="10224" y="16279"/>
                  <a:pt x="10146" y="16350"/>
                  <a:pt x="10096" y="16470"/>
                </a:cubicBezTo>
                <a:cubicBezTo>
                  <a:pt x="10073" y="16526"/>
                  <a:pt x="10025" y="16609"/>
                  <a:pt x="10021" y="16669"/>
                </a:cubicBezTo>
                <a:cubicBezTo>
                  <a:pt x="10019" y="16705"/>
                  <a:pt x="10022" y="16766"/>
                  <a:pt x="10046" y="16718"/>
                </a:cubicBezTo>
              </a:path>
              <a:path w="7715" h="2903">
                <a:moveTo>
                  <a:pt x="10740" y="16247"/>
                </a:moveTo>
                <a:cubicBezTo>
                  <a:pt x="10912" y="16247"/>
                  <a:pt x="10961" y="16229"/>
                  <a:pt x="11112" y="16173"/>
                </a:cubicBezTo>
                <a:cubicBezTo>
                  <a:pt x="11137" y="16165"/>
                  <a:pt x="11162" y="16156"/>
                  <a:pt x="11187" y="16148"/>
                </a:cubicBezTo>
              </a:path>
              <a:path w="7715" h="2903">
                <a:moveTo>
                  <a:pt x="11485" y="15801"/>
                </a:moveTo>
                <a:cubicBezTo>
                  <a:pt x="11516" y="15941"/>
                  <a:pt x="11488" y="16054"/>
                  <a:pt x="11485" y="16197"/>
                </a:cubicBezTo>
                <a:cubicBezTo>
                  <a:pt x="11479" y="16461"/>
                  <a:pt x="11485" y="16727"/>
                  <a:pt x="11485" y="16991"/>
                </a:cubicBezTo>
              </a:path>
              <a:path w="7715" h="2903">
                <a:moveTo>
                  <a:pt x="5283" y="14660"/>
                </a:moveTo>
                <a:cubicBezTo>
                  <a:pt x="5179" y="14634"/>
                  <a:pt x="5134" y="14654"/>
                  <a:pt x="5035" y="14660"/>
                </a:cubicBezTo>
                <a:cubicBezTo>
                  <a:pt x="4966" y="14664"/>
                  <a:pt x="4946" y="14702"/>
                  <a:pt x="4887" y="14734"/>
                </a:cubicBezTo>
                <a:cubicBezTo>
                  <a:pt x="4837" y="14762"/>
                  <a:pt x="4778" y="14822"/>
                  <a:pt x="4762" y="14883"/>
                </a:cubicBezTo>
                <a:cubicBezTo>
                  <a:pt x="4744" y="14950"/>
                  <a:pt x="4741" y="15009"/>
                  <a:pt x="4738" y="15081"/>
                </a:cubicBezTo>
                <a:cubicBezTo>
                  <a:pt x="4733" y="15184"/>
                  <a:pt x="4760" y="15277"/>
                  <a:pt x="4762" y="15379"/>
                </a:cubicBezTo>
                <a:cubicBezTo>
                  <a:pt x="4765" y="15532"/>
                  <a:pt x="4787" y="15672"/>
                  <a:pt x="4787" y="15825"/>
                </a:cubicBezTo>
                <a:cubicBezTo>
                  <a:pt x="4787" y="15951"/>
                  <a:pt x="4762" y="16069"/>
                  <a:pt x="4762" y="16197"/>
                </a:cubicBezTo>
                <a:cubicBezTo>
                  <a:pt x="4762" y="16296"/>
                  <a:pt x="4770" y="16315"/>
                  <a:pt x="4812" y="16396"/>
                </a:cubicBezTo>
                <a:cubicBezTo>
                  <a:pt x="4829" y="16429"/>
                  <a:pt x="4843" y="16457"/>
                  <a:pt x="4887" y="16470"/>
                </a:cubicBezTo>
                <a:cubicBezTo>
                  <a:pt x="4996" y="16502"/>
                  <a:pt x="5080" y="16534"/>
                  <a:pt x="5184" y="16594"/>
                </a:cubicBezTo>
                <a:cubicBezTo>
                  <a:pt x="5330" y="16678"/>
                  <a:pt x="5442" y="16709"/>
                  <a:pt x="5606" y="16743"/>
                </a:cubicBezTo>
              </a:path>
              <a:path w="7715" h="2903">
                <a:moveTo>
                  <a:pt x="11584" y="15453"/>
                </a:moveTo>
                <a:cubicBezTo>
                  <a:pt x="11735" y="15426"/>
                  <a:pt x="11853" y="15408"/>
                  <a:pt x="12005" y="15404"/>
                </a:cubicBezTo>
                <a:cubicBezTo>
                  <a:pt x="12129" y="15401"/>
                  <a:pt x="12254" y="15404"/>
                  <a:pt x="12378" y="15404"/>
                </a:cubicBezTo>
                <a:cubicBezTo>
                  <a:pt x="12367" y="15453"/>
                  <a:pt x="12355" y="15502"/>
                  <a:pt x="12353" y="15553"/>
                </a:cubicBezTo>
                <a:cubicBezTo>
                  <a:pt x="12346" y="15711"/>
                  <a:pt x="12328" y="15865"/>
                  <a:pt x="12328" y="16024"/>
                </a:cubicBezTo>
                <a:cubicBezTo>
                  <a:pt x="12328" y="16174"/>
                  <a:pt x="12353" y="16318"/>
                  <a:pt x="12353" y="16470"/>
                </a:cubicBezTo>
                <a:cubicBezTo>
                  <a:pt x="12353" y="16621"/>
                  <a:pt x="12358" y="16792"/>
                  <a:pt x="12378" y="16942"/>
                </a:cubicBezTo>
                <a:cubicBezTo>
                  <a:pt x="12388" y="17019"/>
                  <a:pt x="12410" y="17100"/>
                  <a:pt x="12427" y="17165"/>
                </a:cubicBezTo>
                <a:cubicBezTo>
                  <a:pt x="12413" y="17132"/>
                  <a:pt x="12454" y="17090"/>
                  <a:pt x="12353" y="17090"/>
                </a:cubicBezTo>
                <a:cubicBezTo>
                  <a:pt x="12269" y="17090"/>
                  <a:pt x="12135" y="17191"/>
                  <a:pt x="12055" y="17214"/>
                </a:cubicBezTo>
                <a:cubicBezTo>
                  <a:pt x="11820" y="17283"/>
                  <a:pt x="11606" y="17386"/>
                  <a:pt x="11385" y="17487"/>
                </a:cubicBezTo>
                <a:cubicBezTo>
                  <a:pt x="11344" y="17504"/>
                  <a:pt x="11302" y="17520"/>
                  <a:pt x="11261" y="175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38200" y="3946680"/>
            <a:ext cx="4133880" cy="206280"/>
          </a:xfrm>
          <a:custGeom>
            <a:avLst/>
            <a:gdLst/>
            <a:ahLst/>
            <a:rect l="l" t="t" r="r" b="b"/>
            <a:pathLst>
              <a:path w="11485" h="571">
                <a:moveTo>
                  <a:pt x="15478" y="11212"/>
                </a:moveTo>
                <a:cubicBezTo>
                  <a:pt x="15416" y="11266"/>
                  <a:pt x="15406" y="11350"/>
                  <a:pt x="15304" y="11385"/>
                </a:cubicBezTo>
                <a:cubicBezTo>
                  <a:pt x="15230" y="11410"/>
                  <a:pt x="15113" y="11420"/>
                  <a:pt x="15032" y="11435"/>
                </a:cubicBezTo>
                <a:cubicBezTo>
                  <a:pt x="14925" y="11455"/>
                  <a:pt x="14818" y="11464"/>
                  <a:pt x="14709" y="11485"/>
                </a:cubicBezTo>
                <a:cubicBezTo>
                  <a:pt x="14583" y="11509"/>
                  <a:pt x="14467" y="11526"/>
                  <a:pt x="14337" y="11534"/>
                </a:cubicBezTo>
                <a:cubicBezTo>
                  <a:pt x="14091" y="11549"/>
                  <a:pt x="13838" y="11523"/>
                  <a:pt x="13593" y="11509"/>
                </a:cubicBezTo>
                <a:cubicBezTo>
                  <a:pt x="13229" y="11488"/>
                  <a:pt x="12870" y="11469"/>
                  <a:pt x="12502" y="11460"/>
                </a:cubicBezTo>
                <a:cubicBezTo>
                  <a:pt x="12261" y="11454"/>
                  <a:pt x="12023" y="11441"/>
                  <a:pt x="11782" y="11435"/>
                </a:cubicBezTo>
                <a:cubicBezTo>
                  <a:pt x="10845" y="11412"/>
                  <a:pt x="9911" y="11454"/>
                  <a:pt x="8979" y="11385"/>
                </a:cubicBezTo>
                <a:cubicBezTo>
                  <a:pt x="8599" y="11357"/>
                  <a:pt x="8216" y="11309"/>
                  <a:pt x="7838" y="11261"/>
                </a:cubicBezTo>
                <a:cubicBezTo>
                  <a:pt x="7165" y="11175"/>
                  <a:pt x="6502" y="11043"/>
                  <a:pt x="5829" y="10988"/>
                </a:cubicBezTo>
                <a:cubicBezTo>
                  <a:pt x="5639" y="10972"/>
                  <a:pt x="5450" y="10966"/>
                  <a:pt x="5259" y="10964"/>
                </a:cubicBezTo>
                <a:cubicBezTo>
                  <a:pt x="5066" y="10962"/>
                  <a:pt x="4878" y="10968"/>
                  <a:pt x="4688" y="10988"/>
                </a:cubicBezTo>
                <a:cubicBezTo>
                  <a:pt x="4581" y="10999"/>
                  <a:pt x="4470" y="11018"/>
                  <a:pt x="4366" y="11038"/>
                </a:cubicBezTo>
                <a:cubicBezTo>
                  <a:pt x="4294" y="11052"/>
                  <a:pt x="4232" y="11071"/>
                  <a:pt x="4167" y="11088"/>
                </a:cubicBezTo>
                <a:cubicBezTo>
                  <a:pt x="4138" y="11096"/>
                  <a:pt x="4074" y="11135"/>
                  <a:pt x="4068" y="11137"/>
                </a:cubicBezTo>
                <a:cubicBezTo>
                  <a:pt x="4041" y="11145"/>
                  <a:pt x="4018" y="11154"/>
                  <a:pt x="3994" y="111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0880" y="3990960"/>
            <a:ext cx="3627360" cy="696960"/>
          </a:xfrm>
          <a:custGeom>
            <a:avLst/>
            <a:gdLst/>
            <a:ahLst/>
            <a:rect l="l" t="t" r="r" b="b"/>
            <a:pathLst>
              <a:path w="10072" h="1935">
                <a:moveTo>
                  <a:pt x="14982" y="11435"/>
                </a:moveTo>
                <a:cubicBezTo>
                  <a:pt x="14977" y="11498"/>
                  <a:pt x="14960" y="11547"/>
                  <a:pt x="14957" y="11609"/>
                </a:cubicBezTo>
                <a:cubicBezTo>
                  <a:pt x="14946" y="11838"/>
                  <a:pt x="14966" y="12056"/>
                  <a:pt x="15007" y="12278"/>
                </a:cubicBezTo>
                <a:cubicBezTo>
                  <a:pt x="15030" y="12404"/>
                  <a:pt x="15061" y="12526"/>
                  <a:pt x="15081" y="12650"/>
                </a:cubicBezTo>
                <a:cubicBezTo>
                  <a:pt x="15089" y="12701"/>
                  <a:pt x="15150" y="12877"/>
                  <a:pt x="15131" y="12923"/>
                </a:cubicBezTo>
                <a:cubicBezTo>
                  <a:pt x="15114" y="12965"/>
                  <a:pt x="15114" y="12981"/>
                  <a:pt x="15081" y="12998"/>
                </a:cubicBezTo>
                <a:cubicBezTo>
                  <a:pt x="15028" y="13025"/>
                  <a:pt x="14974" y="12970"/>
                  <a:pt x="14932" y="12973"/>
                </a:cubicBezTo>
                <a:cubicBezTo>
                  <a:pt x="14780" y="12985"/>
                  <a:pt x="14634" y="12983"/>
                  <a:pt x="14486" y="12998"/>
                </a:cubicBezTo>
                <a:cubicBezTo>
                  <a:pt x="14418" y="13005"/>
                  <a:pt x="14364" y="13018"/>
                  <a:pt x="14288" y="13022"/>
                </a:cubicBezTo>
                <a:cubicBezTo>
                  <a:pt x="14077" y="13032"/>
                  <a:pt x="13877" y="13000"/>
                  <a:pt x="13667" y="12998"/>
                </a:cubicBezTo>
                <a:cubicBezTo>
                  <a:pt x="13490" y="12996"/>
                  <a:pt x="13320" y="12979"/>
                  <a:pt x="13146" y="12973"/>
                </a:cubicBezTo>
                <a:cubicBezTo>
                  <a:pt x="12889" y="12964"/>
                  <a:pt x="12633" y="12952"/>
                  <a:pt x="12378" y="12948"/>
                </a:cubicBezTo>
                <a:cubicBezTo>
                  <a:pt x="12235" y="12946"/>
                  <a:pt x="12097" y="12938"/>
                  <a:pt x="11956" y="12923"/>
                </a:cubicBezTo>
                <a:cubicBezTo>
                  <a:pt x="11752" y="12901"/>
                  <a:pt x="11542" y="12882"/>
                  <a:pt x="11336" y="12874"/>
                </a:cubicBezTo>
                <a:cubicBezTo>
                  <a:pt x="10988" y="12860"/>
                  <a:pt x="10642" y="12853"/>
                  <a:pt x="10294" y="12849"/>
                </a:cubicBezTo>
                <a:cubicBezTo>
                  <a:pt x="10084" y="12847"/>
                  <a:pt x="9881" y="12866"/>
                  <a:pt x="9674" y="12874"/>
                </a:cubicBezTo>
                <a:cubicBezTo>
                  <a:pt x="9366" y="12886"/>
                  <a:pt x="9061" y="12874"/>
                  <a:pt x="8756" y="12898"/>
                </a:cubicBezTo>
                <a:cubicBezTo>
                  <a:pt x="8615" y="12909"/>
                  <a:pt x="8476" y="12911"/>
                  <a:pt x="8334" y="12923"/>
                </a:cubicBezTo>
                <a:cubicBezTo>
                  <a:pt x="8136" y="12939"/>
                  <a:pt x="7941" y="12948"/>
                  <a:pt x="7739" y="12948"/>
                </a:cubicBezTo>
                <a:cubicBezTo>
                  <a:pt x="7466" y="12948"/>
                  <a:pt x="7188" y="12949"/>
                  <a:pt x="6921" y="12898"/>
                </a:cubicBezTo>
                <a:cubicBezTo>
                  <a:pt x="6787" y="12872"/>
                  <a:pt x="6658" y="12843"/>
                  <a:pt x="6524" y="12824"/>
                </a:cubicBezTo>
                <a:cubicBezTo>
                  <a:pt x="6396" y="12806"/>
                  <a:pt x="6279" y="12775"/>
                  <a:pt x="6152" y="12750"/>
                </a:cubicBezTo>
                <a:cubicBezTo>
                  <a:pt x="6042" y="12728"/>
                  <a:pt x="5939" y="12714"/>
                  <a:pt x="5829" y="12700"/>
                </a:cubicBezTo>
                <a:cubicBezTo>
                  <a:pt x="5694" y="12683"/>
                  <a:pt x="5552" y="12677"/>
                  <a:pt x="5432" y="12675"/>
                </a:cubicBezTo>
                <a:cubicBezTo>
                  <a:pt x="5347" y="12674"/>
                  <a:pt x="5200" y="12704"/>
                  <a:pt x="5135" y="12650"/>
                </a:cubicBezTo>
                <a:cubicBezTo>
                  <a:pt x="5094" y="12616"/>
                  <a:pt x="5101" y="12573"/>
                  <a:pt x="5085" y="12502"/>
                </a:cubicBezTo>
                <a:cubicBezTo>
                  <a:pt x="5046" y="12325"/>
                  <a:pt x="5104" y="12109"/>
                  <a:pt x="5110" y="11931"/>
                </a:cubicBezTo>
                <a:cubicBezTo>
                  <a:pt x="5118" y="11678"/>
                  <a:pt x="5087" y="11398"/>
                  <a:pt x="5135" y="11162"/>
                </a:cubicBezTo>
                <a:cubicBezTo>
                  <a:pt x="5140" y="11138"/>
                  <a:pt x="5154" y="11136"/>
                  <a:pt x="5159" y="11112"/>
                </a:cubicBezTo>
                <a:cubicBezTo>
                  <a:pt x="5142" y="11140"/>
                  <a:pt x="5179" y="11136"/>
                  <a:pt x="5159" y="11162"/>
                </a:cubicBezTo>
                <a:cubicBezTo>
                  <a:pt x="5131" y="11198"/>
                  <a:pt x="5085" y="11223"/>
                  <a:pt x="5060" y="112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34"/>
            </a:gs>
            <a:gs pos="100000">
              <a:srgbClr val="30391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cc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ffffcc"/>
                </a:solidFill>
                <a:latin typeface="Arial"/>
              </a:rPr>
              <a:t>Page 661</a:t>
            </a:r>
            <a:br>
              <a:rPr sz="8500"/>
            </a:br>
            <a:r>
              <a:rPr b="0" lang="en-US" sz="8500" spc="-1" strike="noStrike">
                <a:solidFill>
                  <a:srgbClr val="ffffcc"/>
                </a:solidFill>
                <a:latin typeface="Arial"/>
              </a:rPr>
              <a:t>#37, 41 &amp; 43</a:t>
            </a:r>
            <a:endParaRPr b="0" lang="en-US" sz="8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32:06Z</dcterms:created>
  <dc:creator>jnewman</dc:creator>
  <dc:description/>
  <dc:language>en-US</dc:language>
  <cp:lastModifiedBy>abeason</cp:lastModifiedBy>
  <dcterms:modified xsi:type="dcterms:W3CDTF">2009-03-30T17:18:25Z</dcterms:modified>
  <cp:revision>12</cp:revision>
  <dc:subject/>
  <dc:title>Lesson 9.5 part three</dc:title>
</cp:coreProperties>
</file>